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AB3-A074-463C-BD1F-B5A5D6AD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52D-1FFA-4F7A-97EE-E38EBFDB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BE0-E0BF-4D14-B099-61E705BC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5DC-9611-4AB0-88C2-F8C0E3F7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009-EE39-4A4D-A562-DD2385F0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3B9-A877-4C6C-AEE5-01570069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5CE-DDD6-4DF9-9C2A-20A4AF2E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60F-E7CF-4AA8-A752-89477C0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7C8-3FDE-4FD5-8759-436C505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30E-5E75-40BE-AFDA-8414EE38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709-68AA-4209-8E22-DA6F728C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64A-B8AC-4C2F-9FCB-AA57ABD0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10F1-9124-456E-9FB8-F542326F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stemas Hidráulicos y Válvulas d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5640" y="961920"/>
            <a:ext cx="70563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mensionamiento de 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676520"/>
            <a:ext cx="9144000" cy="4391280"/>
            <a:chOff x="0" y="1676520"/>
            <a:chExt cx="9144000" cy="4391280"/>
          </a:xfrm>
        </p:grpSpPr>
        <p:sp>
          <p:nvSpPr>
            <p:cNvPr id="93" name=""/>
            <p:cNvSpPr/>
            <p:nvPr/>
          </p:nvSpPr>
          <p:spPr>
            <a:xfrm flipV="1">
              <a:off x="2362320" y="4495680"/>
              <a:ext cx="0" cy="6098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361960" y="5105520"/>
              <a:ext cx="52578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620120" y="3733920"/>
              <a:ext cx="1218960" cy="1371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839080" y="2666880"/>
              <a:ext cx="0" cy="1067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7120" y="2133720"/>
              <a:ext cx="1066680" cy="68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0120" y="2666880"/>
              <a:ext cx="12189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4495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361960" y="5638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504960" y="5638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00440" y="5638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772040" y="3733920"/>
              <a:ext cx="1219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86800" y="2666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620120" y="2514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114800" y="4800600"/>
              <a:ext cx="338040" cy="414000"/>
              <a:chOff x="4114800" y="4800600"/>
              <a:chExt cx="338040" cy="414000"/>
            </a:xfrm>
          </p:grpSpPr>
          <p:sp>
            <p:nvSpPr>
              <p:cNvPr id="108" name=""/>
              <p:cNvSpPr/>
              <p:nvPr/>
            </p:nvSpPr>
            <p:spPr>
              <a:xfrm>
                <a:off x="4266360" y="4916520"/>
                <a:ext cx="35640" cy="212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4107960" y="5038560"/>
                <a:ext cx="1821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6200000">
                <a:off x="4277160" y="5038920"/>
                <a:ext cx="182520" cy="1684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41440" y="4800600"/>
                <a:ext cx="285840" cy="231840"/>
              </a:xfrm>
              <a:prstGeom prst="blockArc">
                <a:avLst>
                  <a:gd name="adj1" fmla="val 10800000"/>
                  <a:gd name="adj2" fmla="val 0"/>
                  <a:gd name="adj3" fmla="val 4965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5400000">
              <a:off x="3863520" y="5035680"/>
              <a:ext cx="18108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5920560" y="5036040"/>
              <a:ext cx="18252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780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4564800" y="5036040"/>
              <a:ext cx="18252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0532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8862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266720" y="5334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47960" y="5334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01992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333760" y="5334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4120" y="434340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410080" y="46483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440" y="357336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00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4120" y="579132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400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8920" y="579132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386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6800" y="2362320"/>
              <a:ext cx="53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3 m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4648320"/>
              <a:ext cx="140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934320" y="5029200"/>
              <a:ext cx="108000" cy="179280"/>
              <a:chOff x="6934320" y="5029200"/>
              <a:chExt cx="108000" cy="17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6987960" y="502920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42320" y="5029200"/>
                <a:ext cx="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34320" y="5029200"/>
                <a:ext cx="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286000" y="44197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44956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5029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438280" y="480024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46483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43800" y="49528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620120" y="4114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63120" y="36576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8076960" y="37339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63120" y="25909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9154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86800" y="1676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38862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53341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340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5364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0060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2720" y="53341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1520" y="5715000"/>
              <a:ext cx="99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4 mts Allo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53280" y="4343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0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8720" y="29718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8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72400" y="2057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3357720"/>
              <a:ext cx="790560" cy="215640"/>
            </a:xfrm>
            <a:custGeom>
              <a:avLst/>
              <a:gdLst>
                <a:gd name="textAreaLeft" fmla="*/ 123840 w 790560"/>
                <a:gd name="textAreaRight" fmla="*/ 666720 w 790560"/>
                <a:gd name="textAreaTop" fmla="*/ 33840 h 215640"/>
                <a:gd name="textAreaBottom" fmla="*/ 1818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58" y="21600"/>
                  </a:lnTo>
                  <a:lnTo>
                    <a:pt x="2942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34920" y="3500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55280" y="371628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1258560" y="3357360"/>
              <a:ext cx="1081080" cy="1150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1476000" y="3357720"/>
              <a:ext cx="9349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042560" y="3500280"/>
              <a:ext cx="36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11280" y="3573000"/>
              <a:ext cx="792000" cy="792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0920" y="3716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971640" y="393372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58560" y="3716280"/>
              <a:ext cx="36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6920" y="3932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4149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76000" y="3933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2560" y="4148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402920" y="4365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692360" y="414972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920" y="3284640"/>
              <a:ext cx="0" cy="144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72200" y="4343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19920" y="4145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0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657600" y="4343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4145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0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851440" y="4322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9160" y="412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8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052640"/>
            <a:ext cx="842472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s permiten actuar sobre las variables manipuladas de la planta (entrad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ierran lazos de control (Sensor-Controlador-Act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la industria entre un 80% a 90% de lazos son PID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mayoría de los actuadores corresponden a válvulas d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1557360"/>
            <a:ext cx="6551640" cy="39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Válvulas ON-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bierta o C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/Actu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Válvulas Modul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0% a 100% ap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/Actuador/Posicio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844640"/>
            <a:ext cx="543564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iginalmente regulan fl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ambién pueden cerrar lazos de nivel temperatura,  pH, concentr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356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59280" y="1773360"/>
            <a:ext cx="279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907920"/>
          <a:ext cx="312732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07920"/>
                    <a:ext cx="312732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435640" y="907920"/>
            <a:ext cx="280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3125880" cy="4103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166920" y="1725480"/>
            <a:ext cx="5942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92360" y="1197000"/>
            <a:ext cx="3671640" cy="648720"/>
            <a:chOff x="1692360" y="1197000"/>
            <a:chExt cx="3671640" cy="648720"/>
          </a:xfrm>
        </p:grpSpPr>
        <p:sp>
          <p:nvSpPr>
            <p:cNvPr id="78" name=""/>
            <p:cNvSpPr/>
            <p:nvPr/>
          </p:nvSpPr>
          <p:spPr>
            <a:xfrm>
              <a:off x="1692360" y="1197000"/>
              <a:ext cx="36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= C</a:t>
              </a:r>
              <a:r>
                <a:rPr b="0" i="1" lang="es-E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/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08000" y="1269720"/>
              <a:ext cx="1090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640" y="2021040"/>
            <a:ext cx="849816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:  Gravedad específic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:  Coeficiente de capacidad de la válv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variable pero con relación no lineal con la apertura de válv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general está tabulado para una válvula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8428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nalogía a circuito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esión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Volt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luj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Cor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omba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Fuentes de Voltaje (nolin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uberí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Resistencias (no line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érdidas de carga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Caídas de Volta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Resistencias ajus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6-19T20:09:21Z</dcterms:modified>
  <cp:revision>23</cp:revision>
  <dc:subject/>
  <dc:title>EL63A-Taller de Proyecto en Control II</dc:title>
</cp:coreProperties>
</file>