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CB8-8FE1-41C0-A649-AA6B82C2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F87-50BC-4F19-8E6C-2323EE13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C52-7C9E-4BE7-9C58-1D03A7AB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509-8AB6-4104-A65B-D70AC8C2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824-3E54-4AD3-BFFC-3078C09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78B-AAC6-4270-870C-DB56BAA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54E-7C0E-4DEC-A095-A618E6C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8C1-0273-4D81-9E74-E2DE995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8FD-4928-485A-BD96-481C854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40F-AD17-47CD-BD40-B458095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BE3-CAD9-4C76-9C3F-4817046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6A2-2A7A-42EF-AB6A-8D31A8E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648-C663-435E-82D0-3C054C00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stemas Hidráulicos y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961920"/>
            <a:ext cx="7056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mensionamiento de 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676520"/>
            <a:ext cx="9144000" cy="4391280"/>
            <a:chOff x="0" y="1676520"/>
            <a:chExt cx="9144000" cy="4391280"/>
          </a:xfrm>
        </p:grpSpPr>
        <p:sp>
          <p:nvSpPr>
            <p:cNvPr id="93" name=""/>
            <p:cNvSpPr/>
            <p:nvPr/>
          </p:nvSpPr>
          <p:spPr>
            <a:xfrm flipV="1">
              <a:off x="2362320" y="4495680"/>
              <a:ext cx="0" cy="609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361960" y="5105520"/>
              <a:ext cx="52578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620120" y="3733920"/>
              <a:ext cx="1218960" cy="1371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839080" y="2666880"/>
              <a:ext cx="0" cy="1067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2133720"/>
              <a:ext cx="106668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0120" y="2666880"/>
              <a:ext cx="12189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4495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61960" y="5638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04960" y="5638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5638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772040" y="373392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6800" y="2666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620120" y="2514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114800" y="4800600"/>
              <a:ext cx="338040" cy="414000"/>
              <a:chOff x="4114800" y="4800600"/>
              <a:chExt cx="338040" cy="414000"/>
            </a:xfrm>
          </p:grpSpPr>
          <p:sp>
            <p:nvSpPr>
              <p:cNvPr id="108" name=""/>
              <p:cNvSpPr/>
              <p:nvPr/>
            </p:nvSpPr>
            <p:spPr>
              <a:xfrm>
                <a:off x="4266360" y="4916520"/>
                <a:ext cx="35640" cy="212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4107960" y="5038560"/>
                <a:ext cx="1821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277160" y="5038920"/>
                <a:ext cx="18252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41440" y="4800600"/>
                <a:ext cx="285840" cy="231840"/>
              </a:xfrm>
              <a:prstGeom prst="blockArc">
                <a:avLst>
                  <a:gd name="adj1" fmla="val 10800000"/>
                  <a:gd name="adj2" fmla="val 0"/>
                  <a:gd name="adj3" fmla="val 4965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5400000">
              <a:off x="3863520" y="5035680"/>
              <a:ext cx="18108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592056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456480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53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8862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66720" y="5334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79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0199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3337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4120" y="434340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410080" y="46483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440" y="357336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41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4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89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86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6800" y="2362320"/>
              <a:ext cx="53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 m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4648320"/>
              <a:ext cx="140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934320" y="5029200"/>
              <a:ext cx="108000" cy="179280"/>
              <a:chOff x="6934320" y="5029200"/>
              <a:chExt cx="108000" cy="17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987960" y="502920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42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34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56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5029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438280" y="480024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46483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49528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620120" y="4114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63120" y="36576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076960" y="37339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63120" y="25909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9154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86800" y="1676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5364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06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27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1520" y="5715000"/>
              <a:ext cx="99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4 mts Allo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3280" y="4343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0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29718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8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2400" y="2057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357720"/>
              <a:ext cx="790560" cy="215640"/>
            </a:xfrm>
            <a:custGeom>
              <a:avLst/>
              <a:gdLst>
                <a:gd name="textAreaLeft" fmla="*/ 123840 w 790560"/>
                <a:gd name="textAreaRight" fmla="*/ 666720 w 790560"/>
                <a:gd name="textAreaTop" fmla="*/ 33840 h 215640"/>
                <a:gd name="textAreaBottom" fmla="*/ 1818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58" y="21600"/>
                  </a:lnTo>
                  <a:lnTo>
                    <a:pt x="294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34920" y="3500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55280" y="371628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1258560" y="3357360"/>
              <a:ext cx="1081080" cy="1150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476000" y="3357720"/>
              <a:ext cx="9349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42560" y="3500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11280" y="3573000"/>
              <a:ext cx="792000" cy="792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0920" y="3716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971640" y="3933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58560" y="3716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6920" y="3932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4149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76000" y="3933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2560" y="4148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402920" y="4365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692360" y="4149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3284640"/>
              <a:ext cx="0" cy="144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722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99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576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51440" y="4322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9160" y="412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8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52640"/>
            <a:ext cx="84247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s permiten actuar sobre las variables manipuladas de la planta (entr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ierran lazos de control (Sensor-Controlador-Act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la industria entre un 80% a 90% de lazos son PID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mayoría de los actuadores corresponden a válvulas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557360"/>
            <a:ext cx="655164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ON-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bierta o C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Modul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0% a 100% ap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/Posicio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844640"/>
            <a:ext cx="54356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iginalmente regulan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ambién pueden cerrar lazos de nivel temperatura,  pH, concentr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35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279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907920"/>
          <a:ext cx="312732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312732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35640" y="907920"/>
            <a:ext cx="280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3125880" cy="410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166920" y="1725480"/>
            <a:ext cx="5942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92360" y="1197000"/>
            <a:ext cx="3671640" cy="648720"/>
            <a:chOff x="1692360" y="1197000"/>
            <a:chExt cx="3671640" cy="648720"/>
          </a:xfrm>
        </p:grpSpPr>
        <p:sp>
          <p:nvSpPr>
            <p:cNvPr id="78" name=""/>
            <p:cNvSpPr/>
            <p:nvPr/>
          </p:nvSpPr>
          <p:spPr>
            <a:xfrm>
              <a:off x="1692360" y="1197000"/>
              <a:ext cx="36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= C</a:t>
              </a:r>
              <a:r>
                <a:rPr b="0" i="1" lang="es-E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/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8000" y="1269720"/>
              <a:ext cx="1090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2021040"/>
            <a:ext cx="849816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:  Gravedad específic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:  Coeficiente de capacidad de la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variable pero con relación no lineal con la apertura de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general está tabulado para una válvula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alogía a circuito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sió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Volt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luj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omba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Fuentes de Voltaje (nolin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uberí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(no line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érdidas de carga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aídas de Volt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ajus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9T20:09:21Z</dcterms:modified>
  <cp:revision>23</cp:revision>
  <dc:subject/>
  <dc:title>EL63A-Taller de Proyecto en Control II</dc:title>
</cp:coreProperties>
</file>