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AEC-EF82-47D1-B5DE-2689B537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F37-046E-463C-9312-D12A65F7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3EE-3B92-4586-B041-4162C7C2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BA6-3119-4E6F-B7E1-7279CE31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385-A919-4F17-9935-5DE3A08A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BE2-AB49-4DE8-BE18-D72C3708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FA7-8CD6-4F68-AAF9-2B32ECBF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4DA-C858-4B80-9D3D-36A22F8E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2E2-C3D8-4020-A7C1-2CEDA274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349-C852-46C7-8610-48C5506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94A-D708-492C-B31B-6B43B338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7C3-B212-42DB-8B5C-7C505945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0FF4-87AD-4941-AB74-5E42D498BA9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5 CuadroTexto"/>
          <p:cNvSpPr/>
          <p:nvPr/>
        </p:nvSpPr>
        <p:spPr>
          <a:xfrm>
            <a:off x="5232600" y="357120"/>
            <a:ext cx="37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Departamento de Ingeniería Eléct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78 CuadroTexto" descr=""/>
          <p:cNvPicPr/>
          <p:nvPr/>
        </p:nvPicPr>
        <p:blipFill>
          <a:blip r:embed="rId1"/>
          <a:stretch/>
        </p:blipFill>
        <p:spPr>
          <a:xfrm>
            <a:off x="2779560" y="5510160"/>
            <a:ext cx="3591000" cy="646200"/>
          </a:xfrm>
          <a:prstGeom prst="rect">
            <a:avLst/>
          </a:prstGeom>
          <a:ln w="0">
            <a:noFill/>
          </a:ln>
        </p:spPr>
      </p:pic>
      <p:pic>
        <p:nvPicPr>
          <p:cNvPr id="43" name="79 Rectángulo" descr=""/>
          <p:cNvPicPr/>
          <p:nvPr/>
        </p:nvPicPr>
        <p:blipFill>
          <a:blip r:embed="rId2"/>
          <a:stretch/>
        </p:blipFill>
        <p:spPr>
          <a:xfrm>
            <a:off x="811080" y="2193840"/>
            <a:ext cx="752796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istrador\Application Data\SSH\temp\Logo1_Transparente.gif"/>
          <p:cNvPicPr/>
          <p:nvPr/>
        </p:nvPicPr>
        <p:blipFill>
          <a:blip r:embed="rId3"/>
          <a:srcRect l="0" t="0" r="42501" b="0"/>
          <a:stretch/>
        </p:blipFill>
        <p:spPr>
          <a:xfrm>
            <a:off x="3643200" y="298440"/>
            <a:ext cx="1500480" cy="844560"/>
          </a:xfrm>
          <a:prstGeom prst="rect">
            <a:avLst/>
          </a:prstGeom>
          <a:ln w="0">
            <a:noFill/>
          </a:ln>
        </p:spPr>
      </p:pic>
      <p:pic>
        <p:nvPicPr>
          <p:cNvPr id="45" name="6 Rectángulo" descr=""/>
          <p:cNvPicPr/>
          <p:nvPr/>
        </p:nvPicPr>
        <p:blipFill>
          <a:blip r:embed="rId4"/>
          <a:stretch/>
        </p:blipFill>
        <p:spPr>
          <a:xfrm>
            <a:off x="2712960" y="4327560"/>
            <a:ext cx="3700440" cy="86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3456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4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49" name="18 CuadroTexto"/>
          <p:cNvSpPr/>
          <p:nvPr/>
        </p:nvSpPr>
        <p:spPr>
          <a:xfrm>
            <a:off x="1000080" y="133344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1: Martes 12:00 - 16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 &lt;loreyes@ing.uchile.cl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iguel Neicún &lt;miguelneicun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s: por defin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2: Miércol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Jorge Romo &lt;joromo@ctcinternet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Fabián Barría &lt;fbarriao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Roberto Álvarez &lt;robalva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 corrector: Ignacio Polanco &lt;ipolanc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3: Lun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arco Peirano &lt;marco.peirano@gmail.com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Eduardo Pereira &lt;edperei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corrector: </a:t>
            </a:r>
            <a:r>
              <a:rPr b="0" lang="es-ES_tradnl" sz="1800" spc="-1" strike="noStrike">
                <a:solidFill>
                  <a:srgbClr val="000000"/>
                </a:solidFill>
                <a:latin typeface="Cambria"/>
              </a:rPr>
              <a:t>Gustavo Soto &lt;gusot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1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6 experi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mono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tri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corriente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in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sincrónica aislada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s sincrónica conectada a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Grupos de 3 o 4 integra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est de entrada antes de cad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xperiencia se rinde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 test de entrada &gt;=4,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1 informe por cada experi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12 Objeto"/>
          <p:cNvGraphicFramePr/>
          <p:nvPr/>
        </p:nvGraphicFramePr>
        <p:xfrm>
          <a:off x="2786040" y="5857920"/>
          <a:ext cx="30002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12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857920"/>
                    <a:ext cx="3000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13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4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1000080" y="1214280"/>
            <a:ext cx="74296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e repite la experiencia con menor no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iene las mismas reglas que una experiencia reg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uede realizarse en cualquiera de los 3 horarios de labora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REEMPLAZA DIRECTAMENTE la nota de la experiencia original en caso que sea may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ólo pueden rendirla aquellos alumnos que hayan obtenido TE &lt; 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hay más de una experiencia que cumple lo anterior, el cuerpo docente decidirá que experiencia deberá ren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n mayor probabilidad el alumno rendirá la experiencia con nota más b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6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8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9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0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3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1000080" y="1214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el examen se deben rendir TODAS las experiencias en que se obtuvo  nota &lt;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no tiene notas rojas, será eximido y a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requiere más de 7,0 en el examen, quedará automáticamente re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l examen es tomado por todo el cuerpo docente del 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particular, cada alumno deberá rendir el examen con un profesor, auxiliar o ayudante de otra se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en el examen se pondera de la siguiente mane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8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9 Objeto"/>
          <p:cNvGraphicFramePr/>
          <p:nvPr/>
        </p:nvGraphicFramePr>
        <p:xfrm>
          <a:off x="1857240" y="5572080"/>
          <a:ext cx="6000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9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572080"/>
                    <a:ext cx="6000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treg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 semana después de realizada l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formato 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U-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Atrasos: 0,1 por hora y 1 por d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r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Presentación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tecedent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esarrollo Experimental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álisis de Resultado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Conclusion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lazo máximo de revisión: 10 días háb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Revisión en el mismo documento .p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94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8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05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9 CuadroTexto"/>
          <p:cNvSpPr/>
          <p:nvPr/>
        </p:nvSpPr>
        <p:spPr>
          <a:xfrm>
            <a:off x="1000080" y="1214280"/>
            <a:ext cx="7429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Primer test considera medidas de seguridad en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eer mensajes de seguridad dentro del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imitación de equipos: Variac trifásico, analizador de espec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Dejar todo ordenado una vez que se termina de traba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Cada vez que se realice una conexión y no se tenga seguridad, consulte con su ayudante o auxiliar antes de energiz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Aspectos singulares del laborator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ablero portát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IM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cargado de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Sergio Villalobos (Don  Vill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17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Lorenzo Reyes\Mis documentos\My Dropbox\Grupo de Máquinas\Asado\IMG_0793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13840" cy="55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Lorenzo Reyes\Mis documentos\My Dropbox\Grupo de Máquinas\Asado\IMG_0795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37600" cy="557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0:52:09Z</dcterms:created>
  <dc:creator>WinuE</dc:creator>
  <dc:description/>
  <dc:language>en-US</dc:language>
  <cp:lastModifiedBy>LoRoLink</cp:lastModifiedBy>
  <dcterms:modified xsi:type="dcterms:W3CDTF">2010-08-12T01:18:10Z</dcterms:modified>
  <cp:revision>1173</cp:revision>
  <dc:subject/>
  <dc:title>Diapositiva 1</dc:title>
</cp:coreProperties>
</file>