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772-4D41-4823-BCF5-B33048F2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BC8-9F0B-4733-AA41-BD126E3B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C8E-1AB2-4C93-A73B-747E2CDC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86F-3E75-44F3-9757-B3AFAE19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98A-7456-4B47-97F2-05C028EC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B14-ECF6-429B-9F0D-8AD851BF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CD9-37E6-442D-82EF-C58CBA17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B79-0F40-417A-9F4D-D5A0D9FC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6F5-C901-48F2-B982-C90A98AF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5A1-CD83-46AE-AA5A-FF0BA74F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663D-C33A-4758-AFA7-96CAA0BB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635-87A3-4A76-8D7C-9EC79F62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F35B-90F3-4B06-817D-B84B531EDE2D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75 CuadroTexto"/>
          <p:cNvSpPr/>
          <p:nvPr/>
        </p:nvSpPr>
        <p:spPr>
          <a:xfrm>
            <a:off x="5232600" y="357120"/>
            <a:ext cx="372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Facultad de Ciencias Físicas y Matemátic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mbria"/>
              </a:rPr>
              <a:t>Departamento de Ingeniería Eléct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78 CuadroTexto" descr=""/>
          <p:cNvPicPr/>
          <p:nvPr/>
        </p:nvPicPr>
        <p:blipFill>
          <a:blip r:embed="rId1"/>
          <a:stretch/>
        </p:blipFill>
        <p:spPr>
          <a:xfrm>
            <a:off x="2779560" y="5510160"/>
            <a:ext cx="3591000" cy="646200"/>
          </a:xfrm>
          <a:prstGeom prst="rect">
            <a:avLst/>
          </a:prstGeom>
          <a:ln w="0">
            <a:noFill/>
          </a:ln>
        </p:spPr>
      </p:pic>
      <p:pic>
        <p:nvPicPr>
          <p:cNvPr id="43" name="79 Rectángulo" descr=""/>
          <p:cNvPicPr/>
          <p:nvPr/>
        </p:nvPicPr>
        <p:blipFill>
          <a:blip r:embed="rId2"/>
          <a:stretch/>
        </p:blipFill>
        <p:spPr>
          <a:xfrm>
            <a:off x="811080" y="2193840"/>
            <a:ext cx="7527960" cy="157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Administrador\Application Data\SSH\temp\Logo1_Transparente.gif"/>
          <p:cNvPicPr/>
          <p:nvPr/>
        </p:nvPicPr>
        <p:blipFill>
          <a:blip r:embed="rId3"/>
          <a:srcRect l="0" t="0" r="42501" b="0"/>
          <a:stretch/>
        </p:blipFill>
        <p:spPr>
          <a:xfrm>
            <a:off x="3643200" y="298440"/>
            <a:ext cx="1500480" cy="844560"/>
          </a:xfrm>
          <a:prstGeom prst="rect">
            <a:avLst/>
          </a:prstGeom>
          <a:ln w="0">
            <a:noFill/>
          </a:ln>
        </p:spPr>
      </p:pic>
      <p:pic>
        <p:nvPicPr>
          <p:cNvPr id="45" name="6 Rectángulo" descr=""/>
          <p:cNvPicPr/>
          <p:nvPr/>
        </p:nvPicPr>
        <p:blipFill>
          <a:blip r:embed="rId4"/>
          <a:stretch/>
        </p:blipFill>
        <p:spPr>
          <a:xfrm>
            <a:off x="2712960" y="4327560"/>
            <a:ext cx="3700440" cy="860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3456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4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5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49" name="18 CuadroTexto"/>
          <p:cNvSpPr/>
          <p:nvPr/>
        </p:nvSpPr>
        <p:spPr>
          <a:xfrm>
            <a:off x="1000080" y="133344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1: Martes 12:00 - 16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Lorenzo Reyes &lt;loreyes@ing.uchile.cl&gt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Miguel Neicún &lt;miguelneicun@gmail.co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Ayudantes: por defin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2: Miércoles 14:00 - 18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Jorge Romo &lt;joromo@ctcinternet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Fabián Barría &lt;fbarriao@gmail.com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presencial: 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Roberto Álvarez &lt;robalvar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mbria"/>
              </a:rPr>
              <a:t>Ayudante corrector: Ignacio Polanco &lt;ipolanco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mbria"/>
              </a:rPr>
              <a:t>Sección 3: Lunes 14:00 - 18:00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Profesor: Lorenzo R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uxiliar: Marco Peirano &lt;marco.peirano@gmail.com&gt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presencial: Eduardo Pereira &lt;edpereir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"/>
              </a:rPr>
              <a:t>Ayudante corrector: </a:t>
            </a:r>
            <a:r>
              <a:rPr b="0" lang="es-ES_tradnl" sz="1800" spc="-1" strike="noStrike">
                <a:solidFill>
                  <a:srgbClr val="000000"/>
                </a:solidFill>
                <a:latin typeface="Cambria"/>
              </a:rPr>
              <a:t>Gustavo Soto &lt;gusoto@ing.uchile.c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21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22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23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24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25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CuadroTexto"/>
          <p:cNvSpPr/>
          <p:nvPr/>
        </p:nvSpPr>
        <p:spPr>
          <a:xfrm>
            <a:off x="1000080" y="1214280"/>
            <a:ext cx="742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6 experienc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ransformador monofás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ransformador trifás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de corriente contin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de induc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 sincrónica aislada de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Máquinas sincrónica conectada a la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Grupos de 3 o 4 integran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Test de entrada antes de cada exper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xperiencia se rinde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 test de entrada &gt;=4,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1 informe por cada experie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58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12 Objeto"/>
          <p:cNvGraphicFramePr/>
          <p:nvPr/>
        </p:nvGraphicFramePr>
        <p:xfrm>
          <a:off x="2786040" y="5857920"/>
          <a:ext cx="30002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12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5857920"/>
                    <a:ext cx="30002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13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20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21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22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23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24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3 CuadroTexto"/>
          <p:cNvSpPr/>
          <p:nvPr/>
        </p:nvSpPr>
        <p:spPr>
          <a:xfrm>
            <a:off x="1000080" y="1214280"/>
            <a:ext cx="74296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e repite la experiencia con menor no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Tiene las mismas reglas que una experiencia regu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Puede realizarse en cualquiera de los 3 horarios de laborato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La nota obtenida REEMPLAZA DIRECTAMENTE la nota de la experiencia original en caso que sea may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ólo pueden rendirla aquellos alumnos que hayan obtenido TE &lt; 4,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hay más de una experiencia que cumple lo anterior, el cuerpo docente decidirá que experiencia deberá ren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Con mayor probabilidad el alumno rendirá la experiencia con nota más baj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70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72" name="6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7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8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9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10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13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3 CuadroTexto"/>
          <p:cNvSpPr/>
          <p:nvPr/>
        </p:nvSpPr>
        <p:spPr>
          <a:xfrm>
            <a:off x="1000080" y="1214280"/>
            <a:ext cx="7429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 el examen se deben rendir TODAS las experiencias en que se obtuvo  nota &lt;4,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un alumno no tiene notas rojas, será eximido y aprob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Si un alumno requiere más de 7,0 en el examen, quedará automáticamente reprob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l examen es tomado por todo el cuerpo docente del cur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 particular, cada alumno deberá rendir el examen con un profesor, auxiliar o ayudante de otra sec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La nota obtenida en el examen se pondera de la siguiente mane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80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9 Objeto"/>
          <p:cNvGraphicFramePr/>
          <p:nvPr/>
        </p:nvGraphicFramePr>
        <p:xfrm>
          <a:off x="1857240" y="5572080"/>
          <a:ext cx="600084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9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5572080"/>
                    <a:ext cx="600084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CuadroTexto"/>
          <p:cNvSpPr/>
          <p:nvPr/>
        </p:nvSpPr>
        <p:spPr>
          <a:xfrm>
            <a:off x="1000080" y="1214280"/>
            <a:ext cx="7429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treg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 semana después de realizada la exper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formato 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U-cur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Atrasos: 0,1 por hora y 1 por dí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Correcció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Presentación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Antecedente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Desarrollo Experimental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Análisis de Resultado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Conclusiones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Plazo máximo de revisión: 10 días hábi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Revisión en el mismo documento .pd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94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8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10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2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13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14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15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05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9 CuadroTexto"/>
          <p:cNvSpPr/>
          <p:nvPr/>
        </p:nvSpPr>
        <p:spPr>
          <a:xfrm>
            <a:off x="1000080" y="1214280"/>
            <a:ext cx="7429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Primer test considera medidas de seguridad en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Leer mensajes de seguridad dentro del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Limitación de equipos: Variac trifásico, analizador de espect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Dejar todo ordenado una vez que se termina de trabaj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Cada vez que se realice una conexión y no se tenga seguridad, consulte con su ayudante o auxiliar antes de energiz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</a:rPr>
              <a:t>Aspectos singulares del laboratori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Tablero portát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Arial"/>
              </a:rPr>
              <a:t>DIM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</a:rPr>
              <a:t>Encargado de labor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174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mbria Math"/>
                <a:ea typeface="Arial"/>
              </a:rPr>
              <a:t>Sergio Villalobos (Don  Vill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17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Lorenzo Reyes\Mis documentos\My Dropbox\Grupo de Máquinas\Asado\IMG_0793.JPG"/>
          <p:cNvPicPr/>
          <p:nvPr/>
        </p:nvPicPr>
        <p:blipFill>
          <a:blip r:embed="rId3"/>
          <a:stretch/>
        </p:blipFill>
        <p:spPr>
          <a:xfrm>
            <a:off x="1000080" y="1000080"/>
            <a:ext cx="7413840" cy="556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4 CuadroTexto" descr=""/>
          <p:cNvPicPr/>
          <p:nvPr/>
        </p:nvPicPr>
        <p:blipFill>
          <a:blip r:embed="rId1"/>
          <a:stretch/>
        </p:blipFill>
        <p:spPr>
          <a:xfrm>
            <a:off x="689040" y="-23760"/>
            <a:ext cx="5456160" cy="907920"/>
          </a:xfrm>
          <a:prstGeom prst="rect">
            <a:avLst/>
          </a:prstGeom>
          <a:ln w="0">
            <a:noFill/>
          </a:ln>
        </p:spPr>
      </p:pic>
      <p:sp>
        <p:nvSpPr>
          <p:cNvPr id="129" name="5 Cheurón"/>
          <p:cNvSpPr/>
          <p:nvPr/>
        </p:nvSpPr>
        <p:spPr>
          <a:xfrm>
            <a:off x="857160" y="714240"/>
            <a:ext cx="7572600" cy="71640"/>
          </a:xfrm>
          <a:custGeom>
            <a:avLst/>
            <a:gdLst>
              <a:gd name="textAreaLeft" fmla="*/ 0 w 7572600"/>
              <a:gd name="textAreaRight" fmla="*/ 7572960 w 75726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98" y="0"/>
                </a:lnTo>
                <a:lnTo>
                  <a:pt x="21600" y="10800"/>
                </a:lnTo>
                <a:lnTo>
                  <a:pt x="21498" y="21600"/>
                </a:lnTo>
                <a:lnTo>
                  <a:pt x="0" y="21600"/>
                </a:lnTo>
                <a:lnTo>
                  <a:pt x="102" y="108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11 Rectángulo" descr=""/>
          <p:cNvPicPr/>
          <p:nvPr/>
        </p:nvPicPr>
        <p:blipFill>
          <a:blip r:embed="rId2"/>
          <a:stretch/>
        </p:blipFill>
        <p:spPr>
          <a:xfrm>
            <a:off x="4359240" y="55440"/>
            <a:ext cx="4430880" cy="676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10 Pentágono"/>
          <p:cNvSpPr/>
          <p:nvPr/>
        </p:nvSpPr>
        <p:spPr>
          <a:xfrm rot="5400000">
            <a:off x="-107280" y="53532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uerpo docen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2 Cheurón"/>
          <p:cNvSpPr/>
          <p:nvPr/>
        </p:nvSpPr>
        <p:spPr>
          <a:xfrm rot="5400000">
            <a:off x="-250200" y="1535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s regula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3 Cheurón"/>
          <p:cNvSpPr/>
          <p:nvPr/>
        </p:nvSpPr>
        <p:spPr>
          <a:xfrm rot="5400000">
            <a:off x="-321480" y="2750040"/>
            <a:ext cx="1428480" cy="35748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periencia recupera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4 Cheurón"/>
          <p:cNvSpPr/>
          <p:nvPr/>
        </p:nvSpPr>
        <p:spPr>
          <a:xfrm rot="5400000">
            <a:off x="-178920" y="3893040"/>
            <a:ext cx="1143000" cy="3574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5" y="0"/>
                </a:lnTo>
                <a:lnTo>
                  <a:pt x="21600" y="10800"/>
                </a:lnTo>
                <a:lnTo>
                  <a:pt x="18225" y="21600"/>
                </a:lnTo>
                <a:lnTo>
                  <a:pt x="0" y="21600"/>
                </a:lnTo>
                <a:lnTo>
                  <a:pt x="3375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15 Cheurón"/>
          <p:cNvSpPr/>
          <p:nvPr/>
        </p:nvSpPr>
        <p:spPr>
          <a:xfrm rot="5400000">
            <a:off x="-250200" y="4964760"/>
            <a:ext cx="1285560" cy="35748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for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6 Cheurón"/>
          <p:cNvSpPr/>
          <p:nvPr/>
        </p:nvSpPr>
        <p:spPr>
          <a:xfrm rot="5400000">
            <a:off x="-107280" y="5964840"/>
            <a:ext cx="1000080" cy="3574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lnTo>
                  <a:pt x="3857" y="108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Documents and Settings\Lorenzo Reyes\Mis documentos\My Dropbox\Grupo de Máquinas\Asado\IMG_0795.JPG"/>
          <p:cNvPicPr/>
          <p:nvPr/>
        </p:nvPicPr>
        <p:blipFill>
          <a:blip r:embed="rId3"/>
          <a:stretch/>
        </p:blipFill>
        <p:spPr>
          <a:xfrm>
            <a:off x="1000080" y="1000080"/>
            <a:ext cx="7437600" cy="557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00:52:09Z</dcterms:created>
  <dc:creator>WinuE</dc:creator>
  <dc:description/>
  <dc:language>en-US</dc:language>
  <cp:lastModifiedBy>LoRoLink</cp:lastModifiedBy>
  <dcterms:modified xsi:type="dcterms:W3CDTF">2010-08-12T01:18:10Z</dcterms:modified>
  <cp:revision>1173</cp:revision>
  <dc:subject/>
  <dc:title>Diapositiva 1</dc:title>
</cp:coreProperties>
</file>