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8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232F46-7A89-4950-ADB6-E24A7A1762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7186658-C71E-4DA9-AB05-92636B308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52EB271-FC74-4E8F-ABBD-A239DF161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DA53853-B386-4708-B27D-462AAA9D21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8C358E-C00E-4737-9B84-9F217751F7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526F167-F7D8-4CDF-80EA-C4E0C6687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E251896D-244F-4975-A403-A64B33A7F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FD96586-0111-445E-B72B-1CF05764EB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AAD518F-39CD-4FA2-931F-F2A2C2F00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F0D66391-A9EC-4F66-93D6-A05F6295D6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B1BDF55-EB6C-4C8C-923D-3BD00C3FFC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9F3C2D5-B4BC-4184-8C16-236C24E85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66D4A689-ABCB-41CC-BB2F-754E96547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2C9DE21-79BA-44C7-B78A-5A41D5B5E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15378D44-65DB-488A-94B8-28F26EBF9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8EB68F0D-D7D0-426F-953E-E9FBE9C011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783A6700-EB17-4A3C-882C-C3EC11A2CD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219600-0105-46AD-8358-976A01BE940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08874CB-B669-45E5-9D3B-9210640BEEF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698CB6D-BF77-4C8D-BE71-3B557A94E75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CC8B9D6-B796-4DD1-BBB1-65286AD06E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E98DF9DE-FA21-4273-ACA1-701BE9C23F1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3301766-C188-4830-B7DA-D2583311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A2DCF45E-7D5B-4809-9F38-5A28683C49A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450A882-074F-4FA0-B1ED-6D7D68845EE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0169E3F-BE3F-4311-9302-61B48E6CC1C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0790175-36CB-49A3-9C43-BBC2A4DAC4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7C08307-2D77-4DB8-BF55-463A9DB0D8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B1EE2048-2587-4DF0-8B3D-FA6109A39D6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263CD618-2BBA-4536-9466-72D6CAFD396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02E0C21-34BF-471E-970B-D3ED47796BDE}"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809D8C35-B9FD-48EF-A6BE-660A8ACFE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B36E3EC-702A-46D2-9D78-18ED2D4DE9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3E9B107B-22D0-4ADC-84D4-67439375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0DA2D88-8453-4478-B350-E6B2A1A60E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B308AB9-79A7-4775-8CE2-7A4E0E43F4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E807405D-2A28-4F47-920E-4561804A4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FD93A55-FEF2-4289-A13E-2BD0EDFD57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573E7D3F-078D-467D-A195-813C0590C8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E3D15D5-F23E-473F-BAB4-3AAB8C553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30D84032-4BE6-4999-878A-38D1884DA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5BBD8993-42F2-4231-B597-D4EAF8BF5B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B79A1C25-C113-45F6-9732-D3F71601212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596DA9-F821-43E3-8CF7-9A50FF9CA9E8}"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51D1B92C-B88F-4505-ABCE-199DBD525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6654343A-9B60-47A6-A9A3-44808C0661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9D5C51D0-40B3-4B9F-A1E0-C4EAF9E7B9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07792B1C-ECD2-4AEA-8471-AD4044CDF3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BAD6FF26-6646-464B-95A1-81536A73A5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1B49F690-4EF5-4F94-B0DD-097553D363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237C26F2-DD0C-47A3-8F63-2F8172443D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D068008D-8E3D-49A5-A63C-938A5B44F6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7CE9FC9-8173-4728-9DC6-AF2905D4A1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3F79514B-A3EB-4901-B243-C7D2D5A37C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8844F40-52EC-4293-A2F8-EA3F4189AF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F470FA02-CB66-47F0-BACF-EECEA1FE1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95D24C8F-B012-473A-9FDB-8E2CC0CE376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C2122E3-B5C1-4ADF-BCFB-F2E39461E84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AD4418E7-5A5E-4A46-A63B-C0DBB6AD901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47172C14-E0C0-4D51-B37F-7B89B1A3E61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7433EB77-F607-400F-90E6-494B8A66F71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CFF532DA-92FD-4A85-8837-C32B53D2119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C2FC1CCE-7754-48B7-BC95-376EDAE53D5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6D91115-63EA-49D7-B4E1-F9FBB2400E8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5B8A0D2-CD42-4218-AD01-CA889CF89B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3FEB619C-7933-4A74-A031-E499171ECD0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98A3507-F3FC-40B4-9F87-E801AB1E0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11FD7E92-6459-4917-9202-DA1EB2E1BC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77AF8E45-0AA4-4FF3-A189-E909B680545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366B1359-E9AA-4295-8A9E-94F1BB50E00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7F74D60-B695-4FEC-9460-0EC408D85EF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D47839DB-3BBA-4A13-9052-9F244D951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67E6C0D-E96A-49CC-AAE1-A6C5ACF7E9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8214597-886D-40F2-BCE6-600CF8C795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F837CD50-846D-482B-B618-D693A698E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FC4D95F4-864D-48F1-8CFD-AE60271DB3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627AC955-9A80-4DEF-BFB4-8BDDCAC28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18DD5BB-4FEE-449A-BFFE-B13183354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24CCFCA-56E9-4F13-B6CD-198CFE2C37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FA12D68-C807-450F-9998-AD2EF9F295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13D1B99-03BB-4A0B-8BDE-38AF2DCFE6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3A8A40F4-D078-48A9-959C-BDA52B206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26E70D6E-C38E-4113-B0F8-79C88CBF51D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2E998D78-D9F0-4364-B103-334C5D2D756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E7D96D-BFAB-4E1F-ADD9-104E4205E91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47CBCE7-30EB-480A-B548-7872A26E2C03}"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9930673-7294-44FC-AD0F-0918F3DB5A6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F6D55A2-7531-4A3A-8AAC-F82D767B6626}"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AAE00EB-520C-4F01-9F31-8F9276392FB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547BBD15-F0F1-45DA-A0A3-69C88592C7F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FBFA9F3-F1DC-47E2-AD91-9ADAC101C15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7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400" spc="-1" strike="noStrike">
              <a:solidFill>
                <a:srgbClr val="000000"/>
              </a:solidFill>
              <a:latin typeface="Arial"/>
            </a:endParaRPr>
          </a:p>
        </p:txBody>
      </p:sp>
      <p:sp>
        <p:nvSpPr>
          <p:cNvPr id="6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52520" indent="-452520">
              <a:lnSpc>
                <a:spcPct val="8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700" spc="-1" strike="noStrike">
              <a:solidFill>
                <a:srgbClr val="000000"/>
              </a:solidFill>
              <a:latin typeface="Arial"/>
            </a:endParaRPr>
          </a:p>
        </p:txBody>
      </p:sp>
      <p:sp>
        <p:nvSpPr>
          <p:cNvPr id="6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6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06"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15"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3" name=""/>
          <p:cNvGrpSpPr/>
          <p:nvPr/>
        </p:nvGrpSpPr>
        <p:grpSpPr>
          <a:xfrm>
            <a:off x="2149920" y="3357720"/>
            <a:ext cx="2350800" cy="1627200"/>
            <a:chOff x="2149920" y="3357720"/>
            <a:chExt cx="2350800" cy="1627200"/>
          </a:xfrm>
        </p:grpSpPr>
        <p:sp>
          <p:nvSpPr>
            <p:cNvPr id="724" name=""/>
            <p:cNvSpPr/>
            <p:nvPr/>
          </p:nvSpPr>
          <p:spPr>
            <a:xfrm>
              <a:off x="2449440" y="3409920"/>
              <a:ext cx="2051280" cy="15750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2414520" y="3357720"/>
              <a:ext cx="2051280" cy="157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2417760" y="3983040"/>
              <a:ext cx="2046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7" name=""/>
            <p:cNvSpPr/>
            <p:nvPr/>
          </p:nvSpPr>
          <p:spPr>
            <a:xfrm>
              <a:off x="214992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28" name=""/>
            <p:cNvSpPr/>
            <p:nvPr/>
          </p:nvSpPr>
          <p:spPr>
            <a:xfrm>
              <a:off x="2417760" y="3662280"/>
              <a:ext cx="2043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9" name=""/>
            <p:cNvSpPr/>
            <p:nvPr/>
          </p:nvSpPr>
          <p:spPr>
            <a:xfrm>
              <a:off x="2417760" y="4417920"/>
              <a:ext cx="20462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0" name=""/>
            <p:cNvSpPr/>
            <p:nvPr/>
          </p:nvSpPr>
          <p:spPr>
            <a:xfrm>
              <a:off x="314316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328788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433680" y="3662280"/>
              <a:ext cx="180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3578400" y="3662280"/>
              <a:ext cx="144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43756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35"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36" name=""/>
            <p:cNvSpPr/>
            <p:nvPr/>
          </p:nvSpPr>
          <p:spPr>
            <a:xfrm>
              <a:off x="289404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37"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38" name=""/>
            <p:cNvSpPr/>
            <p:nvPr/>
          </p:nvSpPr>
          <p:spPr>
            <a:xfrm>
              <a:off x="357984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39" name=""/>
            <p:cNvSpPr/>
            <p:nvPr/>
          </p:nvSpPr>
          <p:spPr>
            <a:xfrm>
              <a:off x="34657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0" name=""/>
          <p:cNvGrpSpPr/>
          <p:nvPr/>
        </p:nvGrpSpPr>
        <p:grpSpPr>
          <a:xfrm>
            <a:off x="6048000" y="2133720"/>
            <a:ext cx="2845080" cy="4441680"/>
            <a:chOff x="6048000" y="2133720"/>
            <a:chExt cx="2845080" cy="4441680"/>
          </a:xfrm>
        </p:grpSpPr>
        <p:sp>
          <p:nvSpPr>
            <p:cNvPr id="741" name=""/>
            <p:cNvSpPr/>
            <p:nvPr/>
          </p:nvSpPr>
          <p:spPr>
            <a:xfrm>
              <a:off x="6461280" y="217800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6418440" y="2133720"/>
              <a:ext cx="2431800" cy="129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04800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44" name=""/>
            <p:cNvSpPr/>
            <p:nvPr/>
          </p:nvSpPr>
          <p:spPr>
            <a:xfrm>
              <a:off x="6423120" y="264960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5" name=""/>
            <p:cNvSpPr/>
            <p:nvPr/>
          </p:nvSpPr>
          <p:spPr>
            <a:xfrm>
              <a:off x="6423120" y="239076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6" name=""/>
            <p:cNvSpPr/>
            <p:nvPr/>
          </p:nvSpPr>
          <p:spPr>
            <a:xfrm>
              <a:off x="6423120" y="3003480"/>
              <a:ext cx="243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728352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745488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626240" y="2390760"/>
              <a:ext cx="180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799400" y="239076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7280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2"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3" name=""/>
            <p:cNvSpPr/>
            <p:nvPr/>
          </p:nvSpPr>
          <p:spPr>
            <a:xfrm>
              <a:off x="703440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54"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55" name=""/>
            <p:cNvSpPr/>
            <p:nvPr/>
          </p:nvSpPr>
          <p:spPr>
            <a:xfrm>
              <a:off x="783108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56" name=""/>
            <p:cNvSpPr/>
            <p:nvPr/>
          </p:nvSpPr>
          <p:spPr>
            <a:xfrm>
              <a:off x="76694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57" name=""/>
            <p:cNvSpPr/>
            <p:nvPr/>
          </p:nvSpPr>
          <p:spPr>
            <a:xfrm>
              <a:off x="6461280" y="3726000"/>
              <a:ext cx="2431800" cy="129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418440" y="3684600"/>
              <a:ext cx="2431800" cy="129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423120" y="4202280"/>
              <a:ext cx="243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0" name=""/>
            <p:cNvSpPr/>
            <p:nvPr/>
          </p:nvSpPr>
          <p:spPr>
            <a:xfrm>
              <a:off x="6423120" y="39434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6423120" y="4557600"/>
              <a:ext cx="242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728964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6280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634160" y="3943440"/>
              <a:ext cx="180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807320" y="3943440"/>
              <a:ext cx="144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8072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67" name=""/>
            <p:cNvSpPr/>
            <p:nvPr/>
          </p:nvSpPr>
          <p:spPr>
            <a:xfrm>
              <a:off x="704700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8"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9" name=""/>
            <p:cNvSpPr/>
            <p:nvPr/>
          </p:nvSpPr>
          <p:spPr>
            <a:xfrm>
              <a:off x="780660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0" name=""/>
            <p:cNvSpPr/>
            <p:nvPr/>
          </p:nvSpPr>
          <p:spPr>
            <a:xfrm>
              <a:off x="76773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1"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2" name=""/>
            <p:cNvSpPr/>
            <p:nvPr/>
          </p:nvSpPr>
          <p:spPr>
            <a:xfrm>
              <a:off x="6461280" y="5278320"/>
              <a:ext cx="2431800" cy="129708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6418440" y="5235480"/>
              <a:ext cx="2431800" cy="1297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6423120" y="575784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5" name=""/>
            <p:cNvSpPr/>
            <p:nvPr/>
          </p:nvSpPr>
          <p:spPr>
            <a:xfrm flipH="1">
              <a:off x="6418440" y="5499000"/>
              <a:ext cx="243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a:off x="6423120" y="6113520"/>
              <a:ext cx="242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
            <p:cNvSpPr/>
            <p:nvPr/>
          </p:nvSpPr>
          <p:spPr>
            <a:xfrm>
              <a:off x="729612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746928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764064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813800" y="5499000"/>
              <a:ext cx="144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8864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2"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3" name=""/>
            <p:cNvSpPr/>
            <p:nvPr/>
          </p:nvSpPr>
          <p:spPr>
            <a:xfrm>
              <a:off x="705168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84"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85" name=""/>
            <p:cNvSpPr/>
            <p:nvPr/>
          </p:nvSpPr>
          <p:spPr>
            <a:xfrm>
              <a:off x="781812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86" name=""/>
            <p:cNvSpPr/>
            <p:nvPr/>
          </p:nvSpPr>
          <p:spPr>
            <a:xfrm>
              <a:off x="768348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87"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2"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7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79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52520" indent="-452520">
              <a:lnSpc>
                <a:spcPct val="9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900" spc="-1" strike="noStrike">
              <a:solidFill>
                <a:srgbClr val="000000"/>
              </a:solidFill>
              <a:latin typeface="Arial"/>
            </a:endParaRPr>
          </a:p>
        </p:txBody>
      </p:sp>
      <p:sp>
        <p:nvSpPr>
          <p:cNvPr id="8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8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2438280" y="2286000"/>
            <a:ext cx="6248520" cy="35622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1"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26"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2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3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39" name=""/>
          <p:cNvSpPr/>
          <p:nvPr/>
        </p:nvSpPr>
        <p:spPr>
          <a:xfrm>
            <a:off x="2664000" y="2852640"/>
            <a:ext cx="622908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Pnet = getnet(dgram.destIP);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IPnet,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oute != NOT_FOUND)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efault, table);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 != NOT_FOUND )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error(dgram, "Net Unreach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
          <p:cNvSpPr/>
          <p:nvPr/>
        </p:nvSpPr>
        <p:spPr>
          <a:xfrm>
            <a:off x="2438280" y="2286000"/>
            <a:ext cx="6248520" cy="4905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