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4.png" ContentType="image/png"/>
  <Override PartName="/ppt/media/image5.png" ContentType="image/png"/>
  <Override PartName="/ppt/media/image10.png" ContentType="image/png"/>
  <Override PartName="/ppt/media/image30.png" ContentType="image/png"/>
  <Override PartName="/ppt/media/image28.wmf" ContentType="image/x-wmf"/>
  <Override PartName="/ppt/media/image27.jpeg" ContentType="image/jpe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PlaceHolder 1"/>
          <p:cNvSpPr>
            <a:spLocks noGrp="1"/>
          </p:cNvSpPr>
          <p:nvPr>
            <p:ph type="sldImg"/>
          </p:nvPr>
        </p:nvSpPr>
        <p:spPr>
          <a:xfrm>
            <a:off x="-11798280" y="-11798280"/>
            <a:ext cx="11795040" cy="1235088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28" name="PlaceHolder 2"/>
          <p:cNvSpPr>
            <a:spLocks noGrp="1"/>
          </p:cNvSpPr>
          <p:nvPr>
            <p:ph type="body"/>
          </p:nvPr>
        </p:nvSpPr>
        <p:spPr>
          <a:xfrm>
            <a:off x="960120" y="3475080"/>
            <a:ext cx="7675560" cy="3286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4874A5-BEBD-43E6-A94C-137CA26C007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1D4ED977-539D-4087-B58C-3CF97EA17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01DBE4FD-9F34-47F7-B53F-A0EB58814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9517281F-096D-4282-9C1E-BA4090E2A21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73B269-4617-44F4-8FDA-1671CD1224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4A1306B2-937C-4196-BE66-748D336567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DB8A6629-C7E9-4C27-9A29-FE5E346ABE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BB788290-87D9-4BC8-8539-880680D3AF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9DE765FE-EA7C-4F16-8B6B-9BE0A9EBF2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FDBB59EA-2B2E-4E8D-B702-5DD2E9539E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F0C67F80-AF7C-46F7-AC50-B3ECD19C01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9296B6C3-BB1E-4C21-BC0D-807C13C10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75D9B8EB-AC78-4835-A66B-CE6EABB901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3DA2B4B2-9125-4103-AAB0-6190FBA60E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EC25DA7E-4964-4D2A-A272-2B49A20355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F45B51BF-6C41-469D-9B55-ABF014B6FC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0058070D-C55E-4DBB-A34B-9D62764061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1DA0021-1D53-444B-B7C5-149D7CECE56F}"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CDF30108-2E8C-48DB-8BCA-073C2E218C4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DEDEC9DC-3A6F-4DEB-B3E6-7DA79620CD0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6D0D7376-443F-49E0-9E78-42E0F3F80E0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19C2CB29-5B50-4E6D-9576-43A5CB8F921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3325BFEC-433F-4CD1-AFCC-6E3B00123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45EA2309-8618-466D-8A8B-9E2BB7BE6A6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59876EE6-E875-4BAC-A461-B2515CFD320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35A68481-4717-4407-B364-49DA2C084E8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19F2958F-4A92-4B08-A82A-4E8119D0D29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7B4629FD-DED6-4426-9D32-0C16AA4743F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0A844E60-359E-4876-BA20-76F2599A8C4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5C3F9EAD-934C-4B3F-A166-0142D1EA2C63}"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9843673-FE56-4229-AE86-84EE4E2F693E}"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3516EC8D-7863-4568-9C74-8DC2AAF045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32E63BBF-26D6-4667-897A-0AE3A8D09B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A8963FBE-4B0A-41A5-9BFC-9BA427A69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1288400C-80F1-4C94-A8B3-30B1F730AE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AC982277-B0EC-4EA1-BD02-4A19946EE6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404D1C26-006E-45DC-91A3-390F2D96CB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61A98975-B9BC-4FB3-9D73-3BD24BFA7F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A46687FA-C004-483A-94AB-2F776A9D23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DEC7EDAB-5D46-425B-8439-C070E3D8DF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339A49BB-9E0C-4794-B9BE-A3CE1D4179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BB809C6B-443D-488B-B9D5-4D97980E20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3B21C4D9-C14B-404C-8942-7E619837531E}"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87B5E59-162E-465E-A88F-7EA393CAF6A5}"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D53B3503-BDF4-476A-9386-B1AC2BABA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88A04711-5504-4AF8-84B7-81974803E62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8D6470D5-92D2-47C1-9DF0-8001194E403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2A49039B-B207-4409-A03F-5CE57C24984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CCD323AE-8FD4-4E45-A744-E7EC0713956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B3705EDF-5B3A-446D-97C9-58457396A35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1E2005AF-E0D0-4685-A783-86E7EDE7032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12FAAC22-9AED-45B0-90F4-258D0E63DB3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8CE83489-EE1B-4E78-8B9C-F9AD8B8DC46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5B857907-DADF-4327-97BD-8A6E3C6A38F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3AF0993F-B77E-42D7-A6B2-39B4C34F3F6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5B1EC1F1-86F1-4100-BA64-590E859049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076308AB-C6BA-4CC0-8967-8BF5C103E7F5}"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1864B9E-3D38-472B-A946-BB4C96D7FB9F}"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69FAE60D-B530-4804-83F9-C673168BE9E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33FE7341-2E94-4235-A549-03E9C6BE921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6FF48DF8-D4B1-40C5-A672-8DB83B6245C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43B026A1-D94B-4426-931A-7A47C457E11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42E87C10-F7CA-4A8C-A317-862FC228B68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CFBEB48E-4A9B-4422-B83C-04329D3B7C3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71AAF956-07FA-43C0-AC5E-29E09960B43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2880863E-8DAD-4576-95FD-0896A749B33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16E01933-B5F8-46BF-BC2D-57CE67A61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B61842D9-F13E-461A-8E3F-540CDA77FD5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24231CD2-8CFA-4455-9597-4691E1482DF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69F58224-E786-451C-8B1A-22075A2A8EC7}"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2EEA825-ABDB-4BA5-8B8B-814EB9CADFD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D3DAC8D1-4EF9-46E9-880A-7523464923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0FBF3F48-A5BA-4D2E-A907-A32F3F8F41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7205EA57-D0F9-4E42-B207-FAF8EDC041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B624C6BB-B13A-444F-9FB5-0956570255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9AB74DD8-3F6E-41DF-979F-05D1146872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4996F543-CBEB-4FEA-BDDE-D150B53966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5AC1EA1A-391D-4712-B46B-23D17CEEB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90896ECC-4F76-425F-93D9-C63857C651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FEEA4D8F-4B62-4661-B3E4-64CE7EA693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8B512962-23D8-4F25-8BAF-FC81469FA2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87A16DD6-DB99-4F8A-9EFD-56FEFA0E3F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EBA3DD28-ADEE-4E74-9C14-23E8698F5152}"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D65FB928-CF96-443C-85B0-144AA79682C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EA4DCF-990C-4C49-8C8B-70A5BC474C10}"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7148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708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1CE3A32B-0D39-41DA-8B18-01D32EB876B7}"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55B101EE-A5B1-4507-9BE9-9555BAF7365B}"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824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7200" y="6553080"/>
            <a:ext cx="7574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9B1BDB5F-CD11-4098-BD93-62C90FA986F0}"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FA7FD0EA-540F-4EE8-AC29-78132E2AEBCE}"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DD776DAB-18C5-41A6-BCDC-7D0298B1C116}"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AA1C8A19-79AA-4361-A2BC-BFD74195850C}"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rcRect l="0" t="3405" r="0" b="13350"/>
          <a:stretch/>
        </p:blipFill>
        <p:spPr>
          <a:xfrm>
            <a:off x="1835280" y="-27000"/>
            <a:ext cx="7308720" cy="4608360"/>
          </a:xfrm>
          <a:prstGeom prst="rect">
            <a:avLst/>
          </a:prstGeom>
          <a:ln w="0">
            <a:noFill/>
          </a:ln>
        </p:spPr>
      </p:pic>
      <p:grpSp>
        <p:nvGrpSpPr>
          <p:cNvPr id="330" name=""/>
          <p:cNvGrpSpPr/>
          <p:nvPr/>
        </p:nvGrpSpPr>
        <p:grpSpPr>
          <a:xfrm>
            <a:off x="1841400" y="5834160"/>
            <a:ext cx="6637320" cy="500040"/>
            <a:chOff x="1841400" y="5834160"/>
            <a:chExt cx="6637320" cy="500040"/>
          </a:xfrm>
        </p:grpSpPr>
        <p:pic>
          <p:nvPicPr>
            <p:cNvPr id="331" name="" descr=""/>
            <p:cNvPicPr/>
            <p:nvPr/>
          </p:nvPicPr>
          <p:blipFill>
            <a:blip r:embed="rId2"/>
            <a:stretch/>
          </p:blipFill>
          <p:spPr>
            <a:xfrm>
              <a:off x="1841400" y="5834160"/>
              <a:ext cx="6637320" cy="500040"/>
            </a:xfrm>
            <a:prstGeom prst="rect">
              <a:avLst/>
            </a:prstGeom>
            <a:ln w="0">
              <a:noFill/>
            </a:ln>
          </p:spPr>
        </p:pic>
        <p:sp>
          <p:nvSpPr>
            <p:cNvPr id="332"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3"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77" name="" descr=""/>
          <p:cNvPicPr/>
          <p:nvPr/>
        </p:nvPicPr>
        <p:blipFill>
          <a:blip r:embed="rId1"/>
          <a:srcRect l="0" t="0" r="29209" b="55659"/>
          <a:stretch/>
        </p:blipFill>
        <p:spPr>
          <a:xfrm>
            <a:off x="3780000" y="4941720"/>
            <a:ext cx="3816360" cy="151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800" spc="-1" strike="noStrike">
              <a:solidFill>
                <a:srgbClr val="000000"/>
              </a:solidFill>
              <a:latin typeface="Arial"/>
            </a:endParaRPr>
          </a:p>
        </p:txBody>
      </p:sp>
      <p:sp>
        <p:nvSpPr>
          <p:cNvPr id="3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9720" indent="-452520">
              <a:lnSpc>
                <a:spcPct val="80000"/>
              </a:lnSpc>
              <a:spcBef>
                <a:spcPts val="1199"/>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3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398"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19"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7"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28" name=""/>
          <p:cNvGrpSpPr/>
          <p:nvPr/>
        </p:nvGrpSpPr>
        <p:grpSpPr>
          <a:xfrm>
            <a:off x="1944720" y="5157720"/>
            <a:ext cx="7098480" cy="747720"/>
            <a:chOff x="1944720" y="5157720"/>
            <a:chExt cx="7098480" cy="747720"/>
          </a:xfrm>
        </p:grpSpPr>
        <p:sp>
          <p:nvSpPr>
            <p:cNvPr id="429" name=""/>
            <p:cNvSpPr/>
            <p:nvPr/>
          </p:nvSpPr>
          <p:spPr>
            <a:xfrm>
              <a:off x="1994040" y="5457960"/>
              <a:ext cx="7041960" cy="447480"/>
            </a:xfrm>
            <a:custGeom>
              <a:avLst/>
              <a:gdLst>
                <a:gd name="textAreaLeft" fmla="*/ 0 w 7041960"/>
                <a:gd name="textAreaRight" fmla="*/ 7042320 w 7041960"/>
                <a:gd name="textAreaTop" fmla="*/ 0 h 447480"/>
                <a:gd name="textAreaBottom" fmla="*/ 447840 h 44748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944720" y="5413320"/>
              <a:ext cx="7041960" cy="447840"/>
            </a:xfrm>
            <a:custGeom>
              <a:avLst/>
              <a:gdLst>
                <a:gd name="textAreaLeft" fmla="*/ 0 w 7041960"/>
                <a:gd name="textAreaRight" fmla="*/ 7042320 w 7041960"/>
                <a:gd name="textAreaTop" fmla="*/ 0 h 447840"/>
                <a:gd name="textAreaBottom" fmla="*/ 448200 h 44784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5964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2" name=""/>
            <p:cNvSpPr/>
            <p:nvPr/>
          </p:nvSpPr>
          <p:spPr>
            <a:xfrm>
              <a:off x="79232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3" name=""/>
            <p:cNvSpPr/>
            <p:nvPr/>
          </p:nvSpPr>
          <p:spPr>
            <a:xfrm>
              <a:off x="80586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34" name=""/>
            <p:cNvSpPr/>
            <p:nvPr/>
          </p:nvSpPr>
          <p:spPr>
            <a:xfrm>
              <a:off x="82375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5" name=""/>
            <p:cNvSpPr/>
            <p:nvPr/>
          </p:nvSpPr>
          <p:spPr>
            <a:xfrm>
              <a:off x="837864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36" name=""/>
            <p:cNvSpPr/>
            <p:nvPr/>
          </p:nvSpPr>
          <p:spPr>
            <a:xfrm>
              <a:off x="85028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7" name=""/>
            <p:cNvSpPr/>
            <p:nvPr/>
          </p:nvSpPr>
          <p:spPr>
            <a:xfrm>
              <a:off x="86446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38" name=""/>
            <p:cNvSpPr/>
            <p:nvPr/>
          </p:nvSpPr>
          <p:spPr>
            <a:xfrm>
              <a:off x="87678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9100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0" name=""/>
            <p:cNvSpPr/>
            <p:nvPr/>
          </p:nvSpPr>
          <p:spPr>
            <a:xfrm>
              <a:off x="704628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1" name=""/>
            <p:cNvSpPr/>
            <p:nvPr/>
          </p:nvSpPr>
          <p:spPr>
            <a:xfrm>
              <a:off x="56980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2" name=""/>
            <p:cNvSpPr/>
            <p:nvPr/>
          </p:nvSpPr>
          <p:spPr>
            <a:xfrm>
              <a:off x="427176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3" name=""/>
            <p:cNvSpPr/>
            <p:nvPr/>
          </p:nvSpPr>
          <p:spPr>
            <a:xfrm>
              <a:off x="295812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4" name=""/>
            <p:cNvSpPr/>
            <p:nvPr/>
          </p:nvSpPr>
          <p:spPr>
            <a:xfrm>
              <a:off x="211968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45" name=""/>
            <p:cNvSpPr/>
            <p:nvPr/>
          </p:nvSpPr>
          <p:spPr>
            <a:xfrm>
              <a:off x="504648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46" name=""/>
            <p:cNvSpPr/>
            <p:nvPr/>
          </p:nvSpPr>
          <p:spPr>
            <a:xfrm>
              <a:off x="375372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47" name=""/>
            <p:cNvSpPr/>
            <p:nvPr/>
          </p:nvSpPr>
          <p:spPr>
            <a:xfrm>
              <a:off x="24973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48" name=""/>
            <p:cNvSpPr/>
            <p:nvPr/>
          </p:nvSpPr>
          <p:spPr>
            <a:xfrm>
              <a:off x="197496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49" name=""/>
            <p:cNvSpPr/>
            <p:nvPr/>
          </p:nvSpPr>
          <p:spPr>
            <a:xfrm>
              <a:off x="770076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0" name=""/>
            <p:cNvSpPr/>
            <p:nvPr/>
          </p:nvSpPr>
          <p:spPr>
            <a:xfrm>
              <a:off x="65930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1" name=""/>
            <p:cNvSpPr/>
            <p:nvPr/>
          </p:nvSpPr>
          <p:spPr>
            <a:xfrm>
              <a:off x="65581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9849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69576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41308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66764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56"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2"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7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4"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8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16002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3"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4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4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52520" indent="-452520">
              <a:lnSpc>
                <a:spcPct val="9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52520" indent="-452520">
              <a:lnSpc>
                <a:spcPct val="9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52520" indent="-452520">
              <a:lnSpc>
                <a:spcPct val="90000"/>
              </a:lnSpc>
              <a:spcBef>
                <a:spcPts val="1800"/>
              </a:spcBef>
              <a:buSzPct val="100000"/>
              <a:buBlip>
                <a:blip r:embed="rId4"/>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52520" indent="-452520">
              <a:lnSpc>
                <a:spcPct val="10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52520" indent="-452520">
              <a:lnSpc>
                <a:spcPct val="10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0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28760" indent="-21600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28760" indent="-21600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28760" indent="-21600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28760" indent="-21600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28760" indent="-21600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28760" indent="-21600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28760" indent="-21600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18" name="" descr=""/>
          <p:cNvPicPr/>
          <p:nvPr/>
        </p:nvPicPr>
        <p:blipFill>
          <a:blip r:embed="rId2"/>
          <a:stretch/>
        </p:blipFill>
        <p:spPr>
          <a:xfrm>
            <a:off x="4427640" y="4292640"/>
            <a:ext cx="3673440" cy="1596960"/>
          </a:xfrm>
          <a:prstGeom prst="rect">
            <a:avLst/>
          </a:prstGeom>
          <a:ln w="0">
            <a:noFill/>
          </a:ln>
        </p:spPr>
      </p:pic>
      <p:sp>
        <p:nvSpPr>
          <p:cNvPr id="519"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23920" indent="-135000">
              <a:lnSpc>
                <a:spcPct val="100000"/>
              </a:lnSpc>
              <a:spcBef>
                <a:spcPts val="1800"/>
              </a:spcBef>
              <a:buSzPct val="100000"/>
              <a:buBlip>
                <a:blip r:embed="rId1"/>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23920" indent="-135000">
              <a:lnSpc>
                <a:spcPct val="100000"/>
              </a:lnSpc>
              <a:spcBef>
                <a:spcPts val="1800"/>
              </a:spcBef>
              <a:buSzPct val="100000"/>
              <a:buBlip>
                <a:blip r:embed="rId2"/>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28760" indent="-216000">
              <a:lnSpc>
                <a:spcPct val="100000"/>
              </a:lnSpc>
              <a:spcBef>
                <a:spcPts val="1800"/>
              </a:spcBef>
              <a:buSzPct val="100000"/>
              <a:buBlip>
                <a:blip r:embed="rId3"/>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5"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46"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27"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44" name="" descr=""/>
          <p:cNvPicPr/>
          <p:nvPr/>
        </p:nvPicPr>
        <p:blipFill>
          <a:blip r:embed="rId1"/>
          <a:stretch/>
        </p:blipFill>
        <p:spPr>
          <a:xfrm>
            <a:off x="1828800" y="5611680"/>
            <a:ext cx="1371600" cy="101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4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1"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52520" indent="-452520">
              <a:lnSpc>
                <a:spcPct val="100000"/>
              </a:lnSpc>
              <a:spcBef>
                <a:spcPts val="1800"/>
              </a:spcBef>
              <a:buSzPct val="156296"/>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3"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5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2"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1" name="" descr=""/>
          <p:cNvPicPr/>
          <p:nvPr/>
        </p:nvPicPr>
        <p:blipFill>
          <a:blip r:embed="rId1"/>
          <a:stretch/>
        </p:blipFill>
        <p:spPr>
          <a:xfrm>
            <a:off x="3967200" y="3573360"/>
            <a:ext cx="2908440" cy="2880000"/>
          </a:xfrm>
          <a:prstGeom prst="rect">
            <a:avLst/>
          </a:prstGeom>
          <a:ln w="0">
            <a:noFill/>
          </a:ln>
        </p:spPr>
      </p:pic>
      <p:sp>
        <p:nvSpPr>
          <p:cNvPr id="592"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3"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4"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gn="ctr">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p:txBody>
      </p:sp>
      <p:sp>
        <p:nvSpPr>
          <p:cNvPr id="5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3"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4"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55" name="" descr=""/>
          <p:cNvPicPr/>
          <p:nvPr/>
        </p:nvPicPr>
        <p:blipFill>
          <a:blip r:embed="rId1"/>
          <a:stretch/>
        </p:blipFill>
        <p:spPr>
          <a:xfrm>
            <a:off x="3635280" y="2903400"/>
            <a:ext cx="3676680" cy="1533600"/>
          </a:xfrm>
          <a:prstGeom prst="rect">
            <a:avLst/>
          </a:prstGeom>
          <a:ln w="0">
            <a:noFill/>
          </a:ln>
        </p:spPr>
      </p:pic>
      <p:pic>
        <p:nvPicPr>
          <p:cNvPr id="356"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24" name="" descr=""/>
          <p:cNvPicPr/>
          <p:nvPr/>
        </p:nvPicPr>
        <p:blipFill>
          <a:blip r:embed="rId1"/>
          <a:stretch/>
        </p:blipFill>
        <p:spPr>
          <a:xfrm>
            <a:off x="3708360" y="3716280"/>
            <a:ext cx="3311640" cy="3059280"/>
          </a:xfrm>
          <a:prstGeom prst="rect">
            <a:avLst/>
          </a:prstGeom>
          <a:ln w="0">
            <a:noFill/>
          </a:ln>
        </p:spPr>
      </p:pic>
      <p:sp>
        <p:nvSpPr>
          <p:cNvPr id="625"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br>
              <a:rPr sz="2200"/>
            </a:br>
            <a:endParaRPr b="0" lang="en-US" sz="2200" spc="-1" strike="noStrike">
              <a:solidFill>
                <a:srgbClr val="000000"/>
              </a:solidFill>
              <a:latin typeface="Arial"/>
            </a:endParaRPr>
          </a:p>
        </p:txBody>
      </p:sp>
      <p:sp>
        <p:nvSpPr>
          <p:cNvPr id="6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37" name="" descr=""/>
          <p:cNvPicPr/>
          <p:nvPr/>
        </p:nvPicPr>
        <p:blipFill>
          <a:blip r:embed="rId1"/>
          <a:stretch/>
        </p:blipFill>
        <p:spPr>
          <a:xfrm>
            <a:off x="2451240" y="1816200"/>
            <a:ext cx="6095880" cy="45720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41" name="" descr=""/>
          <p:cNvPicPr/>
          <p:nvPr/>
        </p:nvPicPr>
        <p:blipFill>
          <a:blip r:embed="rId1"/>
          <a:stretch/>
        </p:blipFill>
        <p:spPr>
          <a:xfrm>
            <a:off x="2362320" y="2286000"/>
            <a:ext cx="6095880" cy="45720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5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5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