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289675" cy="9090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7500960" y="657216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duardo Zamora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716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Bradley Hand ITC"/>
              </a:rPr>
              <a:t>Clase 19: Estado Estacionario y Flujo de Potencia</a:t>
            </a:r>
            <a:endParaRPr b="1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-57240" y="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719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3631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SIC: Entorno de Santiag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16594" r="0" b="10291"/>
          <a:stretch/>
        </p:blipFill>
        <p:spPr>
          <a:xfrm>
            <a:off x="1371600" y="1219320"/>
            <a:ext cx="6629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atriz de Admitancia [Y]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00200"/>
            <a:ext cx="80010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potencia aparente que se inyecta a la bar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j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corriente inyectada a la barra i (“entrando al sistem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voltaje en la bar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triz de admitancia Y es tal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[Y] es de n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n, donde n es el número de ba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048120" y="4952880"/>
                <a:ext cx="24382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atriz de Admitancia [Y]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esta forma se cumplirán las siguientes rel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2133720" y="2116080"/>
                <a:ext cx="472428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Text Box 5"/>
          <p:cNvSpPr/>
          <p:nvPr/>
        </p:nvSpPr>
        <p:spPr>
          <a:xfrm>
            <a:off x="1447920" y="5486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Y cómo calculamos la matriz de admitanc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atriz de Admitancia [Y]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52280" y="1371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utilizamos el model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í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C:\Documents and Settings\Propietario\Mis documentos\1-EDUARDO\Dibujos Auxiliares\barra.JPG"/>
          <p:cNvPicPr/>
          <p:nvPr/>
        </p:nvPicPr>
        <p:blipFill>
          <a:blip r:embed="rId1"/>
          <a:stretch/>
        </p:blipFill>
        <p:spPr>
          <a:xfrm>
            <a:off x="152280" y="1905120"/>
            <a:ext cx="433872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724280" y="1905120"/>
            <a:ext cx="40388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1 o más líneas conectadas a la barra i, que la conectan directamente con otra barr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n existir admitancias directamente conectadas entre la barra i, y tierra (por ejemplo, consumos pas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notemos po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) el conjunto de nodos o barras que se conectan con la bar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atriz de Admitancia [Y]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86" name="Picture 4" descr="C:\Documents and Settings\Propietario\Mis documentos\1-EDUARDO\Dibujos Auxiliares\barra.JPG"/>
          <p:cNvPicPr/>
          <p:nvPr/>
        </p:nvPicPr>
        <p:blipFill>
          <a:blip r:embed="rId1"/>
          <a:stretch/>
        </p:blipFill>
        <p:spPr>
          <a:xfrm>
            <a:off x="304920" y="1447920"/>
            <a:ext cx="282096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2057400" y="3581280"/>
                <a:ext cx="6781680" cy="28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α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α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denan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érmino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α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atriz de Admitancia [Y]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í es posible identificar cada término de la matriz de admita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914400" y="2133720"/>
                <a:ext cx="739152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lemen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gona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ue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agon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380880" y="4724280"/>
            <a:ext cx="838224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La matriz de admitancia, para los casos que estudiaremos, es simétrica.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Notar que si la barra i no está unida a la barra k, entonces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Flujo de Potenci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1523880"/>
            <a:ext cx="830592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notemos todas las variables en notación p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|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|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: potencia generada en barra i.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j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: potencia consumida en barra i.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j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: potencia neta inyectada en la barr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Flujo de Potenci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146160" y="1219320"/>
                <a:ext cx="6796080" cy="535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&lt;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&lt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tonce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 Box 4"/>
          <p:cNvSpPr/>
          <p:nvPr/>
        </p:nvSpPr>
        <p:spPr>
          <a:xfrm>
            <a:off x="7086600" y="1981080"/>
            <a:ext cx="175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as las tensiones en todas las barras es posible determinar los flujos de potencia en todo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lasificación de Barr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práctica no es posible fijar la tensión de todas las barras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rá consumos o generación que podrán modelarse como de potencia aparente constante, independiente del vol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otras barras puede requerirse cierto nivel de tensión fijo para alimentar determinada potencia a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último, se requiere de una barra de tensión y ángulo fijo, que sirva de referencia para los ángulos de las ten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í, tendremos 3 tipos de barras, con 2 variables fijas y otras 2 a despejar según el mode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lasificación de Barr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47920"/>
            <a:ext cx="8686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rra Slack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 la “barra infinita”. Su tensión y su ángulo (0°) son fijos independiente de los flujos de potencia. Es única en el sistema y se asocia a barras “grandes”. Se desconoce P y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rra P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Aquella en la que se conoce la potencia inyectada P y cuya tensión V es fija. Se puede tratar de barras cercanas a generadores que puedan controlar tensión, o a barras que por requerimiento de operación deban tener tensión fija. Se desconoce Q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rra PQ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conoce P y Q inyectados. En general se trata de barras de consumo a potencia constante. También incluye barras de “pasada” que tienen P = Q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íneas de 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riz de Admi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lujo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lasificación de Bar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étodo de Gauss - 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129528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Queremos encontrar V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todas las barras del sistema. Por cada ba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 variables (P,Q,V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I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 ecuaciones derivadas de I = Y V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Re, 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 ecuaciones derivadas de S = V I*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Re, 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 variables cono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se trata de un sistema no lineal que involucra potencias, corrientes y tensiones, se utilizan métodos iterativos para su re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uss – 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wton - Raph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71600"/>
            <a:ext cx="86868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“Receta” para Gauss – Sei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ignar las barras del sistema: PQ, PV, Slack, y obtener los valores de sus variables conoc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finir un punto de origen para el método iterativo (voltajes inici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barra es PQ, V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1&lt;0°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barra es PV, V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V&lt;0°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barra es Slack, V = V&lt;0° [p.u.] (fij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334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 corresponde a una recomendación. Salvo la barra Slack, las tensiones de barra PQ y ángulo de barra PV son arbitrarios, pero la convergencia del método requiere partir “cerca de la solució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523880"/>
            <a:ext cx="838188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olvemos en orden para cada barra la iteración correspond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as P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mos la corriente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usando los voltajes de la iteración anterior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pejamos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la iteración sigu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3124080" y="3124080"/>
                <a:ext cx="19368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3081240" y="4191120"/>
                <a:ext cx="2219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1557360" y="5638680"/>
                <a:ext cx="6030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d>
                    <m:r>
                      <m:t xml:space="preserve">&lt;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1371600"/>
            <a:ext cx="861048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as 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mos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on los datos de la iteración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mos la corr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pejamo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la siguiente iteración (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dat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286000" y="2362320"/>
                <a:ext cx="3568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/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*</m:t>
                                </m:r>
                              </m:sup>
                            </m:sSub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3048120" y="3581280"/>
                <a:ext cx="19368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1760400" y="5153040"/>
                <a:ext cx="5708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=&lt;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04920" y="1523880"/>
            <a:ext cx="8381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a S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requiere entrar al proceso de iteración, ya que sus valores de tensión y ángulo son fijos. Sin embargo, de todas formas se utiliza este valor para los cálculos en las otras ba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étodo converge relativamente rápido (orden de 10 iteraciones), aunque claramente el tiempo dependerá de la precisión que se quiera obte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523880"/>
            <a:ext cx="853452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ntes del mé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uss – Seidel con actualiz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álculo utilizo los valores más recientes de tensión, es decir, para calcular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utilizo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...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...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uss – Seidel con factores de 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i llamamos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l valor calculado con el método tradicional, definimo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ntonces,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+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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, dond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oge usualmente entre 1.5 y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étodo de Gauss - Seidel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04920" y="1523880"/>
            <a:ext cx="838188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en una barra PV asociada a un generador se obtiene Q superior a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ado por la carta de operación, esta barra debe cambiarse a PQ, con Q =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Esto se debe a que la central pierde capacidad de regular tensión al verse limitada en su entrega de re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flujo de potencia activa es desde barras de ángulos mayores hacia barras de ángulos men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7234200" cy="2835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neas de Transmis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454560" cy="236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191120" y="16002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eléctricas de la línea dependerán de la configuración de 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neas de Transmis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57200" y="1600200"/>
            <a:ext cx="7924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acterísticas eléctricas de una líne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istencia: propia del conductor uti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: debido a los flujos magnéticos provocados por las corrientes que se transpor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acitancia: efecto debido a cercanía entre conductores cargados o entre conductor y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3880" y="480060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’ [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/km] Resistencia por unidad de 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’ [H/km] Inductancia por unidad de l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’ [F/km] Capacitancia por unidad de l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neas de Transmis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523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elo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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de l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0" t="0" r="923" b="0"/>
          <a:stretch/>
        </p:blipFill>
        <p:spPr>
          <a:xfrm>
            <a:off x="304920" y="2209680"/>
            <a:ext cx="3733560" cy="1800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72000" y="2057400"/>
            <a:ext cx="3886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longitud de la línea es </a:t>
            </a:r>
            <a:r>
              <a:rPr b="0" lang="es-CL" sz="2400" spc="-1" strike="noStrike">
                <a:solidFill>
                  <a:srgbClr val="000000"/>
                </a:solidFill>
                <a:latin typeface="Mistr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 tendrá para este mode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Z = (R’ + j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’) </a:t>
            </a:r>
            <a:r>
              <a:rPr b="0" lang="es-CL" sz="2400" spc="-1" strike="noStrike">
                <a:solidFill>
                  <a:srgbClr val="000000"/>
                </a:solidFill>
                <a:latin typeface="Mistr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 = j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s-CL" sz="2400" spc="-1" strike="noStrike">
                <a:solidFill>
                  <a:srgbClr val="000000"/>
                </a:solidFill>
                <a:latin typeface="Mistr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80880" y="4495680"/>
            <a:ext cx="426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: Defin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ctancia X’ [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/km] =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sceptancia B’ [S/km]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0"/>
          <p:cNvGraphicFramePr/>
          <p:nvPr/>
        </p:nvGraphicFramePr>
        <p:xfrm>
          <a:off x="4724280" y="4343400"/>
          <a:ext cx="2514600" cy="22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4343400"/>
                    <a:ext cx="2514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:\SIC1 - TalTal.JPG"/>
          <p:cNvPicPr/>
          <p:nvPr/>
        </p:nvPicPr>
        <p:blipFill>
          <a:blip r:embed="rId1"/>
          <a:stretch/>
        </p:blipFill>
        <p:spPr>
          <a:xfrm>
            <a:off x="3429000" y="2971800"/>
            <a:ext cx="5257800" cy="298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El Sistema Eléct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1752480"/>
            <a:ext cx="46483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 conocemos los elementos principales de un sistema eléc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entrales Gener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íneas de 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nodos de la red los denominamos “Barr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El Sistema Eléctrico Chilen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752480"/>
            <a:ext cx="704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bsist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 Interconectado del Norte Grande (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 Interconectado Central (S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queños Sistemas Aislados (Aisén y Magall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SING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546" t="0" r="2338" b="0"/>
          <a:stretch/>
        </p:blipFill>
        <p:spPr>
          <a:xfrm>
            <a:off x="214200" y="1285920"/>
            <a:ext cx="8715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SIC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23230" r="0" b="12260"/>
          <a:stretch/>
        </p:blipFill>
        <p:spPr>
          <a:xfrm>
            <a:off x="0" y="1600200"/>
            <a:ext cx="9144000" cy="200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7983" r="0" b="12144"/>
          <a:stretch/>
        </p:blipFill>
        <p:spPr>
          <a:xfrm>
            <a:off x="0" y="3962520"/>
            <a:ext cx="9144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duardo zamora</cp:lastModifiedBy>
  <dcterms:modified xsi:type="dcterms:W3CDTF">2010-11-30T02:24:04Z</dcterms:modified>
  <cp:revision>46</cp:revision>
  <dc:subject/>
  <dc:title>Generador Sincrónico</dc:title>
</cp:coreProperties>
</file>