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3.png" ContentType="image/png"/>
  <Override PartName="/ppt/media/image25.jpeg" ContentType="image/jpeg"/>
  <Override PartName="/ppt/media/image22.jpeg" ContentType="image/jpeg"/>
  <Override PartName="/ppt/media/image14.png" ContentType="image/png"/>
  <Override PartName="/ppt/media/image21.wmf" ContentType="image/x-wmf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Haettenschweil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CF0A-382E-48CD-ABCC-7053F5D15F68}" type="slidenum">
              <a:rPr b="0" lang="es-ES" sz="1200" spc="-1" strike="noStrike">
                <a:solidFill>
                  <a:srgbClr val="000000"/>
                </a:solidFill>
                <a:latin typeface="Haettenschweil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25E5-E5FF-43DF-B37B-3709A6A86379}" type="slidenum">
              <a:rPr b="0" lang="es-ES" sz="1200" spc="-1" strike="noStrike">
                <a:solidFill>
                  <a:srgbClr val="000000"/>
                </a:solidFill>
                <a:latin typeface="Haettenschweil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43368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0" y="65833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Arial"/>
              </a:rPr>
              <a:t>EL4001 - Conversión de la Energía y Sistemas Eléct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00"/>
                </a:solidFill>
                <a:latin typeface="Bradley Hand ITC"/>
              </a:rPr>
              <a:t>Máquinas Sincrónicas</a:t>
            </a:r>
            <a:endParaRPr b="1" lang="en-US" sz="60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49" name="Gen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4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generad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1371600"/>
          <a:ext cx="388620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388620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4191120" y="1905120"/>
                <a:ext cx="426708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  <m:r>
                              <m:t xml:space="preserve">&lt;</m:t>
                            </m:r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1409760" y="3975120"/>
                <a:ext cx="608976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*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6"/>
          <p:cNvSpPr/>
          <p:nvPr/>
        </p:nvSpPr>
        <p:spPr>
          <a:xfrm>
            <a:off x="457200" y="57150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¡Recordar que estamos usando el modelo en p.u., con tensiones entre fases y potencia trifásica! Luego, la corriente calculada es corriente de línea (multiplicando por la corriente base) y la potencia aparente es trifásica (multiplicando por la base respectiv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generad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3348000" y="1628640"/>
          <a:ext cx="236232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28640"/>
                    <a:ext cx="23623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"/>
          <p:cNvGraphicFramePr/>
          <p:nvPr/>
        </p:nvGraphicFramePr>
        <p:xfrm>
          <a:off x="250920" y="1413000"/>
          <a:ext cx="2895480" cy="21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413000"/>
                    <a:ext cx="289548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6019920" y="1600200"/>
          <a:ext cx="2666880" cy="18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1600200"/>
                    <a:ext cx="266688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6"/>
          <p:cNvSpPr/>
          <p:nvPr/>
        </p:nvSpPr>
        <p:spPr>
          <a:xfrm>
            <a:off x="3808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enerador “Sobre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l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nerador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1814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enerador “Sub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g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nerador capa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mot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52280" y="1447920"/>
          <a:ext cx="3657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3657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4078440" y="1905120"/>
                <a:ext cx="44942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&lt;</m:t>
                            </m:r>
                            <m:r>
                              <m:t xml:space="preserve">δ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1371600" y="4114800"/>
                <a:ext cx="624996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*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mot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808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tor “Sobre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g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tor capa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1814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tor “Sub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l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tor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3429000" y="1523880"/>
          <a:ext cx="228600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523880"/>
                    <a:ext cx="228600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9"/>
          <p:cNvGraphicFramePr/>
          <p:nvPr/>
        </p:nvGraphicFramePr>
        <p:xfrm>
          <a:off x="457200" y="1295280"/>
          <a:ext cx="289548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95280"/>
                    <a:ext cx="289548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"/>
          <p:cNvGraphicFramePr/>
          <p:nvPr/>
        </p:nvGraphicFramePr>
        <p:xfrm>
          <a:off x="6095880" y="1600200"/>
          <a:ext cx="2743200" cy="18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1600200"/>
                    <a:ext cx="274320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Operación en 4 cuadra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08" name="Cuadrantes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553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447920"/>
            <a:ext cx="82296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1) Máxima corriente de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V I &lt; V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 &lt;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, la máxima potencia a extraer en régimen permanente será la nominal, limitando el calentamiento del est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&lt;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S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1 [p.u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523880"/>
            <a:ext cx="83818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2) Máxima corriente de ca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o “E” es creciente con la corriente de cam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 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 &lt;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 el calentamiento del r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152280" y="3809880"/>
                <a:ext cx="8685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09680" y="5029200"/>
                <a:ext cx="4492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47920"/>
            <a:ext cx="84582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3) Límite de es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generador puede entregar potencia máxima e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90°. Sin embargo, si existe alguna perturbación tal que la potencia mecánica no pueda entregarse toda a la red, la máquina se acelera y puede perder sincronismo. Se utiliza un margen de seguridad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5" descr=""/>
          <p:cNvPicPr/>
          <p:nvPr/>
        </p:nvPicPr>
        <p:blipFill>
          <a:blip r:embed="rId1"/>
          <a:stretch/>
        </p:blipFill>
        <p:spPr>
          <a:xfrm>
            <a:off x="127080" y="3657600"/>
            <a:ext cx="8797680" cy="121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2959200" y="5029200"/>
                <a:ext cx="35701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7652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4) Límite de excitación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ínima tensión indu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 de flujo magnético rema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2225520" y="3809880"/>
                <a:ext cx="445932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815328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5) Potencia activa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ción de potencia activa en el eje del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 &lt;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6) Potencia activa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ínima potencia para mover la máquina sin probl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blemas de cavitación: vibraciones en la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do como “Mínimo técn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&lt;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Tema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213372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pos de máquinas sincró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elo de la máquina sincrónica (conectada a la 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blema 2: Auxiliar 9 (25/06/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Carta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25" name="Carta%20de%20operación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154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roblema 2: Auxiliar 9 (25/06/2010)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20574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tiene un generador sincrónico de rotor cilíndrico de 13.8 kV y 240 MVA conectado directamente a una barra infinita. El generador puede entregar una potencia máxima de 216 MW. La reactancia sincrónica es de 1.25 p.u. y el límite de seguridad por estabilidad para el ángulo entre la f.e.m. y la tensión en bornes es de 70°. El valor máximo de la f.e.m. es 2.0837 p.u. Este generador está operando a tensión nominal y entregando 168 MW a la red con factor de potencia 0.9 en 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la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uponga además que la potencia mínima entregada es cero. Trabajando en p.u. base de la máquina sincrón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roblema 2: Auxiliar 9 (25/06/2010)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04920" y="1371600"/>
            <a:ext cx="8610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e la carta de operación e indique el punto de operación del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e 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el punto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e en qué porcentaje se puede reducir la corriente de campo sin salir de la zona de operación seg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cambios en la demanda, el generador ahora debe entregar una potencia de 216 MW, con un factor de potencia 0.9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58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 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Calcule 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ga que para el cambio anterior primero se incrementa la corriente de campo y posteriormente se eleva la potencia de entrada a la turbina. Dibuje la trayectoria del punto de operación en la ca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calentamiento del estato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31" name="Picture 3" descr="C:\Documents and Settings\Propietario\Mis documentos\1-EDUARDO\Dibujos Auxiliares\Carta1.JPG"/>
          <p:cNvPicPr/>
          <p:nvPr/>
        </p:nvPicPr>
        <p:blipFill>
          <a:blip r:embed="rId1"/>
          <a:stretch/>
        </p:blipFill>
        <p:spPr>
          <a:xfrm>
            <a:off x="609480" y="2286000"/>
            <a:ext cx="787716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762120" y="13716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xima corriente de estat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a potencia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en general, S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calentamiento del roto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371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xima corriente de rot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a tensión inducida (E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C:\Documents and Settings\Propietario\Mis documentos\1-EDUARDO\Dibujos Auxiliares\Carta2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estabilidad angula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bilidad ante perturbacione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C:\Documents and Settings\Propietario\Mis documentos\1-EDUARDO\Dibujos Auxiliares\Carta3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potencia activa máxima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ción de entrada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:\Documents and Settings\Propietario\Mis documentos\1-EDUARDO\Dibujos Auxiliares\Carta4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unto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punto de operación:  P = 0.7; Q = -0.3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C:\Documents and Settings\Propietario\Mis documentos\1-EDUARDO\Dibujos Auxiliares\Carta5.JPG"/>
          <p:cNvPicPr/>
          <p:nvPr/>
        </p:nvPicPr>
        <p:blipFill>
          <a:blip r:embed="rId1"/>
          <a:stretch/>
        </p:blipFill>
        <p:spPr>
          <a:xfrm>
            <a:off x="533520" y="2286000"/>
            <a:ext cx="7886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Nuevo punto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62120" y="1371600"/>
            <a:ext cx="77724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nuevo punto de operación:  P = 0.9; Q = 0.3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cremento de la corriente de campo y potencia activa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C:\Documents and Settings\Propietario\Mis documentos\1-EDUARDO\Dibujos Auxiliares\Carta6.JPG"/>
          <p:cNvPicPr/>
          <p:nvPr/>
        </p:nvPicPr>
        <p:blipFill>
          <a:blip r:embed="rId1"/>
          <a:stretch/>
        </p:blipFill>
        <p:spPr>
          <a:xfrm>
            <a:off x="533520" y="2286000"/>
            <a:ext cx="7877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1752480"/>
            <a:ext cx="3962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Rotor con corriente continua: induce campo magnético rotatorio de magnitud proporcional a la corriente de ca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Se induce tensión en los enrollados de estator: flujo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464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aracterística de t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173480" cy="3532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3623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nsión inducida en bornes es función de la velocidad y amplitud del campo magnético rota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39625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urva satura a medida que se satura el núcleo. En zona line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</a:rPr>
              <a:t>f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= G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30592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recuencia de las corrientes y tensiones siempre corresponde a la sincrón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ele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e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* (n°polos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la máquina sincrónica está conectada a la red (barra infinita), su velocidad queda fija según la frecuencia de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áquina sincrónica solo presenta torque no nulo a velocidad síncr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fectos del modelo, despreciamos la resistencia de estator y usamos solo la reactancia sincr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polos salie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00400" y="1981080"/>
            <a:ext cx="5715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ísicamente los polos (N-S) sobresa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uctancia mutua rotor – estator no es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complejidad al modelar inducta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57200" y="4572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se usan máquinas de polos salientes con varios polos (por ejemplo 36), en generadores hidráulicos. Operan a baja velocidad y poseen rotores de gran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Gen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polos salie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67" name="Gen4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572000" cy="3562560"/>
          </a:xfrm>
          <a:prstGeom prst="rect">
            <a:avLst/>
          </a:prstGeom>
          <a:ln w="0">
            <a:noFill/>
          </a:ln>
        </p:spPr>
      </p:pic>
      <p:pic>
        <p:nvPicPr>
          <p:cNvPr id="68" name="Gen3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713040" cy="4648320"/>
          </a:xfrm>
          <a:prstGeom prst="rect">
            <a:avLst/>
          </a:prstGeom>
          <a:ln w="0">
            <a:noFill/>
          </a:ln>
        </p:spPr>
      </p:pic>
      <p:pic>
        <p:nvPicPr>
          <p:cNvPr id="69" name="Gen5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41148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rotor cilíndr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124080" y="1447920"/>
            <a:ext cx="5715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otor l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uctancia mutua rotor – estator es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metría del rotor facilita la modelación de la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udiaremos modelo de la máquina de rotor cilínd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57200" y="48006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se usan máquinas de rotor cilíndrico, con pocos polos (2, 4 o 6), en generadores térmicos operando a alta velocidad. A esta velocidad las pérdidas por roce se reducen en un rotor liso. Poseen rotores alargados y de poco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Gen6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819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rotor cilíndr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75" name="Gen9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2779560"/>
          </a:xfrm>
          <a:prstGeom prst="rect">
            <a:avLst/>
          </a:prstGeom>
          <a:ln w="0">
            <a:noFill/>
          </a:ln>
        </p:spPr>
      </p:pic>
      <p:pic>
        <p:nvPicPr>
          <p:cNvPr id="76" name="Gen7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5334120" cy="3510000"/>
          </a:xfrm>
          <a:prstGeom prst="rect">
            <a:avLst/>
          </a:prstGeom>
          <a:ln w="0">
            <a:noFill/>
          </a:ln>
        </p:spPr>
      </p:pic>
      <p:pic>
        <p:nvPicPr>
          <p:cNvPr id="77" name="Gen8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4305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9:13:18Z</dcterms:created>
  <dc:creator>eduardo zamora</dc:creator>
  <dc:description/>
  <dc:language>en-US</dc:language>
  <cp:lastModifiedBy>eduardo zamora</cp:lastModifiedBy>
  <dcterms:modified xsi:type="dcterms:W3CDTF">2010-07-21T00:52:59Z</dcterms:modified>
  <cp:revision>32</cp:revision>
  <dc:subject/>
  <dc:title>Generador Sincrónico</dc:title>
</cp:coreProperties>
</file>