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wmf" ContentType="image/x-wmf"/>
  <Override PartName="/ppt/media/image3.png" ContentType="image/png"/>
  <Override PartName="/ppt/media/image25.jpeg" ContentType="image/jpeg"/>
  <Override PartName="/ppt/media/image22.jpeg" ContentType="image/jpeg"/>
  <Override PartName="/ppt/media/image14.png" ContentType="image/png"/>
  <Override PartName="/ppt/media/image21.wmf" ContentType="image/x-wmf"/>
  <Override PartName="/ppt/media/image20.jpeg" ContentType="image/jpe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radley Hand ITC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Haettenschweiler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FFC22-D565-4AE8-81BB-C9A32F27C3F6}" type="slidenum">
              <a:rPr b="0" lang="es-ES" sz="1200" spc="-1" strike="noStrike">
                <a:solidFill>
                  <a:srgbClr val="000000"/>
                </a:solidFill>
                <a:latin typeface="Haettenschweiler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97069-EF08-4F3A-AD3E-258F0FFF8349}" type="slidenum">
              <a:rPr b="0" lang="es-ES" sz="1200" spc="-1" strike="noStrike">
                <a:solidFill>
                  <a:srgbClr val="000000"/>
                </a:solidFill>
                <a:latin typeface="Haettenschweiler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38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radley Hand ITC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Bradley Han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Bradley Han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Bradley Han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" name="Rectangle 8"/>
          <p:cNvSpPr/>
          <p:nvPr/>
        </p:nvSpPr>
        <p:spPr>
          <a:xfrm>
            <a:off x="343368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11"/>
          <p:cNvSpPr/>
          <p:nvPr/>
        </p:nvSpPr>
        <p:spPr>
          <a:xfrm>
            <a:off x="0" y="6583320"/>
            <a:ext cx="449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66ff"/>
                </a:solidFill>
                <a:latin typeface="Arial"/>
              </a:rPr>
              <a:t>EL4001 - Conversión de la Energía y Sistemas Eléctric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480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6000" spc="-1" strike="noStrike">
                <a:solidFill>
                  <a:srgbClr val="000000"/>
                </a:solidFill>
                <a:latin typeface="Bradley Hand ITC"/>
              </a:rPr>
              <a:t>Máquinas Sincrónicas</a:t>
            </a:r>
            <a:endParaRPr b="1" lang="en-US" sz="6000" spc="-1" strike="noStrike">
              <a:solidFill>
                <a:srgbClr val="ffffff"/>
              </a:solidFill>
              <a:latin typeface="Bradley Hand ITC"/>
            </a:endParaRPr>
          </a:p>
        </p:txBody>
      </p:sp>
      <p:pic>
        <p:nvPicPr>
          <p:cNvPr id="49" name="Gen1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674388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Modelo del generador sincrónico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graphicFrame>
        <p:nvGraphicFramePr>
          <p:cNvPr id="79" name="Object 3"/>
          <p:cNvGraphicFramePr/>
          <p:nvPr/>
        </p:nvGraphicFramePr>
        <p:xfrm>
          <a:off x="0" y="1371600"/>
          <a:ext cx="3886200" cy="271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1600"/>
                    <a:ext cx="3886200" cy="27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1" name="Object 4"/>
              <p:cNvSpPr txBox="1"/>
              <p:nvPr/>
            </p:nvSpPr>
            <p:spPr>
              <a:xfrm>
                <a:off x="4191120" y="1905120"/>
                <a:ext cx="4267080" cy="19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t xml:space="preserve">&lt;</m:t>
                        </m:r>
                        <m:r>
                          <m:t xml:space="preserve">ϕ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E</m:t>
                            </m:r>
                            <m:r>
                              <m:t xml:space="preserve">&lt;</m:t>
                            </m:r>
                            <m:r>
                              <m:t xml:space="preserve">δ</m:t>
                            </m:r>
                            <m:r>
                              <m:t xml:space="preserve">−</m:t>
                            </m:r>
                            <m:r>
                              <m:t xml:space="preserve">V</m:t>
                            </m:r>
                            <m:r>
                              <m:t xml:space="preserve">&lt;</m:t>
                            </m:r>
                            <m:r>
                              <m:t xml:space="preserve">0</m:t>
                            </m:r>
                            <m:r>
                              <m:t xml:space="preserve">°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jX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I</m:t>
                        </m:r>
                        <m:r>
                          <m:t xml:space="preserve">&lt;</m:t>
                        </m:r>
                        <m:r>
                          <m:t xml:space="preserve">ϕ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Esi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δ</m:t>
                                </m:r>
                              </m:e>
                            </m:d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r>
                          <m:t xml:space="preserve">j</m:t>
                        </m:r>
                        <m:f>
                          <m:num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δ</m:t>
                                </m:r>
                              </m:e>
                            </m:d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Object 5"/>
              <p:cNvSpPr txBox="1"/>
              <p:nvPr/>
            </p:nvSpPr>
            <p:spPr>
              <a:xfrm>
                <a:off x="1409760" y="3975120"/>
                <a:ext cx="6089760" cy="17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e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I*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e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V</m:t>
                            </m:r>
                            <m:r>
                              <m:t xml:space="preserve">⋅</m:t>
                            </m:r>
                            <m:r>
                              <m:t xml:space="preserve">E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δ</m:t>
                                </m:r>
                              </m:e>
                            </m:d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r>
                          <m:t xml:space="preserve">j</m:t>
                        </m:r>
                        <m:f>
                          <m:num>
                            <m:r>
                              <m:t xml:space="preserve">V</m:t>
                            </m:r>
                            <m:r>
                              <m:t xml:space="preserve">⋅</m:t>
                            </m:r>
                            <m:r>
                              <m:t xml:space="preserve">E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δ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3" name="Text Box 6"/>
          <p:cNvSpPr/>
          <p:nvPr/>
        </p:nvSpPr>
        <p:spPr>
          <a:xfrm>
            <a:off x="457200" y="571500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¡Recordar que estamos usando el modelo en p.u., con tensiones entre fases y potencia trifásica! Luego, la corriente calculada es corriente de línea (multiplicando por la corriente base) y la potencia aparente es trifásica (multiplicando por la base respectiva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Modelo del generador sincrónico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graphicFrame>
        <p:nvGraphicFramePr>
          <p:cNvPr id="85" name="Object 3"/>
          <p:cNvGraphicFramePr/>
          <p:nvPr/>
        </p:nvGraphicFramePr>
        <p:xfrm>
          <a:off x="3348000" y="1628640"/>
          <a:ext cx="2362320" cy="164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1628640"/>
                    <a:ext cx="236232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Object 4"/>
          <p:cNvGraphicFramePr/>
          <p:nvPr/>
        </p:nvGraphicFramePr>
        <p:xfrm>
          <a:off x="250920" y="1413000"/>
          <a:ext cx="2895480" cy="2157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1413000"/>
                    <a:ext cx="2895480" cy="21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Object 5"/>
          <p:cNvGraphicFramePr/>
          <p:nvPr/>
        </p:nvGraphicFramePr>
        <p:xfrm>
          <a:off x="6019920" y="1600200"/>
          <a:ext cx="2666880" cy="1822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0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19920" y="1600200"/>
                    <a:ext cx="2666880" cy="18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Text Box 6"/>
          <p:cNvSpPr/>
          <p:nvPr/>
        </p:nvSpPr>
        <p:spPr>
          <a:xfrm>
            <a:off x="380880" y="3505320"/>
            <a:ext cx="3733920" cy="28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Generador “Sobre-excitado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&lt; 0,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&gt;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 en atra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Generador induc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actor de potencia en atra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</a:rPr>
              <a:t>ge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&gt;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5181480" y="3505320"/>
            <a:ext cx="3733920" cy="28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Generador “Sub-excitado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&gt; 0,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&gt;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 en adela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Generador capaci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actor de potencia en adela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</a:rPr>
              <a:t>ge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&lt;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Modelo del motor sincrónico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graphicFrame>
        <p:nvGraphicFramePr>
          <p:cNvPr id="94" name="Object 3"/>
          <p:cNvGraphicFramePr/>
          <p:nvPr/>
        </p:nvGraphicFramePr>
        <p:xfrm>
          <a:off x="152280" y="1447920"/>
          <a:ext cx="3657600" cy="25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447920"/>
                    <a:ext cx="365760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6" name="Object 4"/>
              <p:cNvSpPr txBox="1"/>
              <p:nvPr/>
            </p:nvSpPr>
            <p:spPr>
              <a:xfrm>
                <a:off x="4078440" y="1905120"/>
                <a:ext cx="4494240" cy="19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t xml:space="preserve">&lt;</m:t>
                        </m:r>
                        <m:r>
                          <m:t xml:space="preserve">ϕ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V</m:t>
                            </m:r>
                            <m:r>
                              <m:t xml:space="preserve">&lt;</m:t>
                            </m:r>
                            <m:r>
                              <m:t xml:space="preserve">0</m:t>
                            </m:r>
                            <m:r>
                              <m:t xml:space="preserve">°</m:t>
                            </m:r>
                            <m:r>
                              <m:t xml:space="preserve">−</m:t>
                            </m:r>
                            <m:r>
                              <m:t xml:space="preserve">E</m:t>
                            </m:r>
                            <m:r>
                              <m:t xml:space="preserve">&lt;</m:t>
                            </m:r>
                            <m:r>
                              <m:t xml:space="preserve">δ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jX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I</m:t>
                        </m:r>
                        <m:r>
                          <m:t xml:space="preserve">&lt;</m:t>
                        </m:r>
                        <m:r>
                          <m:t xml:space="preserve">ϕ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Esi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δ</m:t>
                                </m:r>
                              </m:e>
                            </m:d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r>
                          <m:t xml:space="preserve">j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E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δ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V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5"/>
              <p:cNvSpPr txBox="1"/>
              <p:nvPr/>
            </p:nvSpPr>
            <p:spPr>
              <a:xfrm>
                <a:off x="1371600" y="4114800"/>
                <a:ext cx="6249960" cy="17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I*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V</m:t>
                            </m:r>
                            <m:r>
                              <m:t xml:space="preserve">⋅</m:t>
                            </m:r>
                            <m:r>
                              <m:t xml:space="preserve">E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δ</m:t>
                                </m:r>
                              </m:e>
                            </m:d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r>
                          <m:t xml:space="preserve">j</m:t>
                        </m:r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-V</m:t>
                            </m:r>
                            <m:r>
                              <m:t xml:space="preserve">⋅</m:t>
                            </m:r>
                            <m:r>
                              <m:t xml:space="preserve">E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δ</m:t>
                                </m:r>
                              </m:e>
                            </m:d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Modelo del motor sincrónico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380880" y="3505320"/>
            <a:ext cx="3733920" cy="28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Motor “Sobre-excitado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&gt; 0,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&lt;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 en adela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otor capaci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actor de potencia en adela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</a:rPr>
              <a:t>co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&lt;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5181480" y="3505320"/>
            <a:ext cx="3733920" cy="28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Motor “Sub-excitado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&lt; 0,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&lt;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 en atra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otor induc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actor de potencia en atra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</a:rPr>
              <a:t>co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&gt;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Object 8"/>
          <p:cNvGraphicFramePr/>
          <p:nvPr/>
        </p:nvGraphicFramePr>
        <p:xfrm>
          <a:off x="3429000" y="1523880"/>
          <a:ext cx="2286000" cy="162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1523880"/>
                    <a:ext cx="2286000" cy="16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Object 9"/>
          <p:cNvGraphicFramePr/>
          <p:nvPr/>
        </p:nvGraphicFramePr>
        <p:xfrm>
          <a:off x="457200" y="1295280"/>
          <a:ext cx="2895480" cy="214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1295280"/>
                    <a:ext cx="2895480" cy="21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Object 10"/>
          <p:cNvGraphicFramePr/>
          <p:nvPr/>
        </p:nvGraphicFramePr>
        <p:xfrm>
          <a:off x="6095880" y="1600200"/>
          <a:ext cx="2743200" cy="1822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6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5880" y="1600200"/>
                    <a:ext cx="2743200" cy="18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Operación en 4 cuadrantes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pic>
        <p:nvPicPr>
          <p:cNvPr id="108" name="Cuadrantes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6553080" cy="53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Límites de operación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1447920"/>
            <a:ext cx="8229600" cy="48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(1) Máxima corriente de est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 &lt; I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V I &lt; V I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S &lt; S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ormalmente, la máxima potencia a extraer en régimen permanente será la nominal, limitando el calentamiento del esta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 &lt; S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n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+ Q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&lt; S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n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+ Q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&lt; 1 [p.u.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Límites de operación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1523880"/>
            <a:ext cx="838188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(2) Máxima corriente de ca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o “E” es creciente con la corriente de camp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&lt; I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f max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E &lt; E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imita el calentamiento del ro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5"/>
              <p:cNvSpPr txBox="1"/>
              <p:nvPr/>
            </p:nvSpPr>
            <p:spPr>
              <a:xfrm>
                <a:off x="152280" y="3809880"/>
                <a:ext cx="8685360" cy="11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E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δ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Q</m:t>
                    </m:r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E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δ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VE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Object 5"/>
              <p:cNvSpPr txBox="1"/>
              <p:nvPr/>
            </p:nvSpPr>
            <p:spPr>
              <a:xfrm>
                <a:off x="2209680" y="5029200"/>
                <a:ext cx="4492800" cy="13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&lt;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ax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Límites de operación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1447920"/>
            <a:ext cx="845820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(3) Límite de est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generador puede entregar potencia máxima en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= 90°. Sin embargo, si existe alguna perturbación tal que la potencia mecánica no pueda entregarse toda a la red, la máquina se acelera y puede perder sincronismo. Se utiliza un margen de seguridad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Object 5" descr=""/>
          <p:cNvPicPr/>
          <p:nvPr/>
        </p:nvPicPr>
        <p:blipFill>
          <a:blip r:embed="rId1"/>
          <a:stretch/>
        </p:blipFill>
        <p:spPr>
          <a:xfrm>
            <a:off x="127080" y="3657600"/>
            <a:ext cx="8797680" cy="1211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8" name="Object 5"/>
              <p:cNvSpPr txBox="1"/>
              <p:nvPr/>
            </p:nvSpPr>
            <p:spPr>
              <a:xfrm>
                <a:off x="2959200" y="5029200"/>
                <a:ext cx="357012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&lt;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Límites de operación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1676520"/>
            <a:ext cx="8229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(4) Límite de excitación mín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ínima tensión induci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 de flujo magnético reman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5"/>
              <p:cNvSpPr txBox="1"/>
              <p:nvPr/>
            </p:nvSpPr>
            <p:spPr>
              <a:xfrm>
                <a:off x="2225520" y="3809880"/>
                <a:ext cx="4459320" cy="130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in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&lt;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Límites de operación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600200"/>
            <a:ext cx="8153280" cy="46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(5) Potencia activa máx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imitación de potencia activa en el eje del generad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 &lt;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(6) Potencia activa mín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ínima potencia para mover la máquina sin proble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blemas de cavitación: vibraciones en la máqui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ocido como “Mínimo técnico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&lt; 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Temas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609480" y="2133720"/>
            <a:ext cx="79250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eneral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ipos de máquinas sincró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odelo de la máquina sincrónica (conectada a la r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odos de 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arta de 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blema 2: Auxiliar 9 (25/06/20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Carta de operación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pic>
        <p:nvPicPr>
          <p:cNvPr id="125" name="Carta%20de%20operación" descr=""/>
          <p:cNvPicPr/>
          <p:nvPr/>
        </p:nvPicPr>
        <p:blipFill>
          <a:blip r:embed="rId1"/>
          <a:stretch/>
        </p:blipFill>
        <p:spPr>
          <a:xfrm>
            <a:off x="152280" y="1295280"/>
            <a:ext cx="891540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Problema 2: Auxiliar 9 (25/06/2010)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533520" y="205740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tiene un generador sincrónico de rotor cilíndrico de 13.8 kV y 240 MVA conectado directamente a una barra infinita. El generador puede entregar una potencia máxima de 216 MW. La reactancia sincrónica es de 1.25 p.u. y el límite de seguridad por estabilidad para el ángulo entre la f.e.m. y la tensión en bornes es de 70°. El valor máximo de la f.e.m. es 2.0837 p.u. Este generador está operando a tensión nominal y entregando 168 MW a la red con factor de potencia 0.9 en 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lant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 Suponga además que la potencia mínima entregada es cero. Trabajando en p.u. base de la máquina sincrón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Problema 2: Auxiliar 9 (25/06/2010)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304920" y="1371600"/>
            <a:ext cx="861048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ibuje la carta de operación e indique el punto de operación del generad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lcule E,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para el punto de oper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termine en qué porcentaje se puede reducir la corriente de campo sin salir de la zona de operación segu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or cambios en la demanda, el generador ahora debe entregar una potencia de 216 MW, con un factor de potencia 0.9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358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en 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ras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 Calcule E,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uponga que para el cambio anterior primero se incrementa la corriente de campo y posteriormente se eleva la potencia de entrada a la turbina. Dibuje la trayectoria del punto de operación en la car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Límite de calentamiento del estator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pic>
        <p:nvPicPr>
          <p:cNvPr id="131" name="Picture 3" descr="C:\Documents and Settings\Propietario\Mis documentos\1-EDUARDO\Dibujos Auxiliares\Carta1.JPG"/>
          <p:cNvPicPr/>
          <p:nvPr/>
        </p:nvPicPr>
        <p:blipFill>
          <a:blip r:embed="rId1"/>
          <a:stretch/>
        </p:blipFill>
        <p:spPr>
          <a:xfrm>
            <a:off x="609480" y="2286000"/>
            <a:ext cx="7877160" cy="42102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4"/>
          <p:cNvSpPr/>
          <p:nvPr/>
        </p:nvSpPr>
        <p:spPr>
          <a:xfrm>
            <a:off x="762120" y="1371600"/>
            <a:ext cx="7619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áxima corriente de estator </a:t>
            </a:r>
            <a:r>
              <a:rPr b="0" lang="es-C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Máxima potencia apar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en general, S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nomin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Límite de calentamiento del rotor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762120" y="13716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áxima corriente de rotor </a:t>
            </a:r>
            <a:r>
              <a:rPr b="0" lang="es-C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Máxima tensión inducida (E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C:\Documents and Settings\Propietario\Mis documentos\1-EDUARDO\Dibujos Auxiliares\Carta2.JPG"/>
          <p:cNvPicPr/>
          <p:nvPr/>
        </p:nvPicPr>
        <p:blipFill>
          <a:blip r:embed="rId1"/>
          <a:stretch/>
        </p:blipFill>
        <p:spPr>
          <a:xfrm>
            <a:off x="609480" y="2286000"/>
            <a:ext cx="785808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Límite de estabilidad angular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762120" y="13716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tabilidad ante perturbaciones </a:t>
            </a:r>
            <a:r>
              <a:rPr b="0" lang="es-C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Máximo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de segu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5" descr="C:\Documents and Settings\Propietario\Mis documentos\1-EDUARDO\Dibujos Auxiliares\Carta3.JPG"/>
          <p:cNvPicPr/>
          <p:nvPr/>
        </p:nvPicPr>
        <p:blipFill>
          <a:blip r:embed="rId1"/>
          <a:stretch/>
        </p:blipFill>
        <p:spPr>
          <a:xfrm>
            <a:off x="609480" y="2286000"/>
            <a:ext cx="785808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Límite de potencia activa máxima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762120" y="13716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imitación de entrada </a:t>
            </a:r>
            <a:r>
              <a:rPr b="0" lang="es-C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5" descr="C:\Documents and Settings\Propietario\Mis documentos\1-EDUARDO\Dibujos Auxiliares\Carta4.JPG"/>
          <p:cNvPicPr/>
          <p:nvPr/>
        </p:nvPicPr>
        <p:blipFill>
          <a:blip r:embed="rId1"/>
          <a:stretch/>
        </p:blipFill>
        <p:spPr>
          <a:xfrm>
            <a:off x="609480" y="2286000"/>
            <a:ext cx="785808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Punto de Operación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762120" y="13716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terminar el punto de operación:  P = 0.7; Q = -0.33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5" descr="C:\Documents and Settings\Propietario\Mis documentos\1-EDUARDO\Dibujos Auxiliares\Carta5.JPG"/>
          <p:cNvPicPr/>
          <p:nvPr/>
        </p:nvPicPr>
        <p:blipFill>
          <a:blip r:embed="rId1"/>
          <a:stretch/>
        </p:blipFill>
        <p:spPr>
          <a:xfrm>
            <a:off x="533520" y="2286000"/>
            <a:ext cx="78865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Nuevo punto de operación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762120" y="1371600"/>
            <a:ext cx="777240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terminar el nuevo punto de operación:  P = 0.9; Q = 0.33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ncremento de la corriente de campo y potencia activa de ent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5" descr="C:\Documents and Settings\Propietario\Mis documentos\1-EDUARDO\Dibujos Auxiliares\Carta6.JPG"/>
          <p:cNvPicPr/>
          <p:nvPr/>
        </p:nvPicPr>
        <p:blipFill>
          <a:blip r:embed="rId1"/>
          <a:stretch/>
        </p:blipFill>
        <p:spPr>
          <a:xfrm>
            <a:off x="533520" y="2286000"/>
            <a:ext cx="78771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Generalidades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53" name=""/>
          <p:cNvSpPr/>
          <p:nvPr/>
        </p:nvSpPr>
        <p:spPr>
          <a:xfrm>
            <a:off x="4800600" y="1752480"/>
            <a:ext cx="396252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Principio de funcion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 Rotor con corriente continua: induce campo magnético rotatorio de magnitud proporcional a la corriente de camp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 Se induce tensión en los enrollados de estator: flujo var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44640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Generalidades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4479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Característica de ten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419720" y="2209680"/>
            <a:ext cx="4173480" cy="3532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28600" y="2362320"/>
            <a:ext cx="411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ensión inducida en bornes es función de la velocidad y amplitud del campo magnético rotato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4114800"/>
            <a:ext cx="396252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curva satura a medida que se satura el núcleo. En zona line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s-CL" sz="2400" spc="-1" strike="noStrike" baseline="-25000">
                <a:solidFill>
                  <a:srgbClr val="000000"/>
                </a:solidFill>
                <a:latin typeface="Times New Roman"/>
              </a:rPr>
              <a:t>fn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= G </a:t>
            </a:r>
            <a:r>
              <a:rPr b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1" lang="es-CL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Generalidades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523880"/>
            <a:ext cx="8305920" cy="47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Observacio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frecuencia de las corrientes y tensiones siempre corresponde a la sincrón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elec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mec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* (n°polos/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i la máquina sincrónica está conectada a la red (barra infinita), su velocidad queda fija según la frecuencia de la 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máquina sincrónica solo presenta torque no nulo a velocidad síncr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ara efectos del modelo, despreciamos la resistencia de estator y usamos solo la reactancia sincrón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Máquinas de polos salientes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3200400" y="1981080"/>
            <a:ext cx="5715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ísicamente los polos (N-S) sobresal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ductancia mutua rotor – estator no es consta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ás complejidad al modelar inductanc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457200" y="457200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general se usan máquinas de polos salientes con varios polos (por ejemplo 36), en generadores hidráulicos. Operan a baja velocidad y poseen rotores de gran diámet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Gen2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2743200" cy="26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Máquinas de polos salientes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pic>
        <p:nvPicPr>
          <p:cNvPr id="67" name="Gen4" descr=""/>
          <p:cNvPicPr/>
          <p:nvPr/>
        </p:nvPicPr>
        <p:blipFill>
          <a:blip r:embed="rId1"/>
          <a:stretch/>
        </p:blipFill>
        <p:spPr>
          <a:xfrm>
            <a:off x="152280" y="1295280"/>
            <a:ext cx="4572000" cy="3562560"/>
          </a:xfrm>
          <a:prstGeom prst="rect">
            <a:avLst/>
          </a:prstGeom>
          <a:ln w="0">
            <a:noFill/>
          </a:ln>
        </p:spPr>
      </p:pic>
      <p:pic>
        <p:nvPicPr>
          <p:cNvPr id="68" name="Gen3" descr=""/>
          <p:cNvPicPr/>
          <p:nvPr/>
        </p:nvPicPr>
        <p:blipFill>
          <a:blip r:embed="rId2"/>
          <a:stretch/>
        </p:blipFill>
        <p:spPr>
          <a:xfrm>
            <a:off x="5334120" y="1295280"/>
            <a:ext cx="3713040" cy="4648320"/>
          </a:xfrm>
          <a:prstGeom prst="rect">
            <a:avLst/>
          </a:prstGeom>
          <a:ln w="0">
            <a:noFill/>
          </a:ln>
        </p:spPr>
      </p:pic>
      <p:pic>
        <p:nvPicPr>
          <p:cNvPr id="69" name="Gen5" descr=""/>
          <p:cNvPicPr/>
          <p:nvPr/>
        </p:nvPicPr>
        <p:blipFill>
          <a:blip r:embed="rId3"/>
          <a:stretch/>
        </p:blipFill>
        <p:spPr>
          <a:xfrm>
            <a:off x="914400" y="4495680"/>
            <a:ext cx="411480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Máquinas de rotor cilíndrico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3124080" y="1447920"/>
            <a:ext cx="571500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otor li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ductancia mutua rotor – estator es consta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simetría del rotor facilita la modelación de la máqui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tudiaremos modelo de la máquina de rotor cilínd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457200" y="4800600"/>
            <a:ext cx="815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general se usan máquinas de rotor cilíndrico, con pocos polos (2, 4 o 6), en generadores térmicos operando a alta velocidad. A esta velocidad las pérdidas por roce se reducen en un rotor liso. Poseen rotores alargados y de poco diámet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Gen6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2819520" cy="26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Máquinas de rotor cilíndrico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pic>
        <p:nvPicPr>
          <p:cNvPr id="75" name="Gen9" descr=""/>
          <p:cNvPicPr/>
          <p:nvPr/>
        </p:nvPicPr>
        <p:blipFill>
          <a:blip r:embed="rId1"/>
          <a:stretch/>
        </p:blipFill>
        <p:spPr>
          <a:xfrm>
            <a:off x="4952880" y="2819520"/>
            <a:ext cx="4191120" cy="2779560"/>
          </a:xfrm>
          <a:prstGeom prst="rect">
            <a:avLst/>
          </a:prstGeom>
          <a:ln w="0">
            <a:noFill/>
          </a:ln>
        </p:spPr>
      </p:pic>
      <p:pic>
        <p:nvPicPr>
          <p:cNvPr id="76" name="Gen7" descr=""/>
          <p:cNvPicPr/>
          <p:nvPr/>
        </p:nvPicPr>
        <p:blipFill>
          <a:blip r:embed="rId2"/>
          <a:stretch/>
        </p:blipFill>
        <p:spPr>
          <a:xfrm>
            <a:off x="152280" y="1295280"/>
            <a:ext cx="5334120" cy="3510000"/>
          </a:xfrm>
          <a:prstGeom prst="rect">
            <a:avLst/>
          </a:prstGeom>
          <a:ln w="0">
            <a:noFill/>
          </a:ln>
        </p:spPr>
      </p:pic>
      <p:pic>
        <p:nvPicPr>
          <p:cNvPr id="77" name="Gen8" descr=""/>
          <p:cNvPicPr/>
          <p:nvPr/>
        </p:nvPicPr>
        <p:blipFill>
          <a:blip r:embed="rId3"/>
          <a:stretch/>
        </p:blipFill>
        <p:spPr>
          <a:xfrm>
            <a:off x="609480" y="4267080"/>
            <a:ext cx="430560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0T19:13:18Z</dcterms:created>
  <dc:creator>eduardo zamora</dc:creator>
  <dc:description/>
  <dc:language>en-US</dc:language>
  <cp:lastModifiedBy>eduardo zamora</cp:lastModifiedBy>
  <dcterms:modified xsi:type="dcterms:W3CDTF">2010-07-21T00:52:59Z</dcterms:modified>
  <cp:revision>32</cp:revision>
  <dc:subject/>
  <dc:title>Generador Sincrónico</dc:title>
</cp:coreProperties>
</file>