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wmf" ContentType="image/x-wmf"/>
  <Override PartName="/ppt/media/image3.png" ContentType="image/png"/>
  <Override PartName="/ppt/media/image25.jpeg" ContentType="image/jpeg"/>
  <Override PartName="/ppt/media/image22.jpeg" ContentType="image/jpeg"/>
  <Override PartName="/ppt/media/image14.png" ContentType="image/png"/>
  <Override PartName="/ppt/media/image21.wmf" ContentType="image/x-wmf"/>
  <Override PartName="/ppt/media/image20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Haettenschweile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8A5-CE3B-44B7-86B9-E5BEC7BD464D}" type="slidenum">
              <a:rPr b="0" lang="es-ES" sz="1200" spc="-1" strike="noStrike">
                <a:solidFill>
                  <a:srgbClr val="000000"/>
                </a:solidFill>
                <a:latin typeface="Haettenschweil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2A4B-D33E-492C-80A3-1D9AB82B4623}" type="slidenum">
              <a:rPr b="0" lang="es-ES" sz="1200" spc="-1" strike="noStrike">
                <a:solidFill>
                  <a:srgbClr val="000000"/>
                </a:solidFill>
                <a:latin typeface="Haettenschweile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radley Hand ITC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43368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0" y="658332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66ff"/>
                </a:solidFill>
                <a:latin typeface="Arial"/>
              </a:rPr>
              <a:t>EL4001 - Conversión de la Energía y Sistemas Eléctr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80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000000"/>
                </a:solidFill>
                <a:latin typeface="Bradley Hand ITC"/>
              </a:rPr>
              <a:t>Máquinas Sincrónicas</a:t>
            </a:r>
            <a:endParaRPr b="1" lang="en-US" sz="60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49" name="Gen1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438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generad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1371600"/>
          <a:ext cx="3886200" cy="271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388620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1" name="Object 4"/>
              <p:cNvSpPr txBox="1"/>
              <p:nvPr/>
            </p:nvSpPr>
            <p:spPr>
              <a:xfrm>
                <a:off x="4191120" y="1905120"/>
                <a:ext cx="426708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  <m:r>
                              <m:t xml:space="preserve">&lt;</m:t>
                            </m:r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5"/>
              <p:cNvSpPr txBox="1"/>
              <p:nvPr/>
            </p:nvSpPr>
            <p:spPr>
              <a:xfrm>
                <a:off x="1409760" y="3975120"/>
                <a:ext cx="6089760" cy="17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*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e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 Box 6"/>
          <p:cNvSpPr/>
          <p:nvPr/>
        </p:nvSpPr>
        <p:spPr>
          <a:xfrm>
            <a:off x="457200" y="57150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¡Recordar que estamos usando el modelo en p.u., con tensiones entre fases y potencia trifásica! Luego, la corriente calculada es corriente de línea (multiplicando por la corriente base) y la potencia aparente es trifásica (multiplicando por la base respectiv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generad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3348000" y="1628640"/>
          <a:ext cx="236232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1628640"/>
                    <a:ext cx="23623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4"/>
          <p:cNvGraphicFramePr/>
          <p:nvPr/>
        </p:nvGraphicFramePr>
        <p:xfrm>
          <a:off x="250920" y="1413000"/>
          <a:ext cx="2895480" cy="21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413000"/>
                    <a:ext cx="2895480" cy="21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5"/>
          <p:cNvGraphicFramePr/>
          <p:nvPr/>
        </p:nvGraphicFramePr>
        <p:xfrm>
          <a:off x="6019920" y="1600200"/>
          <a:ext cx="2666880" cy="18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1600200"/>
                    <a:ext cx="266688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6"/>
          <p:cNvSpPr/>
          <p:nvPr/>
        </p:nvSpPr>
        <p:spPr>
          <a:xfrm>
            <a:off x="3808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enerador “Sobre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l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nerador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1814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Generador “Sub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g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Generador capa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mot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52280" y="1447920"/>
          <a:ext cx="36576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36576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4078440" y="1905120"/>
                <a:ext cx="44942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&lt;</m:t>
                            </m:r>
                            <m:r>
                              <m:t xml:space="preserve">δ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&lt;</m:t>
                        </m:r>
                        <m:r>
                          <m:t xml:space="preserve">ϕ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1371600" y="4114800"/>
                <a:ext cx="624996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I*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j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  <m:r>
                              <m:t xml:space="preserve">⋅</m:t>
                            </m:r>
                            <m:r>
                              <m:t xml:space="preserve">E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δ</m:t>
                                </m:r>
                              </m:e>
                            </m:d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odelo del motor sincrón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808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tor “Sobre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g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tor capaci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del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5181480" y="3505320"/>
            <a:ext cx="373392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tor “Sub-excitad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&lt; 0,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l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Motor indu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Factor de potencia en atr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8"/>
          <p:cNvGraphicFramePr/>
          <p:nvPr/>
        </p:nvGraphicFramePr>
        <p:xfrm>
          <a:off x="3429000" y="1523880"/>
          <a:ext cx="2286000" cy="16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523880"/>
                    <a:ext cx="2286000" cy="16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9"/>
          <p:cNvGraphicFramePr/>
          <p:nvPr/>
        </p:nvGraphicFramePr>
        <p:xfrm>
          <a:off x="457200" y="1295280"/>
          <a:ext cx="289548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295280"/>
                    <a:ext cx="289548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"/>
          <p:cNvGraphicFramePr/>
          <p:nvPr/>
        </p:nvGraphicFramePr>
        <p:xfrm>
          <a:off x="6095880" y="1600200"/>
          <a:ext cx="2743200" cy="182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600200"/>
                    <a:ext cx="2743200" cy="18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Operación en 4 cuadra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08" name="Cuadrantes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55308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447920"/>
            <a:ext cx="82296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1) Máxima corriente de est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 &lt;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V I &lt; V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 &lt;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rmalmente, la máxima potencia a extraer en régimen permanente será la nominal, limitando el calentamiento del est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 &lt; S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S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s-CL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1 [p.u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523880"/>
            <a:ext cx="83818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2) Máxima corriente de ca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o “E” es creciente con la corriente de cam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&lt; I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f 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 &lt; E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 el calentamiento del ro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5"/>
              <p:cNvSpPr txBox="1"/>
              <p:nvPr/>
            </p:nvSpPr>
            <p:spPr>
              <a:xfrm>
                <a:off x="152280" y="3809880"/>
                <a:ext cx="8685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δ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E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09680" y="5029200"/>
                <a:ext cx="4492800" cy="13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447920"/>
            <a:ext cx="84582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3) Límite de est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generador puede entregar potencia máxima en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90°. Sin embargo, si existe alguna perturbación tal que la potencia mecánica no pueda entregarse toda a la red, la máquina se acelera y puede perder sincronismo. Se utiliza un margen de seguridad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Object 5" descr=""/>
          <p:cNvPicPr/>
          <p:nvPr/>
        </p:nvPicPr>
        <p:blipFill>
          <a:blip r:embed="rId1"/>
          <a:stretch/>
        </p:blipFill>
        <p:spPr>
          <a:xfrm>
            <a:off x="127080" y="3657600"/>
            <a:ext cx="8797680" cy="121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2959200" y="5029200"/>
                <a:ext cx="35701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&lt;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67652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4) Límite de excitación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ínima tensión indu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ncia de flujo magnético rema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5"/>
              <p:cNvSpPr txBox="1"/>
              <p:nvPr/>
            </p:nvSpPr>
            <p:spPr>
              <a:xfrm>
                <a:off x="2225520" y="3809880"/>
                <a:ext cx="44593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i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s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00200"/>
            <a:ext cx="815328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5) Potencia activa máx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ción de potencia activa en el eje del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 &lt;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(6) Potencia activa mín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ínima potencia para mover la máquina sin proble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blemas de cavitación: vibraciones en l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ocido como “Mínimo técnic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&lt;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Tema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2133720"/>
            <a:ext cx="79250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ener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pos de máquinas sincró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elo de la máquina sincrónica (conectada a la 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od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arta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oblema 2: Auxiliar 9 (25/06/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Carta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25" name="Carta%20de%20operación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9154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roblema 2: Auxiliar 9 (25/06/2010)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533520" y="205740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tiene un generador sincrónico de rotor cilíndrico de 13.8 kV y 240 MVA conectado directamente a una barra infinita. El generador puede entregar una potencia máxima de 216 MW. La reactancia sincrónica es de 1.25 p.u. y el límite de seguridad por estabilidad para el ángulo entre la f.e.m. y la tensión en bornes es de 70°. El valor máximo de la f.e.m. es 2.0837 p.u. Este generador está operando a tensión nominal y entregando 168 MW a la red con factor de potencia 0.9 en 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lant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Suponga además que la potencia mínima entregada es cero. Trabajando en p.u. base de la máquina sincrón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roblema 2: Auxiliar 9 (25/06/2010)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304920" y="1371600"/>
            <a:ext cx="8610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buje la carta de operación e indique el punto de operación del gen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lcule 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para el punto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e en qué porcentaje se puede reducir la corriente de campo sin salir de la zona de operación seg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r cambios en la demanda, el generador ahora debe entregar una potencia de 216 MW, con un factor de potencia 0.9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358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n 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ras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Calcule 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ponga que para el cambio anterior primero se incrementa la corriente de campo y posteriormente se eleva la potencia de entrada a la turbina. Dibuje la trayectoria del punto de operación en la car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calentamiento del estato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131" name="Picture 3" descr="C:\Documents and Settings\Propietario\Mis documentos\1-EDUARDO\Dibujos Auxiliares\Carta1.JPG"/>
          <p:cNvPicPr/>
          <p:nvPr/>
        </p:nvPicPr>
        <p:blipFill>
          <a:blip r:embed="rId1"/>
          <a:stretch/>
        </p:blipFill>
        <p:spPr>
          <a:xfrm>
            <a:off x="609480" y="2286000"/>
            <a:ext cx="7877160" cy="42102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762120" y="13716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xima corriente de estat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a potencia apa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en general, S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ominal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calentamiento del roto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2120" y="1371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xima corriente de rotor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a tensión inducida (E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C:\Documents and Settings\Propietario\Mis documentos\1-EDUARDO\Dibujos Auxiliares\Carta2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estabilidad angular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abilidad ante perturbaciones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Máximo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C:\Documents and Settings\Propietario\Mis documentos\1-EDUARDO\Dibujos Auxiliares\Carta3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Límite de potencia activa máxima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imitación de entrada </a:t>
            </a:r>
            <a:r>
              <a:rPr b="0" lang="es-C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:\Documents and Settings\Propietario\Mis documentos\1-EDUARDO\Dibujos Auxiliares\Carta4.JPG"/>
          <p:cNvPicPr/>
          <p:nvPr/>
        </p:nvPicPr>
        <p:blipFill>
          <a:blip r:embed="rId1"/>
          <a:stretch/>
        </p:blipFill>
        <p:spPr>
          <a:xfrm>
            <a:off x="609480" y="2286000"/>
            <a:ext cx="78580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Punto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62120" y="1371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punto de operación:  P = 0.7; Q = -0.3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C:\Documents and Settings\Propietario\Mis documentos\1-EDUARDO\Dibujos Auxiliares\Carta5.JPG"/>
          <p:cNvPicPr/>
          <p:nvPr/>
        </p:nvPicPr>
        <p:blipFill>
          <a:blip r:embed="rId1"/>
          <a:stretch/>
        </p:blipFill>
        <p:spPr>
          <a:xfrm>
            <a:off x="533520" y="2286000"/>
            <a:ext cx="7886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Nuevo punto de operación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62120" y="1371600"/>
            <a:ext cx="77724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terminar el nuevo punto de operación:  P = 0.9; Q = 0.3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Incremento de la corriente de campo y potencia activa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5" descr="C:\Documents and Settings\Propietario\Mis documentos\1-EDUARDO\Dibujos Auxiliares\Carta6.JPG"/>
          <p:cNvPicPr/>
          <p:nvPr/>
        </p:nvPicPr>
        <p:blipFill>
          <a:blip r:embed="rId1"/>
          <a:stretch/>
        </p:blipFill>
        <p:spPr>
          <a:xfrm>
            <a:off x="533520" y="2286000"/>
            <a:ext cx="7877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1752480"/>
            <a:ext cx="396252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Rotor con corriente continua: induce campo magnético rotatorio de magnitud proporcional a la corriente de ca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Se induce tensión en los enrollados de estator: flujo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44640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4479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aracterística de ten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419720" y="2209680"/>
            <a:ext cx="4173480" cy="3532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2362320"/>
            <a:ext cx="41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nsión inducida en bornes es función de la velocidad y amplitud del campo magnético rot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4114800"/>
            <a:ext cx="39625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curva satura a medida que se satura el núcleo. En zona line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</a:rPr>
              <a:t>fn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= G </a:t>
            </a:r>
            <a:r>
              <a:rPr b="1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es-CL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Generalidad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523880"/>
            <a:ext cx="830592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Observa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recuencia de las corrientes y tensiones siempre corresponde a la sincrón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ele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CL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CL" sz="2400" spc="-1" strike="noStrike" baseline="-25000">
                <a:solidFill>
                  <a:srgbClr val="000000"/>
                </a:solidFill>
                <a:latin typeface="Times New Roman"/>
              </a:rPr>
              <a:t>mec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* (n°polos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máquina sincrónica está conectada a la red (barra infinita), su velocidad queda fija según la frecuencia de la 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máquina sincrónica solo presenta torque no nulo a velocidad síncr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efectos del modelo, despreciamos la resistencia de estator y usamos solo la reactancia sincrón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polos salie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200400" y="1981080"/>
            <a:ext cx="5715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ísicamente los polos (N-S) sobresa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 mutua rotor – estator no es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ás complejidad al modelar inducta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457200" y="45720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se usan máquinas de polos salientes con varios polos (por ejemplo 36), en generadores hidráulicos. Operan a baja velocidad y poseen rotores de gran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Gen2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polos salientes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67" name="Gen4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4572000" cy="3562560"/>
          </a:xfrm>
          <a:prstGeom prst="rect">
            <a:avLst/>
          </a:prstGeom>
          <a:ln w="0">
            <a:noFill/>
          </a:ln>
        </p:spPr>
      </p:pic>
      <p:pic>
        <p:nvPicPr>
          <p:cNvPr id="68" name="Gen3" descr=""/>
          <p:cNvPicPr/>
          <p:nvPr/>
        </p:nvPicPr>
        <p:blipFill>
          <a:blip r:embed="rId2"/>
          <a:stretch/>
        </p:blipFill>
        <p:spPr>
          <a:xfrm>
            <a:off x="5334120" y="1295280"/>
            <a:ext cx="3713040" cy="4648320"/>
          </a:xfrm>
          <a:prstGeom prst="rect">
            <a:avLst/>
          </a:prstGeom>
          <a:ln w="0">
            <a:noFill/>
          </a:ln>
        </p:spPr>
      </p:pic>
      <p:pic>
        <p:nvPicPr>
          <p:cNvPr id="69" name="Gen5" descr=""/>
          <p:cNvPicPr/>
          <p:nvPr/>
        </p:nvPicPr>
        <p:blipFill>
          <a:blip r:embed="rId3"/>
          <a:stretch/>
        </p:blipFill>
        <p:spPr>
          <a:xfrm>
            <a:off x="914400" y="4495680"/>
            <a:ext cx="411480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rotor cilínd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124080" y="1447920"/>
            <a:ext cx="5715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otor li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ductancia mutua rotor – estator es cons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simetría del rotor facilita la modelación de la máqu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tudiaremos modelo de la máquina de rotor cilínd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57200" y="48006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general se usan máquinas de rotor cilíndrico, con pocos polos (2, 4 o 6), en generadores térmicos operando a alta velocidad. A esta velocidad las pérdidas por roce se reducen en un rotor liso. Poseen rotores alargados y de poco diámet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Gen6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81952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ff"/>
                </a:solidFill>
                <a:latin typeface="Bradley Hand ITC"/>
              </a:rPr>
              <a:t>Máquinas de rotor cilíndrico</a:t>
            </a:r>
            <a:endParaRPr b="1" lang="en-US" sz="3600" spc="-1" strike="noStrike">
              <a:solidFill>
                <a:srgbClr val="ffffff"/>
              </a:solidFill>
              <a:latin typeface="Bradley Hand ITC"/>
            </a:endParaRPr>
          </a:p>
        </p:txBody>
      </p:sp>
      <p:pic>
        <p:nvPicPr>
          <p:cNvPr id="75" name="Gen9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2779560"/>
          </a:xfrm>
          <a:prstGeom prst="rect">
            <a:avLst/>
          </a:prstGeom>
          <a:ln w="0">
            <a:noFill/>
          </a:ln>
        </p:spPr>
      </p:pic>
      <p:pic>
        <p:nvPicPr>
          <p:cNvPr id="76" name="Gen7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5334120" cy="3510000"/>
          </a:xfrm>
          <a:prstGeom prst="rect">
            <a:avLst/>
          </a:prstGeom>
          <a:ln w="0">
            <a:noFill/>
          </a:ln>
        </p:spPr>
      </p:pic>
      <p:pic>
        <p:nvPicPr>
          <p:cNvPr id="77" name="Gen8" descr=""/>
          <p:cNvPicPr/>
          <p:nvPr/>
        </p:nvPicPr>
        <p:blipFill>
          <a:blip r:embed="rId3"/>
          <a:stretch/>
        </p:blipFill>
        <p:spPr>
          <a:xfrm>
            <a:off x="609480" y="4267080"/>
            <a:ext cx="43056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0T19:13:18Z</dcterms:created>
  <dc:creator>eduardo zamora</dc:creator>
  <dc:description/>
  <dc:language>en-US</dc:language>
  <cp:lastModifiedBy>eduardo zamora</cp:lastModifiedBy>
  <dcterms:modified xsi:type="dcterms:W3CDTF">2010-07-21T00:52:59Z</dcterms:modified>
  <cp:revision>32</cp:revision>
  <dc:subject/>
  <dc:title>Generador Sincrónico</dc:title>
</cp:coreProperties>
</file>