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F511-4043-4685-984E-EAA67244C703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E09-D019-473C-B894-DE4A9E7EF0D3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00"/>
                </a:solidFill>
                <a:latin typeface="Bradley Hand ITC"/>
              </a:rPr>
              <a:t>Máquinas Sincrónicas</a:t>
            </a:r>
            <a:endParaRPr b="1" lang="en-US" sz="60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9" name="Gen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4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1371600"/>
          <a:ext cx="38862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862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191120" y="1905120"/>
                <a:ext cx="426708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409760" y="3975120"/>
                <a:ext cx="60897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6"/>
          <p:cNvSpPr/>
          <p:nvPr/>
        </p:nvSpPr>
        <p:spPr>
          <a:xfrm>
            <a:off x="45720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¡Recordar que estamos usando el modelo en p.u., con tensiones entre fases y potencia trifásica! Luego, la corriente calculada es corriente de línea (multiplicando por la corriente base) y la potencia aparente es trifásica (multiplicando por la base respe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3348000" y="1628640"/>
          <a:ext cx="23623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23623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250920" y="1413000"/>
          <a:ext cx="2895480" cy="21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13000"/>
                    <a:ext cx="28954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6019920" y="1600200"/>
          <a:ext cx="266688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600200"/>
                    <a:ext cx="26668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2280" y="1447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078440" y="1905120"/>
                <a:ext cx="44942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371600" y="4114800"/>
                <a:ext cx="62499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3429000" y="1523880"/>
          <a:ext cx="228600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22860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57200" y="1295280"/>
          <a:ext cx="289548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95280"/>
                    <a:ext cx="28954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6095880" y="1600200"/>
          <a:ext cx="274320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600200"/>
                    <a:ext cx="274320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Operación en 4 cuadra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08" name="Cuadrantes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8229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1) Máxima corriente de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V I &lt; V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, la máxima potencia a extraer en régimen permanente será la nominal, limitando el calentamiento del es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1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381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2) Máxima corriente 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“E” es creciente con la corriente de ca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 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 &lt;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 el calentamiento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2280" y="3809880"/>
                <a:ext cx="8685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09680" y="5029200"/>
                <a:ext cx="4492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47920"/>
            <a:ext cx="84582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3) Límite de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generador puede entregar potencia máxim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90°. Sin embargo, si existe alguna perturbación tal que la potencia mecánica no pueda entregarse toda a la red, la máquina se acelera y puede perder sincronismo. Se utiliza un margen de seguridad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127080" y="3657600"/>
            <a:ext cx="8797680" cy="121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959200" y="5029200"/>
                <a:ext cx="35701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76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4) Límite de excit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tensión indu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 de flujo magnético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225520" y="3809880"/>
                <a:ext cx="44593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5) Potencia activ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potencia activa en el eje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6) Potencia activ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potencia para mover la máquina si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s de cavitación: vibraciones en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o como “Mínimo técn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&lt;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pos de máquinas sin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de la máquina sincrónica (conectada a la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 2: Auxiliar 9 (25/06/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arta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25" name="Carta%20de%20operación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0574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iene un generador sincrónico de rotor cilíndrico de 13.8 kV y 240 MVA conectado directamente a una barra infinita. El generador puede entregar una potencia máxima de 216 MW. La reactancia sincrónica es de 1.25 p.u. y el límite de seguridad por estabilidad para el ángulo entre la f.e.m. y la tensión en bornes es de 70°. El valor máximo de la f.e.m. es 2.0837 p.u. Este generador está operando a tensión nominal y entregando 168 MW a la red con factor de potencia 0.9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a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uponga además que la potencia mínima entregada es cero. Trabajando en p.u. base de la máquin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37160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e la carta de operación e indique el punto de operación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el punto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e en qué porcentaje se puede reducir la corriente de campo sin salir de la zona de operación seg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mbios en la demanda, el generador ahora debe entregar una potencia de 216 MW, con un factor de potencia 0.9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 que para el cambio anterior primero se incrementa la corriente de campo y posteriormente se eleva la potencia de entrada a la turbina. Dibuje la trayectoria del punto de operación en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esta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31" name="Picture 3" descr="C:\Documents and Settings\Propietario\Mis documentos\1-EDUARDO\Dibujos Auxiliares\Carta1.JPG"/>
          <p:cNvPicPr/>
          <p:nvPr/>
        </p:nvPicPr>
        <p:blipFill>
          <a:blip r:embed="rId1"/>
          <a:stretch/>
        </p:blipFill>
        <p:spPr>
          <a:xfrm>
            <a:off x="609480" y="2286000"/>
            <a:ext cx="787716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62120" y="13716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esta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potencia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en general, S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ro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ro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tensión inducida (E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Documents and Settings\Propietario\Mis documentos\1-EDUARDO\Dibujos Auxiliares\Carta2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estabilidad angula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ilidad ante perturbacion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Documents and Settings\Propietario\Mis documentos\1-EDUARDO\Dibujos Auxiliares\Carta3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potencia activa máxim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entrad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Propietario\Mis documentos\1-EDUARDO\Dibujos Auxiliares\Carta4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punto de operación:  P = 0.7; Q = -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Documents and Settings\Propietario\Mis documentos\1-EDUARDO\Dibujos Auxiliares\Carta5.JPG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Nuevo 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37160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nuevo punto de operación:  P = 0.9; Q = 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remento de la corriente de campo y potencia activa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C:\Documents and Settings\Propietario\Mis documentos\1-EDUARDO\Dibujos Auxiliares\Carta6.JPG"/>
          <p:cNvPicPr/>
          <p:nvPr/>
        </p:nvPicPr>
        <p:blipFill>
          <a:blip r:embed="rId1"/>
          <a:stretch/>
        </p:blipFill>
        <p:spPr>
          <a:xfrm>
            <a:off x="533520" y="2286000"/>
            <a:ext cx="7877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752480"/>
            <a:ext cx="3962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Rotor con corriente continua: induce campo magnético rotatorio de magnitud proporcional a la corriente de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e induce tensión en los enrollados de estator: flujo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46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acterística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73480" cy="353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sión inducida en bornes es función de la velocidad y amplitud del campo magnético rot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3962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urva satura a medida que se satura el núcleo. En zona line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= G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3059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recuencia de las corrientes y tensiones siempre corresponde a l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n°polos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máquina sincrónica está conectada a la red (barra infinita), su velocidad queda fija según la frecuenci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áquina sincrónica solo presenta torque no nulo a velocidad sínc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fectos del modelo, despreciamos la resistencia de estator y usamos solo la reactancia sinc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00400" y="1981080"/>
            <a:ext cx="57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mente los polos (N-S) sobres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no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complejidad al modelar induct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7200" y="4572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polos salientes con varios polos (por ejemplo 36), en generadores hidráulicos. Operan a baja velocidad y poseen rotores de gran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en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7" name="Gen4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68" name="Gen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1304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Gen5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114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24080" y="14479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tor l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etría del rotor facilita la modelación de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udiaremos modelo de la máquina de rotor cilín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4800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rotor cilíndrico, con pocos polos (2, 4 o 6), en generadores térmicos operando a alta velocidad. A esta velocidad las pérdidas por roce se reducen en un rotor liso. Poseen rotores alargados y de poco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en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5" name="Gen9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76" name="Gen7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33412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Gen8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430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duardo zamora</cp:lastModifiedBy>
  <dcterms:modified xsi:type="dcterms:W3CDTF">2010-07-21T00:52:59Z</dcterms:modified>
  <cp:revision>32</cp:revision>
  <dc:subject/>
  <dc:title>Generador Sincrónico</dc:title>
</cp:coreProperties>
</file>