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10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0090-C2DE-4E0D-AD6E-FE1149A374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D453-72C2-4E09-BDF0-0989EA3406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3 Marcador de número de diapositiva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42AAF978-515A-4657-BD1E-6815377B86F8}" type="slidenum">
              <a:rPr b="0" lang="es-C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4 Marcador de fecha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5 Marcador de pie de página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6 Marcador de encabezado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5CB6-18FD-490B-AFB2-1964ED5853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6BBC-905E-4439-8DF8-0528A1A467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4C2C-2AF9-4DAB-8069-1F8F8B22D5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D48C-6107-451F-A376-3DAD7AA00D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8200-0942-45B4-90BE-D1A9696532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8824-0C92-4EDF-A8C9-934A441DDA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349A-1476-4F94-A925-1922F183A28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E72A-38EA-4F0D-BE91-1513288FDC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A2D8-B16D-4F2B-9E43-E799855625A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1D1-580C-4FD9-8F71-35D1C963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8B1-913E-4814-8387-7787ECE4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D7ACF-B4A2-438A-8E02-8015B1FF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C909B-6F92-4001-9295-47B13F9E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19B49-678B-47B0-A077-866DC67E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30DBD-01CB-4879-9B61-D40BD144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1F89E-4330-4651-815A-A8CBCFEB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129FE-01DC-44EB-A2B4-4A1302D7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380A4-8844-4433-835C-A68334F5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8F334-6B93-46D6-9845-2A9D3561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5A9B6-D653-40AD-BB2E-D8A8A33B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F4794-9744-462E-883D-B9913BAD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7AC9-389B-4DE8-8ADB-74CC1090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37940-117A-4869-B8FD-E02D1C11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1D369-6E24-407D-B38E-8F6172E7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39EB6-0613-4447-9158-B1973782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EDFD2-ED42-4F03-BE49-3708D34A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42A12-34DB-4B50-8F6B-7CAFA95F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F0F71-6612-4DD9-AD67-4109F592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0AF53-8A83-4C79-BFE1-7A14075E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89CA6-3253-4052-B847-E2191C6B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09D56-150A-41C2-8555-1FA5D3E5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5FE29-DA53-4BA6-A8DC-E6BCEE93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B2A-C358-4FA3-A36C-DA410CBE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FD972-D11E-48BB-AC3A-97D7EC30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1A1E2-73D2-4907-823F-8860FB27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FD7B6-EFDC-4A35-994A-E0FC7F5C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41A46-43B4-49E9-90F5-A00863EB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4D32E-D62C-4617-85CE-88CDF329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6CCB6-E372-4461-B57C-A0951D44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57ECF-3C82-4C81-8BBA-8CFA21E2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27473-FE83-4CB8-BA9F-A25D0B8E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E8705-72E2-4B1F-B37F-2447A811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F66CB-0812-4FE3-BB2F-28633C72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F5FD-2155-4B4A-BCFA-64B48CD9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132D4-7694-426E-8DCD-E2134142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DECE7-1F60-415A-8E66-027DC516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6F89F-5D6A-433F-BBD5-C0311794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19F7C-D69F-4B34-9139-005AD9AF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D832A-994E-4801-B16D-4E50803E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D05F2-4444-4ACA-A8F2-94D3BECD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6762A-DE26-4419-8463-9A00F56E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C0AB0-221C-4363-A85D-B4099643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E511E-1D66-4004-8149-0E2EEFE7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E5B22-4AE5-4642-85EF-1989278F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1B86-E5A4-4AE7-BD7C-5089072D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D4D08-2B33-4B50-AC35-C4952024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40BB2-04C3-445A-BF4E-5488C5FF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36348-B87D-4CD9-8D48-DDDE2C29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95BEE-2759-4278-9597-29C9A283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4650B-F4E1-4A54-9EDF-11E49672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54814-84C3-4F89-A42A-ED45CC3D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03A72-6419-4985-BA1E-B3C89B33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9C6E2E-AFCE-4F02-9F92-A332CE75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D9AE5-D0A7-4459-936A-19B03900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EF0CC-D6EF-41FD-A167-03D044DD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1F1D-4561-4E59-99A0-9CE59F61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9C655-25DA-4BFE-B4F4-3CD2099D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E4D8D0-B939-4478-9106-B96658C3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FFAA2-E66C-4CE9-8711-69ECCF8C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B52C9-0270-4F5A-A12D-A1C08EB9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EB04B-9703-43D1-8609-3CC95B3D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BD3F95-5231-41D0-A2CB-EC575B75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4EC009-4C91-45E6-A376-03A0FC97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0FBA-D39A-40C1-8C30-81F7CA59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F436-7ACF-48C2-BC48-9A3F64A5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4C1D-4CA9-4F46-8F50-0B1764E2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3F93-55F3-4ADB-B59D-65ED2B31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C32A-CF8F-4D62-947C-6141B2B2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9156-3025-4105-B040-254BFA8A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00D5-720F-4467-BD73-E5F20D66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4865-2B28-4A5C-AD18-EEDF8AA7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2D76-486E-403C-9FD1-11CED3DC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EF89-E0E4-4A74-9A8D-671F2A58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ED3A7-C150-464C-A791-F1C485BF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6C320-2EF8-4FCD-B388-7CE0A47D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7353F-D531-4692-B204-12E6D4BB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69B8E-410F-4313-AE10-CA57EB9D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0365D-3845-4E30-8B2D-69CFABED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CC1-6FB1-454D-B980-06120B50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576C5-FFB9-470F-9108-64A62CB1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E5558-F9CB-4C83-BF47-8AE0D8BC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91EFA-EA51-44DB-9EAB-0E0CA513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7A416-95C2-49B0-BFB9-82AEC182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E6D3E-1B17-4E65-B84D-5E0BA201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A9F53-2C42-4881-9E61-7B878B25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28B05-4173-4768-8FFE-40ABA45A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1D66E-4564-4798-8B99-F2BE3CBA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DA268-8A61-4CB8-A838-3D097372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E448F-7077-4BB7-AEDF-08C51B65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630D-868C-421E-9B6C-FE671C8E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DED2A-976B-4C8F-AAD8-12312A26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ECC8A-BD76-47B5-8F88-BA34D3AB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A9C65-DE1A-42B7-872C-D9F16166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3D7A2-6963-4726-8790-EAC3CF60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2EB20-2C48-4883-A0C0-3720086A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1DDAE-52B5-497D-932D-F709EA49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CBC1E-4F87-4353-A9B6-4E050661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9AB0C-861B-4382-9732-E7926EAD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F585F-89CD-41F6-98E1-AA1859FF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82F26-6D58-40E4-BE8E-F56F84BE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8CA1-564E-4FBA-81F6-8DE7948A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86374-E70B-4DC8-9A86-A59DA5FB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93699-4A6A-4998-84C3-F7618C10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6B9E0-1BDA-4BB7-AA52-5A5B0D6E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F3832-054D-41C5-A674-82E1B32C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7090A-D666-4BB9-B9C7-775CE329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44562-8E0C-4DD6-8C63-9BEEF416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3DA1A-843B-4E23-A359-7C7642C8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00842-90CE-41EB-AD1D-694F46DC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D716C-A444-458F-8EB2-3C625AD5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C7F5B-D8E3-43D7-8F36-3CEC3A35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AD7-63CC-493B-92D7-5A4BC832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D769B-5B32-47C6-9213-A73A0809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225F7-522F-4D84-87B2-E87BCC72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E8DE1-4B84-412C-887F-33858C63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A57CB-2CCE-4FE7-8CD0-7748DF02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8D09F-53D1-442F-9E5E-4066ED56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0A88C-16AE-46E3-9F6C-34EE84D1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DB143-383C-4150-A079-0F5822F9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2F50F-4C45-436C-A6AA-36A9962C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27C84-9482-4920-85D8-3B991465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4CCC0-4352-4D40-AA3E-4CB7EE17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DF68-26C0-4371-93E8-A9DF9906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8CF92-FF8C-46B2-814D-CDCCFB73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A622A-A6F8-4201-8763-D2EF538B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E0842-B489-4320-A5A5-9EE38AFE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CC33E-A835-4C7E-9E19-61D53F3F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03950-4941-4701-80C1-E7AF39AC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2A1BE-39CC-4A23-ABB4-3DF46C17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257E8-5594-4AFE-B5E7-1F7AC5EE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B3922-52B3-4BA6-8844-DCE607AB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D1ACF-EBC0-4E52-98C0-266CBC98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85533-7989-4526-981E-0930ACA7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2E83-1CD5-4597-9E5A-1D16E19D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C93EF-1D24-4A80-BBFE-2CF28BB5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F080B-0233-4F70-A72D-73A51F2E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5275D-5D66-4CE8-822A-D6CBA428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5767B-DB97-4908-99AE-F001080F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DE6EE-D9BE-4323-AC47-BCB22637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C91D3-3511-40FE-9EF6-8EA5A62F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E827B-46F4-4D6E-913E-3D37F42E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BDA18-882A-4A45-BCBC-41A12741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6CF69-AA1F-43AC-8635-D4CA9B8E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CCD48-4DFE-43AC-8904-CF50935B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2C2-AD57-498D-A1FF-B65B08BB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41D95-356C-4741-9C32-1318EA3A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E097B-FA31-477A-A622-5A3EB350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BBBBC-D42E-42C1-83C4-0F9E13BF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EFA0B-17BD-4C7F-BE93-D358845A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BCAB6-D024-4DCA-BCB0-528D6564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0EC52-019D-4D58-9C67-B67B1E74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D7038-088B-4683-8F78-46450DD2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A840F-CFC2-41BC-8A6C-9F770F41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CE5CF-F718-4E6A-8C51-FB8831F0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7EF5D-75DD-4340-A82B-6E33A383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3256-FAB7-4BEE-BA38-0A0215E1850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D09A-BCF4-4A9C-9770-337D93FB2D2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415F-003B-436E-95CB-E1CD5BFADCD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3492-86E0-4CC8-8C26-E0D6317D69A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E89F-3BFA-4E41-8974-F1123733E63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11F6-A0B9-46C8-9D2E-6F47A91380D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D4F1-00D9-4A75-8166-896A0E2D4DA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728E-2190-4271-8CBB-17AF4BFA08E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A08A-6154-4A50-AAB4-86C92322620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5BF8-5D78-44BC-9B7D-EDE5DC6996B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6120-29E5-4ADA-AEE3-D1D4F68EA8D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B830-BB64-4488-B5DF-D3FA296074E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5F69-14F4-45BA-8572-2E11816C14E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4284720" y="5300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esentación de Informac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28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sar escalas adecuadas (logarítmica, semi-logarítmica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ás ejemplos ver capítulo 9 lib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76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5 CuadroTexto"/>
          <p:cNvSpPr/>
          <p:nvPr/>
        </p:nvSpPr>
        <p:spPr>
          <a:xfrm>
            <a:off x="3008880" y="14288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fic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2"/>
          <a:stretch/>
        </p:blipFill>
        <p:spPr>
          <a:xfrm>
            <a:off x="2857680" y="1785960"/>
            <a:ext cx="5795640" cy="4071960"/>
          </a:xfrm>
          <a:prstGeom prst="rect">
            <a:avLst/>
          </a:prstGeom>
          <a:ln w="0">
            <a:noFill/>
          </a:ln>
        </p:spPr>
      </p:pic>
      <p:sp>
        <p:nvSpPr>
          <p:cNvPr id="579" name="7 CuadroTexto"/>
          <p:cNvSpPr/>
          <p:nvPr/>
        </p:nvSpPr>
        <p:spPr>
          <a:xfrm>
            <a:off x="3956400" y="600084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ciera que hay datos “anómalos” al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82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5 CuadroTexto"/>
          <p:cNvSpPr/>
          <p:nvPr/>
        </p:nvSpPr>
        <p:spPr>
          <a:xfrm>
            <a:off x="3027240" y="142884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camos algunos datos y graficamos otra ve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7 CuadroTexto"/>
          <p:cNvSpPr/>
          <p:nvPr/>
        </p:nvSpPr>
        <p:spPr>
          <a:xfrm>
            <a:off x="3938400" y="6000840"/>
            <a:ext cx="16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ce” 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2"/>
          <a:stretch/>
        </p:blipFill>
        <p:spPr>
          <a:xfrm>
            <a:off x="2571840" y="1785960"/>
            <a:ext cx="5929200" cy="4165560"/>
          </a:xfrm>
          <a:prstGeom prst="rect">
            <a:avLst/>
          </a:prstGeom>
          <a:ln w="0">
            <a:noFill/>
          </a:ln>
        </p:spPr>
      </p:pic>
      <p:sp>
        <p:nvSpPr>
          <p:cNvPr id="586" name="9 Rectángulo redondeado"/>
          <p:cNvSpPr/>
          <p:nvPr/>
        </p:nvSpPr>
        <p:spPr>
          <a:xfrm>
            <a:off x="428760" y="1785960"/>
            <a:ext cx="2143080" cy="2571840"/>
          </a:xfrm>
          <a:custGeom>
            <a:avLst/>
            <a:gdLst>
              <a:gd name="textAreaLeft" fmla="*/ 141480 w 2143080"/>
              <a:gd name="textAreaRight" fmla="*/ 2001600 w 2143080"/>
              <a:gd name="textAreaTop" fmla="*/ 141480 h 2571840"/>
              <a:gd name="textAreaBottom" fmla="*/ 2430360 h 2571840"/>
            </a:gdLst>
            <a:ahLst/>
            <a:rect l="textAreaLeft" t="textAreaTop" r="textAreaRight" b="textAreaBottom"/>
            <a:pathLst>
              <a:path w="21600" h="25921">
                <a:moveTo>
                  <a:pt x="4880" y="0"/>
                </a:moveTo>
                <a:arcTo wR="4880" hR="4880" stAng="16200000" swAng="-5400000"/>
                <a:lnTo>
                  <a:pt x="0" y="21041"/>
                </a:lnTo>
                <a:arcTo wR="4880" hR="4880" stAng="10800000" swAng="-5400000"/>
                <a:lnTo>
                  <a:pt x="16720" y="25921"/>
                </a:lnTo>
                <a:arcTo wR="4880" hR="4880" stAng="5400000" swAng="-5400000"/>
                <a:lnTo>
                  <a:pt x="21600" y="4880"/>
                </a:lnTo>
                <a:arcTo wR="4880" hR="4880" stAng="0" swAng="-5400000"/>
                <a:close/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89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5 CuadroTexto"/>
          <p:cNvSpPr/>
          <p:nvPr/>
        </p:nvSpPr>
        <p:spPr>
          <a:xfrm>
            <a:off x="3020760" y="142884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egamos curva de t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7 CuadroTexto"/>
          <p:cNvSpPr/>
          <p:nvPr/>
        </p:nvSpPr>
        <p:spPr>
          <a:xfrm>
            <a:off x="3950280" y="600084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sta” tiene buena 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2"/>
          <a:stretch/>
        </p:blipFill>
        <p:spPr>
          <a:xfrm>
            <a:off x="2579760" y="1768320"/>
            <a:ext cx="5921280" cy="416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95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5 CuadroTexto"/>
          <p:cNvSpPr/>
          <p:nvPr/>
        </p:nvSpPr>
        <p:spPr>
          <a:xfrm>
            <a:off x="3098160" y="142884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si graficamos en escala semi-logarítmica (en eje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7 CuadroTexto"/>
          <p:cNvSpPr/>
          <p:nvPr/>
        </p:nvSpPr>
        <p:spPr>
          <a:xfrm>
            <a:off x="3937680" y="60008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ce 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2"/>
          <a:stretch/>
        </p:blipFill>
        <p:spPr>
          <a:xfrm>
            <a:off x="2754360" y="1857240"/>
            <a:ext cx="5960880" cy="417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601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5 CuadroTexto"/>
          <p:cNvSpPr/>
          <p:nvPr/>
        </p:nvSpPr>
        <p:spPr>
          <a:xfrm>
            <a:off x="3036240" y="1428840"/>
            <a:ext cx="58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egando línea de tendencia exponencial, obten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uación con la que se originaron los 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2"/>
          <a:stretch/>
        </p:blipFill>
        <p:spPr>
          <a:xfrm>
            <a:off x="3071880" y="2071800"/>
            <a:ext cx="5000400" cy="3512880"/>
          </a:xfrm>
          <a:prstGeom prst="rect">
            <a:avLst/>
          </a:prstGeom>
          <a:ln w="0">
            <a:noFill/>
          </a:ln>
        </p:spPr>
      </p:pic>
      <p:sp>
        <p:nvSpPr>
          <p:cNvPr id="604" name="8 CuadroTexto"/>
          <p:cNvSpPr/>
          <p:nvPr/>
        </p:nvSpPr>
        <p:spPr>
          <a:xfrm>
            <a:off x="1785960" y="564372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ciona en general para datos con la forma y=a·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9 CuadroTexto"/>
          <p:cNvSpPr/>
          <p:nvPr/>
        </p:nvSpPr>
        <p:spPr>
          <a:xfrm>
            <a:off x="1857240" y="62118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cala log-log es aplicar esto a ambos ejes y funciona con datos de la forma y=a·x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log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9 CuadroTexto"/>
          <p:cNvSpPr/>
          <p:nvPr/>
        </p:nvSpPr>
        <p:spPr>
          <a:xfrm>
            <a:off x="857160" y="164304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scala log-log es análogo a lo anterior pero aplicando escala logarítmica a ambos ejes y funciona con datos de la forma y=a·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2714760" y="2500200"/>
            <a:ext cx="568296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29"/>
          <p:cNvSpPr/>
          <p:nvPr/>
        </p:nvSpPr>
        <p:spPr>
          <a:xfrm>
            <a:off x="1440000" y="2779560"/>
            <a:ext cx="7775280" cy="6494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1643040" y="1214280"/>
          <a:ext cx="7500960" cy="5384880"/>
        </p:xfrm>
        <a:graphic>
          <a:graphicData uri="http://schemas.openxmlformats.org/drawingml/2006/table">
            <a:tbl>
              <a:tblPr/>
              <a:tblGrid>
                <a:gridCol w="563760"/>
                <a:gridCol w="4005000"/>
                <a:gridCol w="2932200"/>
              </a:tblGrid>
              <a:tr h="250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e de Cáted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s, Planteamiento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via de Ide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en Cartón Pl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-Correc mod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de Datos - Gráf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2 -&gt;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Diseño-&gt; mejora planos (2/grup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de Afic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1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2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3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esentación de Información</a:t>
            </a:r>
            <a:br>
              <a:rPr sz="40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Cap.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te muy importante en un proyecto→ no descui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vertir” tiempo en comunicar correct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presentación Gráfica</a:t>
            </a:r>
            <a:br>
              <a:rPr sz="40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bjetivos (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Tufte, 1983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entar la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er al lector pensar en sustancia más que en metodología o en diseño grá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distorsionar  el mensaje de la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imular al ojo para que compare distintas partes de la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presentación Gráfica</a:t>
            </a:r>
            <a:br>
              <a:rPr sz="40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bjetivos (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Tufte, 1983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velar niveles de información, desde una mirada general a una f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ner un propósito claro (por ejemplo descripción, comparación, explo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grarlo con otras descripciones de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stribucione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chones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1857240" y="2428920"/>
            <a:ext cx="649944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8537760" cy="4143600"/>
          </a:xfrm>
          <a:prstGeom prst="rect">
            <a:avLst/>
          </a:prstGeom>
          <a:ln w="0">
            <a:noFill/>
          </a:ln>
        </p:spPr>
      </p:pic>
      <p:sp>
        <p:nvSpPr>
          <p:cNvPr id="556" name="1 Título"/>
          <p:cNvSpPr/>
          <p:nvPr/>
        </p:nvSpPr>
        <p:spPr>
          <a:xfrm>
            <a:off x="428760" y="142920"/>
            <a:ext cx="850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istribuciones  Comparadas de D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43040" y="5572080"/>
            <a:ext cx="71438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Arial"/>
              </a:rPr>
              <a:t>Comparación distribución en la educación media y en Ingeniería de la U.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paración de Valores para Distintas Categor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1"/>
          <a:stretch/>
        </p:blipFill>
        <p:spPr>
          <a:xfrm>
            <a:off x="0" y="2786040"/>
            <a:ext cx="4519440" cy="2714760"/>
          </a:xfrm>
          <a:prstGeom prst="rect">
            <a:avLst/>
          </a:prstGeom>
          <a:ln w="0">
            <a:noFill/>
          </a:ln>
        </p:spPr>
      </p:pic>
      <p:sp>
        <p:nvSpPr>
          <p:cNvPr id="560" name="6 CuadroTexto"/>
          <p:cNvSpPr/>
          <p:nvPr/>
        </p:nvSpPr>
        <p:spPr>
          <a:xfrm>
            <a:off x="5940360" y="200016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jo con escala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2"/>
          <a:stretch/>
        </p:blipFill>
        <p:spPr>
          <a:xfrm>
            <a:off x="4549680" y="2786040"/>
            <a:ext cx="4594320" cy="275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5" descr=""/>
          <p:cNvPicPr/>
          <p:nvPr/>
        </p:nvPicPr>
        <p:blipFill>
          <a:blip r:embed="rId1"/>
          <a:stretch/>
        </p:blipFill>
        <p:spPr>
          <a:xfrm>
            <a:off x="2714760" y="1785960"/>
            <a:ext cx="6373800" cy="383688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ries de Tiempo (Tendenci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3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2270160" cy="4078080"/>
          </a:xfrm>
          <a:prstGeom prst="rect">
            <a:avLst/>
          </a:prstGeom>
          <a:ln w="0">
            <a:noFill/>
          </a:ln>
        </p:spPr>
      </p:pic>
      <p:sp>
        <p:nvSpPr>
          <p:cNvPr id="565" name="8 CuadroTexto"/>
          <p:cNvSpPr/>
          <p:nvPr/>
        </p:nvSpPr>
        <p:spPr>
          <a:xfrm>
            <a:off x="3435120" y="57024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O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9 Flecha doblada hacia arriba"/>
          <p:cNvSpPr/>
          <p:nvPr/>
        </p:nvSpPr>
        <p:spPr>
          <a:xfrm>
            <a:off x="4857840" y="3071880"/>
            <a:ext cx="428400" cy="2857320"/>
          </a:xfrm>
          <a:custGeom>
            <a:avLst/>
            <a:gdLst>
              <a:gd name="textAreaLeft" fmla="*/ 0 w 428400"/>
              <a:gd name="textAreaRight" fmla="*/ 349560 w 428400"/>
              <a:gd name="textAreaTop" fmla="*/ 2801160 h 2857320"/>
              <a:gd name="textAreaBottom" fmla="*/ 2857680 h 2857320"/>
            </a:gdLst>
            <a:ahLst/>
            <a:rect l="textAreaLeft" t="textAreaTop" r="textAreaRight" b="textAreaBottom"/>
            <a:pathLst>
              <a:path w="428625" h="2857500">
                <a:moveTo>
                  <a:pt x="0" y="2801144"/>
                </a:moveTo>
                <a:lnTo>
                  <a:pt x="293291" y="2801144"/>
                </a:lnTo>
                <a:lnTo>
                  <a:pt x="293291" y="183357"/>
                </a:lnTo>
                <a:lnTo>
                  <a:pt x="214313" y="183357"/>
                </a:lnTo>
                <a:lnTo>
                  <a:pt x="321469" y="0"/>
                </a:lnTo>
                <a:lnTo>
                  <a:pt x="428625" y="183357"/>
                </a:lnTo>
                <a:lnTo>
                  <a:pt x="349647" y="183357"/>
                </a:lnTo>
                <a:lnTo>
                  <a:pt x="349647" y="2857500"/>
                </a:lnTo>
                <a:lnTo>
                  <a:pt x="0" y="28575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10 CuadroTexto"/>
          <p:cNvSpPr/>
          <p:nvPr/>
        </p:nvSpPr>
        <p:spPr>
          <a:xfrm>
            <a:off x="5292360" y="620244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O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11 Flecha doblada hacia arriba"/>
          <p:cNvSpPr/>
          <p:nvPr/>
        </p:nvSpPr>
        <p:spPr>
          <a:xfrm>
            <a:off x="6715080" y="3571920"/>
            <a:ext cx="428760" cy="2857320"/>
          </a:xfrm>
          <a:custGeom>
            <a:avLst/>
            <a:gdLst>
              <a:gd name="textAreaLeft" fmla="*/ 0 w 428760"/>
              <a:gd name="textAreaRight" fmla="*/ 349920 w 428760"/>
              <a:gd name="textAreaTop" fmla="*/ 2801160 h 2857320"/>
              <a:gd name="textAreaBottom" fmla="*/ 2857680 h 2857320"/>
            </a:gdLst>
            <a:ahLst/>
            <a:rect l="textAreaLeft" t="textAreaTop" r="textAreaRight" b="textAreaBottom"/>
            <a:pathLst>
              <a:path w="428625" h="2857500">
                <a:moveTo>
                  <a:pt x="0" y="2801144"/>
                </a:moveTo>
                <a:lnTo>
                  <a:pt x="293291" y="2801144"/>
                </a:lnTo>
                <a:lnTo>
                  <a:pt x="293291" y="183357"/>
                </a:lnTo>
                <a:lnTo>
                  <a:pt x="214313" y="183357"/>
                </a:lnTo>
                <a:lnTo>
                  <a:pt x="321469" y="0"/>
                </a:lnTo>
                <a:lnTo>
                  <a:pt x="428625" y="183357"/>
                </a:lnTo>
                <a:lnTo>
                  <a:pt x="349647" y="183357"/>
                </a:lnTo>
                <a:lnTo>
                  <a:pt x="349647" y="2857500"/>
                </a:lnTo>
                <a:lnTo>
                  <a:pt x="0" y="28575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parar Datos Experimentales y Te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6608880" cy="46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7:05:07Z</dcterms:created>
  <dc:creator>Uchile</dc:creator>
  <dc:description/>
  <dc:language>en-US</dc:language>
  <cp:lastModifiedBy>kelorza</cp:lastModifiedBy>
  <dcterms:modified xsi:type="dcterms:W3CDTF">2010-10-12T19:52:21Z</dcterms:modified>
  <cp:revision>26</cp:revision>
  <dc:subject/>
  <dc:title>Diapositiva 1</dc:title>
</cp:coreProperties>
</file>