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0754-9847-47D1-AF49-0DC242558F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A061-7C54-4C9F-BCDE-C258C74191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206C465F-E159-4675-8B32-FED7E2EF6EB3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E018-25CA-478B-9957-DF1D7CC8A2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6C03-8DA3-4FC0-90EB-7CF47C7812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3529-9FC9-48E9-89F4-7C88D8737C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BD6E-0EEC-4634-B6E4-AE568444A8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54AC-76F6-455B-9C69-1FE30D3B09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CA06-A492-4FC0-A71A-268F066402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6BB6-93A8-4930-8389-1971A34CA9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6F7A-19D8-4C1F-AAFC-2ADF717510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4C81-7E32-4C31-A7EB-E670557CA6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447-3342-4B3F-A69E-AF54A3EA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DF3-88E1-4B5D-ABA7-279DF8F3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7F2C2-CA8F-44BB-A1A6-102C3A76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AD12D-D248-4D62-9493-D97256CF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7596B-2E28-4D56-80C2-054C285F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653F1-2B80-40F6-B556-D4822E5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08E24-6D25-439E-AE03-69BAA22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C6F53-C111-4273-886D-CBA96133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264D6-A080-4B1C-B7D1-8711C064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41CA9-E8C5-45CE-A96E-79EA3C2A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B8984-E9FB-4B0E-95A7-6CD85364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7598A-01FB-4EC7-A69A-99656D55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88F-0DDA-4559-B664-6DE6774B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FDB1A-325D-4A8E-BBCD-490967BA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F5746-88FD-4A48-9161-3ABEDAE9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1E73A-637E-4A63-A572-F1F47B7A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E68D7-3B3F-4C1B-9B55-641502A1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4D93C-0CBC-48EB-A054-501B9BE6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A822E-573D-4B55-B807-67890454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B70ED-8928-48E9-95B6-33F8C301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7A7E0-99A6-4685-B530-6A293A0E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4C450-C968-41B9-8D34-5CAD1AA4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9BF40-1024-4A9A-921B-E7A6E863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379-C39F-44E9-976E-902556C6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C4FB1-6DEC-47A5-BECE-7F4317B7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EC858-DE7E-48C8-A654-3F5C6C73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5ECA1-6135-4D17-AFA2-F21A52B8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9FF52-1776-4C29-91F5-93B624C6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19C52-474F-45B3-90DA-26E7D166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A7FED-51FA-4583-808F-EFD7AAF7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7CBEC-3150-4EBD-8C1E-E01BE9E8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89492-496D-480D-A61D-B9114F9A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7922A-CB39-43CC-8359-933BF309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34319-9DBC-4B17-835F-CAFDF12E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FB2E-D75A-4A1E-8CDE-49D42531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EA6CE-A5CB-4705-B95C-ED49D5DA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60D83-4204-4FE7-9D72-A68FFFDD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D7CDD-EBF6-42CC-8056-283D11D5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32778-4B69-43A7-8589-16BC8EAB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268A0-9E95-4B4E-9BF3-9A669F3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A1901-38B7-4468-B5D9-6831AAE9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50C8F-BCC6-4669-9F4A-D484E74E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E784E-70F7-47EC-9324-5E2A86A0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9395D-D8C9-4FEC-A4E2-EF64BA9C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78B94-766B-412E-A88F-CD242BA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2F2-DC1B-458A-B124-9269FD0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5458B-92E5-419B-98EE-81861504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EE487-14EE-419B-A9B8-5C787AD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90FBF-E473-4785-B52E-37F36DED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ECD9A-F171-4D86-BCE2-31C4B31F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9DEB3-2DA7-4DD5-A216-7FFB7824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7E389-EDA9-4333-A617-632EC50B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9F17D-56F6-4402-A875-28E84F7F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6C2EA-E0CA-4801-8DD6-FE384DB7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9AA8C-4D1F-4082-B0E9-393C2455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2A7AB-D32D-4AE8-992B-E868F274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97CE-BC0F-4FDE-9736-369D874D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F11B2-79FA-460F-A65E-A618C81C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01169-436E-4866-8BE3-DA472E2F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8018D-C341-4B7A-B6D9-4117179B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9F70C-6E6B-48F6-AB40-6E9DF420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841D1-9B6D-4B5F-B87F-257AF044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F280A-0CEF-4E3A-9739-6DF5F970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57897-6E4A-4D6E-A6D1-78A42463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D8DE-C8A2-4DD5-95E4-92DE13C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CA6F-5953-4DE7-919F-95F991B5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FDC4-AE42-4FAC-8887-1F71A1B1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AADD-74DA-464B-BFFF-5814902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1BB-92A3-4360-9B06-69340EEF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046E-08D8-4409-8747-1D935A1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5252-4DD4-4B9D-9520-52FD169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C014-923E-4DF2-BA48-DBD4CFC0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0D53-6419-4C4E-82EB-DD5F76F2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3F0-71BC-4916-A3EF-7D5155C8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1DBC-6E2C-4ACC-9D14-EC0973D3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E8D9-391E-4675-8D89-D7C6630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C415-DE75-4C7C-A077-B78B8DFF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6762-7EF1-4864-8F93-702FE1A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41C1-0DC9-4812-855C-E6546F20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DEA-CFC5-46C9-BD4D-744329CF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DFB6-297F-42C3-908A-CA301D3A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0D19-E3CD-4870-A09A-2CDFACBF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2F47-AE92-4285-A8AF-09A9B84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B237E-9C2A-4B31-848E-C5480A33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7CFF-D68B-4BA3-A00E-2CD53A1E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DA58-04DF-4857-9532-A74DCFB5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6D32-D047-48BA-9A28-07307A1D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DAF95-D068-4A99-8EAC-D753BFD9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B754-D5BA-4700-A63B-265345B8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44A9-955B-4B36-98E6-D90548A3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EF0-AA46-4998-A796-A140AA08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2C8D-E12B-48C7-83D3-6F686F8C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82F4F-1F03-4008-9756-37AC9997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DDCB1-2445-4FF4-8609-0FF61578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FA73F-97F9-474A-8A91-BA935BC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846B-F980-4083-98F7-D7E9ECB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A06A-70A3-47C7-A683-D1FAF6BE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CA5F7-EE51-4A02-87DF-4FF6925B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C967C-E553-4BFD-9692-B605C95D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9D53-1F22-4B8D-93EA-3A8AE57C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E868-68C5-493E-AD6F-1F642B50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151-A2FE-4AE8-8628-07B6FBE6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0567B-C05B-4D6F-B281-C9873B4F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F7F0-CA2B-49DC-B12F-9533AD41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FF47-7379-4DF7-8C15-DBA64DDC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6973-A350-462F-B7AB-FAC2111C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B7AA-AEA5-40C1-A18B-891A3474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30751-0601-439D-839A-8F4C8A26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9DC33-568A-4EDE-8887-2330166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4CA5C-9A68-4F39-8573-B7E532B1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2A15E-29A8-4383-B549-C24062D8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0F86-DC2A-4D53-B707-81DD7CCA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DFB-15A1-4B29-92EB-134C23EB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CAF9A-CCDC-47E2-93B5-2175CC6B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D6761-AD12-436F-91A2-A33AD6BB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8C94A-E6EE-4CA7-9BB6-85DF26D3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A255-4A67-40F9-923D-01989C6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9C73-8719-45B7-A872-9F415BB0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B217-C95B-41CE-B790-C4710285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28346-6706-4F1A-B163-CCA23A81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75488-4AE1-4160-9080-75D5BD0A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A6D5-9FA3-404B-A0C6-5F870AD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835B-CC87-468F-8D6E-2506B8FB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6BB-7EE9-4B4D-8760-8FC67879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49BD-C59A-481B-8375-6D8D9BF5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05491-1676-473A-815C-E2E1A669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91D92-F2AE-439E-B461-38A271E0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7007-5E48-405C-AF23-13CCF31E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A78DE-5955-4C33-9915-234F26ED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74B33-F04A-4FD6-8D21-36DA5488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36BD7-6EE3-40DE-AFA3-A8D442F7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4E3B2-977A-4C15-BC84-26F67545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EFF8-1FBC-4D71-BE84-99719E0E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E3371-C037-4B29-B192-1E98B77E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B01-B451-43ED-A1F7-B1EA2BA1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17D9C-1850-4541-9F64-3463A707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0B98D-1CFE-404F-8BDF-066A92EE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C19AE-A85B-4B2D-BB2A-3804403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8A5BD-3432-45AA-885C-B6A23450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8399F-CD84-404E-AB7B-CAFCACF7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9D719-4DAC-47D9-AB18-6C7F70DD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638C1-EFBF-41BB-AF1F-0D650CC4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E8D61-A84B-4147-B77A-2DFBD678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366B8-FC11-4945-97A4-B6FAFE40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158A2-9BD6-4CA9-B740-E4A7C530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EA1-4D04-4412-872A-9584C50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F096B-95C2-462D-ACEB-59FF4C83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E4071-47E9-49B9-B91B-C36F589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F355F-82FD-4672-ACB6-B7FCDBF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8417C-9143-401B-A08F-D7E55E9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7B676-0F15-47E3-AC59-5660DA08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267E4-73F5-4795-B08E-27B620B6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81A3D-2F88-4BE7-9F72-82AC726F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6BC0B-0C91-4BEA-88DA-66421CE2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A5A79-6C62-4F62-AA60-05472605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891AF-3FA6-494C-8145-3FECD1AE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520-6FE8-4423-AA67-14123A0158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4A24-F4AA-4AAB-ABD7-50B7D404038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1393-664B-4CD1-9123-838ADB424B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798-6C36-442D-8EAA-E13C8C4FD6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D185-1972-4FAA-8205-3B87191E37F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B5E3-F7A9-401D-BD39-C4BFFB10727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9DC7-135F-41B1-A9A9-5E0ECE7F02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0D55-2445-4766-80E8-6E4B1326B96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D4F2-B84E-4679-A6A3-DF073CE06A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1E2C-BD50-4292-9814-041C26D7894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C323-3235-441B-9A81-9E9562969D0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47B9-4CEF-4A6D-8DA4-30CFE00E40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40FA-A283-436D-B3E0-9349150A46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r escalas adecuadas (logarítmica, semi-logarítmic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ejemplos ver capítulo 9 lib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76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CuadroTexto"/>
          <p:cNvSpPr/>
          <p:nvPr/>
        </p:nvSpPr>
        <p:spPr>
          <a:xfrm>
            <a:off x="3008880" y="14288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2857680" y="1785960"/>
            <a:ext cx="5795640" cy="40719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3956400" y="600084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iera que hay datos “anómalos” 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2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5 CuadroTexto"/>
          <p:cNvSpPr/>
          <p:nvPr/>
        </p:nvSpPr>
        <p:spPr>
          <a:xfrm>
            <a:off x="3027240" y="142884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mos algunos datos y graficamos otra v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7 CuadroTexto"/>
          <p:cNvSpPr/>
          <p:nvPr/>
        </p:nvSpPr>
        <p:spPr>
          <a:xfrm>
            <a:off x="3938400" y="600084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”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2571840" y="1785960"/>
            <a:ext cx="5929200" cy="4165560"/>
          </a:xfrm>
          <a:prstGeom prst="rect">
            <a:avLst/>
          </a:prstGeom>
          <a:ln w="0">
            <a:noFill/>
          </a:ln>
        </p:spPr>
      </p:pic>
      <p:sp>
        <p:nvSpPr>
          <p:cNvPr id="586" name="9 Rectángulo redondeado"/>
          <p:cNvSpPr/>
          <p:nvPr/>
        </p:nvSpPr>
        <p:spPr>
          <a:xfrm>
            <a:off x="428760" y="1785960"/>
            <a:ext cx="2143080" cy="2571840"/>
          </a:xfrm>
          <a:custGeom>
            <a:avLst/>
            <a:gdLst>
              <a:gd name="textAreaLeft" fmla="*/ 141480 w 2143080"/>
              <a:gd name="textAreaRight" fmla="*/ 2001600 w 2143080"/>
              <a:gd name="textAreaTop" fmla="*/ 141480 h 2571840"/>
              <a:gd name="textAreaBottom" fmla="*/ 2430360 h 2571840"/>
            </a:gdLst>
            <a:ahLst/>
            <a:rect l="textAreaLeft" t="textAreaTop" r="textAreaRight" b="textAreaBottom"/>
            <a:pathLst>
              <a:path w="21600" h="25921">
                <a:moveTo>
                  <a:pt x="4880" y="0"/>
                </a:moveTo>
                <a:arcTo wR="4880" hR="4880" stAng="16200000" swAng="-5400000"/>
                <a:lnTo>
                  <a:pt x="0" y="21041"/>
                </a:lnTo>
                <a:arcTo wR="4880" hR="4880" stAng="10800000" swAng="-5400000"/>
                <a:lnTo>
                  <a:pt x="16720" y="25921"/>
                </a:lnTo>
                <a:arcTo wR="4880" hR="4880" stAng="5400000" swAng="-5400000"/>
                <a:lnTo>
                  <a:pt x="21600" y="4880"/>
                </a:lnTo>
                <a:arcTo wR="4880" hR="4880" stAng="0" swAng="-5400000"/>
                <a:close/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9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uadroTexto"/>
          <p:cNvSpPr/>
          <p:nvPr/>
        </p:nvSpPr>
        <p:spPr>
          <a:xfrm>
            <a:off x="3020760" y="14288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mos curva de t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7 CuadroTexto"/>
          <p:cNvSpPr/>
          <p:nvPr/>
        </p:nvSpPr>
        <p:spPr>
          <a:xfrm>
            <a:off x="3950280" y="60008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sta” tiene buena 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2"/>
          <a:stretch/>
        </p:blipFill>
        <p:spPr>
          <a:xfrm>
            <a:off x="2579760" y="1768320"/>
            <a:ext cx="592128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5 CuadroTexto"/>
          <p:cNvSpPr/>
          <p:nvPr/>
        </p:nvSpPr>
        <p:spPr>
          <a:xfrm>
            <a:off x="3098160" y="142884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si graficamos en escala semi-logarítmica (en eje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 CuadroTexto"/>
          <p:cNvSpPr/>
          <p:nvPr/>
        </p:nvSpPr>
        <p:spPr>
          <a:xfrm>
            <a:off x="3937680" y="60008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2754360" y="1857240"/>
            <a:ext cx="596088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601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5 CuadroTexto"/>
          <p:cNvSpPr/>
          <p:nvPr/>
        </p:nvSpPr>
        <p:spPr>
          <a:xfrm>
            <a:off x="3036240" y="1428840"/>
            <a:ext cx="58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ndo línea de tendencia exponencial, obten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con la que se originaron los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3071880" y="2071800"/>
            <a:ext cx="5000400" cy="3512880"/>
          </a:xfrm>
          <a:prstGeom prst="rect">
            <a:avLst/>
          </a:prstGeom>
          <a:ln w="0">
            <a:noFill/>
          </a:ln>
        </p:spPr>
      </p:pic>
      <p:sp>
        <p:nvSpPr>
          <p:cNvPr id="604" name="8 CuadroTexto"/>
          <p:cNvSpPr/>
          <p:nvPr/>
        </p:nvSpPr>
        <p:spPr>
          <a:xfrm>
            <a:off x="1785960" y="5643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en general para datos con la forma y=a·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9 CuadroTexto"/>
          <p:cNvSpPr/>
          <p:nvPr/>
        </p:nvSpPr>
        <p:spPr>
          <a:xfrm>
            <a:off x="1857240" y="6211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log-log es aplicar esto a ambos ejes y funciona con datos de la forma y=a·x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log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CuadroTexto"/>
          <p:cNvSpPr/>
          <p:nvPr/>
        </p:nvSpPr>
        <p:spPr>
          <a:xfrm>
            <a:off x="857160" y="164304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cala log-log es análogo a lo anterior pero aplicando escala logarítmica a ambos ejes y funciona con datos de la forma y=a·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568296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29"/>
          <p:cNvSpPr/>
          <p:nvPr/>
        </p:nvSpPr>
        <p:spPr>
          <a:xfrm>
            <a:off x="1440000" y="2779560"/>
            <a:ext cx="777528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Cap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e muy importante en un proyecto→ no descui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ertir” tiempo en comunicar correc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r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al lector pensar en sustancia más que en metodología o en diseño grá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orsionar  el mensaje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imular al ojo para que compare distintas partes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velar niveles de información, desde una mirada general a una f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ner un propósito claro (por ejemplo descripción, comparación, explo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rlo con otras descripciones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tribucione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hone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857240" y="2428920"/>
            <a:ext cx="64994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37760" cy="4143600"/>
          </a:xfrm>
          <a:prstGeom prst="rect">
            <a:avLst/>
          </a:prstGeom>
          <a:ln w="0">
            <a:noFill/>
          </a:ln>
        </p:spPr>
      </p:pic>
      <p:sp>
        <p:nvSpPr>
          <p:cNvPr id="556" name="1 Título"/>
          <p:cNvSpPr/>
          <p:nvPr/>
        </p:nvSpPr>
        <p:spPr>
          <a:xfrm>
            <a:off x="428760" y="14292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tribuciones  Comparadas de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3040" y="5572080"/>
            <a:ext cx="71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Comparación distribución en la educación media y en Ingeniería de la U.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ción de Valores para Distintas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0" y="2786040"/>
            <a:ext cx="4519440" cy="2714760"/>
          </a:xfrm>
          <a:prstGeom prst="rect">
            <a:avLst/>
          </a:prstGeom>
          <a:ln w="0">
            <a:noFill/>
          </a:ln>
        </p:spPr>
      </p:pic>
      <p:sp>
        <p:nvSpPr>
          <p:cNvPr id="560" name="6 CuadroTexto"/>
          <p:cNvSpPr/>
          <p:nvPr/>
        </p:nvSpPr>
        <p:spPr>
          <a:xfrm>
            <a:off x="5940360" y="20001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jo con escal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2"/>
          <a:stretch/>
        </p:blipFill>
        <p:spPr>
          <a:xfrm>
            <a:off x="4549680" y="2786040"/>
            <a:ext cx="459432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2714760" y="1785960"/>
            <a:ext cx="6373800" cy="38368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ries de Tiempo (Tendenci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2270160" cy="4078080"/>
          </a:xfrm>
          <a:prstGeom prst="rect">
            <a:avLst/>
          </a:prstGeom>
          <a:ln w="0">
            <a:noFill/>
          </a:ln>
        </p:spPr>
      </p:pic>
      <p:sp>
        <p:nvSpPr>
          <p:cNvPr id="565" name="8 CuadroTexto"/>
          <p:cNvSpPr/>
          <p:nvPr/>
        </p:nvSpPr>
        <p:spPr>
          <a:xfrm>
            <a:off x="3435120" y="57024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9 Flecha doblada hacia arriba"/>
          <p:cNvSpPr/>
          <p:nvPr/>
        </p:nvSpPr>
        <p:spPr>
          <a:xfrm>
            <a:off x="4857840" y="3071880"/>
            <a:ext cx="428400" cy="2857320"/>
          </a:xfrm>
          <a:custGeom>
            <a:avLst/>
            <a:gdLst>
              <a:gd name="textAreaLeft" fmla="*/ 0 w 428400"/>
              <a:gd name="textAreaRight" fmla="*/ 349560 w 42840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0 CuadroTexto"/>
          <p:cNvSpPr/>
          <p:nvPr/>
        </p:nvSpPr>
        <p:spPr>
          <a:xfrm>
            <a:off x="5292360" y="6202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1 Flecha doblada hacia arriba"/>
          <p:cNvSpPr/>
          <p:nvPr/>
        </p:nvSpPr>
        <p:spPr>
          <a:xfrm>
            <a:off x="6715080" y="3571920"/>
            <a:ext cx="428760" cy="2857320"/>
          </a:xfrm>
          <a:custGeom>
            <a:avLst/>
            <a:gdLst>
              <a:gd name="textAreaLeft" fmla="*/ 0 w 428760"/>
              <a:gd name="textAreaRight" fmla="*/ 349920 w 42876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r Datos Experimentale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6088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kelorza</cp:lastModifiedBy>
  <dcterms:modified xsi:type="dcterms:W3CDTF">2010-10-12T19:52:21Z</dcterms:modified>
  <cp:revision>26</cp:revision>
  <dc:subject/>
  <dc:title>Diapositiva 1</dc:title>
</cp:coreProperties>
</file>