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3E75-A48A-44F0-89B8-AD104C3166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EADF-B127-4D66-8E8F-5BA55E41C8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6C67D21E-05CF-4B25-AAAE-F7C429693216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94E7-D5E5-48BA-B033-C1BF64EF15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260A-1636-4716-BD4B-CBF4A4558D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98DE-835F-423C-BB0B-D3AC284A65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CA90-E4B6-4989-9A4B-17D684FDF3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AC1-79D0-49D1-9B2C-08C1550689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92C2-1278-4FBE-9397-EFFB484DBEC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8354-C81E-4F1E-890C-9B0FCB50CF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674F-A35C-4A91-A42E-8A8BDB5002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1B65-AB90-48B7-BB65-40CF042E1A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E6B-8FA3-4B23-9F4E-8FD3D45A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038-E48C-48CD-BDEE-BD2B258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04E1-F654-4682-B7C2-C0F39704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7344B-2278-47A5-8DD0-E329C50A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054E6-9A9F-4886-8E1E-36AC38F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44EEC-FD6B-4B11-9FB9-0A0A7B0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89F57-C9FC-4FD0-9296-DC4EE2C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2B8C6-EABB-4238-B086-DFCE251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D1D2A-E7D5-49AC-8E74-ADA7201D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04822-2CB9-4E28-880C-EF4FEC4D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7B17F-5372-4374-8FA7-09DA38AC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949D1-E9E2-4604-B4D7-5A65D03B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23F-7C2D-480E-96B8-1CF4083D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79201-4CF3-420B-BB6C-31002FA6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2E4BB-14A3-4682-9877-9D887EC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34104-B78C-4577-A638-D445DEE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6106C-9317-476D-A9BE-7787D557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71C1A-119E-4E4F-B408-817F4476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AEA0A-8B47-40C2-976D-7C2A740F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C054F-85A7-4A67-AD2A-E7D142A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DCA5E-8E43-41FA-9DA5-B210A85D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2EB16-5F23-4DAF-B701-A195D77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27DB9-5B65-433A-A091-47A184A4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29A-9F54-4BEF-9F51-355B304D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3C850-38F5-47E7-B391-B9A91242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2A6A2-1582-4684-8A72-E20634DB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7CB1D-9E26-4558-AAA2-7B9AFF3F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1F3E9-795E-46A1-830B-A4A0FF8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E77E-46C7-4994-A090-71A3BA7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CCE91-C46D-495C-AEDA-79B846A6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9A675-CA5E-4FFE-B5D0-ECEAE666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68F2A-D8C1-4C18-90A9-33D0F62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2424-DEA2-4E4D-8F18-9A4B61F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B8163-7841-4AE1-9820-27BF8BC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11A3-D093-425A-B7BF-29E005FD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D812-C3BE-4A2C-BDB9-E7DB8DD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AD0E3-7416-4D1D-8660-0CE3C7AC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391DB-18BE-4ED1-B71B-D3B7A15B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12789-41FE-40B0-9B09-66DF716E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40182-AE20-42D5-888B-EB3EB57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D0614-8B95-4310-A3D9-C3685BA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4F207-FEFF-450C-B93D-2AFB7E97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E5397-3BBE-44E3-906B-B05C3FB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ED889-7B24-4F86-B648-B8AA2C8F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B7DFF-AE75-4B57-82B1-5BEC5AE2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06CE-073D-4FF0-99DE-9019FBFE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47167-D784-4A0F-B205-170FBCA7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189DD-4235-4280-84E8-6BF2B04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41E29-77C1-487A-B2A0-0C535322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ADB59-89BE-4094-9A51-308F7587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A72EC-8CC1-492F-B99D-FFFD069F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63CF58-E467-49C1-B907-7C6C3503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02A99-E475-43C6-954F-FCDDD99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9241C-F06A-4926-BD79-463EE1F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36F0D-40EF-4EFD-8034-B1F1CC29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D3E44-6BD4-4EF5-9022-F6BEEBFE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140D-C390-46A4-8A23-B0B7B15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CA504-9EF8-4E19-B7E4-8B15AE19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EE06D-81B3-4B44-9666-64BBE5D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7A527-2BF7-48CB-B659-550A6B8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8D0FF-1841-4F31-A606-2314416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0D279-82E1-4501-81DA-7155F38F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F332E-F8B5-4040-9BD8-C7B59E28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0345F-6497-4595-AB6B-115FE29C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4437-5DCF-4158-B316-47FA1D6B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FA2-B725-4D1A-80C2-B23E645F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679F-A47D-4D38-9DBD-5DADCC52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D8B2-DD81-4EFF-A73D-75793905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6AC-7AAB-4F85-8751-0ACF616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79AA-5759-41A6-8E94-6FB0220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3A85-95D3-4A3D-96B8-0FBC9A15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9C0C-BB00-4968-B10C-95EC3AC4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29E6-A0C9-4105-93A8-0EBBE2CF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C363-49DB-435E-9B9A-CD19A9EF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6849-975E-4C52-9696-0B37F157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00EC-1FC3-4EB7-A46C-F3F8523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2B07-2BC0-4019-AB7E-3099B597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0E39-4968-46D3-9020-D1A0A871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8BE1-DF3E-4B26-992F-0337B6AC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137-A3C9-4314-ABD2-114B0061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01DE-AD0C-4BD6-9AF8-02888F7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1F59-07B4-44B7-920E-5005CE57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2622-AC8D-4C8A-A3B7-67FC8BA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5BCF-5D9B-4095-897E-26E3D43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D6C2F-88E0-4B6B-AE4B-5573E207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65B3A-C837-468C-BFAC-1DEFD01C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1FA8-4AD9-4CC3-8144-C537FB75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B35F-8D63-4175-B880-A0343CF0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51EB-4DFE-45C8-8C77-C3746F79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4F98-6A95-479C-BC86-1829304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FED-05DF-46CE-AB23-322C53C7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81C8-A882-4661-8AB3-475F90CD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B8DE-C8B6-46A3-8A33-9556D494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1C9A-4CD5-4212-AF52-8FE70C9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51985-5789-4C0E-BA2D-F2D8A71B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0AD38-E9BF-484D-8A6E-FA1C37A2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B8467-2A5E-4737-8567-FFEBB82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2C069-C044-4849-8616-7D9A2ABA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BA9E-B3B2-4C49-AC4C-F89A2BB2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F174B-D00D-4A4B-9C4C-80C9F3B9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DB67-FCD3-4791-9B59-CBD268BD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C9C-5644-4471-B4D3-6E771BE1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4519B-502E-43D3-B536-9696402D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5D9E-98C7-4458-8011-80DCCC60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008D-5E12-4C2A-90E8-9C5A95B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36B4B-C601-40F9-BF40-62520E48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BA09-B0CE-46AE-B743-9DE743EE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FE28-8124-467B-B7C1-B1522DA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3785-9EB3-4A5D-B05B-E2048F4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34E4-05B9-46D5-A86A-04814C5E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C2BA1-3EA5-4E91-A8E4-89898F07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21BC-EE30-4D27-8A37-99C11C6B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A22-FCDE-43DC-8AC3-A44D6193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E041-928D-4C18-AF1D-4B31A55C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9A32-E1DE-4AA9-8EAD-D4E087F3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2C1E-F44B-4524-A08F-C1471700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8FF83-B4E9-4C95-A1B2-E8A29A4E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50F75-E1D1-430F-B154-9F16276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614C-C1D0-44B2-A8A8-01C75D91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19A03-C377-42DE-B5FF-D78C6091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7A316-73F2-4526-9FBC-436449E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E8A3-C6DC-44B1-A3AB-C412DE1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9979-1B75-4272-9E31-31833090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04F-6B54-46A3-B2E1-A95FC70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905E0-BB84-4178-A81B-4463C73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8931B-14B6-4D53-8BFE-28D16D30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7D3A8-C9A1-4E3A-A142-12803FE5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E062B-A76F-40BD-974D-58ACECE8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A384B-903D-40A7-8D2B-C15DD07A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DD589-5D92-4FE8-9D36-31F151FA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E85AA-009F-4349-857B-A47BAF61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BF5D-AB30-4A61-A7AA-6D4402D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A78C1-2E21-49E3-B0A9-E4F5AE18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67D9-EF2F-4EA0-A9D6-F5464C5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C1B-2A82-425C-A050-134FBEA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CC44-FF7D-4C91-9DD8-91BEE51E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AE3E-8E6B-407B-A8C7-EFFC774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DAD6B-91B1-458B-A204-C4A733BF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7DFB-B621-45D8-9B8D-003B1074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2E5FD-E469-400D-81BD-8806974F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90E3A-A1E2-4D4F-AF51-BEB0CDC6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2AB80-2D49-432D-9A70-7106B83F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60DF6-F3C0-45C0-9ACA-88E71981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4297-E169-40FC-98F5-4E909A6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036D-CBC0-4E77-B3F9-12E30576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B80-F5E2-4AAA-B73D-D1D9ABA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FC50-11CC-458E-986C-94399AB6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CFFBF-7F74-437A-89DF-FF5336F2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D9B8D-3830-4783-A9AC-185F961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07CC-5A94-40DF-BF94-98DD6823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64EB-97E2-4496-BDD7-193BB974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594BC-2447-4AF6-94CA-938FA7A9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49367-37ED-4EA7-ACA3-2CF5E90E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D8E95-702E-464C-805A-0BF23449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2450C-5F78-43BA-A5CA-9A0F72A2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3EDD8-FED8-4306-8B6B-2E72E57C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244-DB07-458E-8850-8585AE427A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F1D-C834-418E-B601-DF500BE3BD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D4AC-E2EB-441E-9BD1-D647186C4F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116-C7D6-4727-AB1A-D10D50B330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5470-6518-4921-916B-9D32B75EE3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FB8-3F55-4248-8A81-A605E825844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F5D5-2559-4DCF-84AB-3026BA2E46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9CA-0C9C-4EF8-B1C1-FF337B2D675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3C80-02DD-4BBA-993F-2B7AFD443C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2556-B17C-4337-A416-52154E413F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D725-248B-4959-9C95-61404DE2FB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86A2-1371-4294-8E92-A6F6C39024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09AA-2628-4B3B-88DA-87561744F8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08880" y="14288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29"/>
          <p:cNvSpPr/>
          <p:nvPr/>
        </p:nvSpPr>
        <p:spPr>
          <a:xfrm>
            <a:off x="1440000" y="2779560"/>
            <a:ext cx="777528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kelorza</cp:lastModifiedBy>
  <dcterms:modified xsi:type="dcterms:W3CDTF">2010-10-12T19:52:21Z</dcterms:modified>
  <cp:revision>26</cp:revision>
  <dc:subject/>
  <dc:title>Diapositiva 1</dc:title>
</cp:coreProperties>
</file>