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E59B-5D16-46C1-9EF5-35468BA55C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77F-E9DD-4248-828A-09C9C67893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7919DBB-CB36-4146-9D41-DBE233F0EA70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2E7C-4605-45D5-8A54-6B87405460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E5CA-485F-4D42-9E69-26F0C6E5C6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6014-A49C-4DCC-9EC5-241314A37C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416-7212-495D-9CB2-250891A8A6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36EB-3721-435D-B0A4-9E3638F911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47BA-D407-497A-9D1F-9222681946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9DC-D6E8-40D2-97F7-100EC393BC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3FD-1A81-40B1-8E99-7BBEAFD653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F93-A2F5-4A81-AF27-B770A6F75C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9FB-142C-495C-8CB6-D9737179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02D-9C65-48A9-9F95-3E40B3A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CB193-F835-4AB7-B908-D53033A0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C8FA0-8444-47A2-9B51-A182AAD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D7C8C-203D-484D-9CD7-175C46CF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7A02-9AD9-4E2B-A53F-0BAD3F3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56B28-888E-4989-9525-5A8E8944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77857-3C54-42BC-A1C9-34FBD42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69FF1-482E-4762-A528-594A5775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A76D-B9DA-4F3E-8EA4-F7F33514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FE27A-7AE5-451E-8831-CC0308FF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C7AE3-FF16-4015-86FC-495DB97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B0D-B318-46D5-8020-B3982D35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98E8B-F983-4EF9-B9F3-981F0D2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4F931-C316-4ED4-A76A-24857B88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220D3-D292-4EAB-A4E0-C3B6FCB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CF85A-86A6-4544-ABBA-3E0E792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D8BD4-78E7-4EA1-AEFC-99E9B72F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3EEF-CE64-42FF-834B-A02F3F9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8E640-77D5-44EF-BE1D-CCFDFFD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2A9C-6462-4F40-B725-62807DA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9946E-12B5-4005-A353-CBE33ED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ABA3C-B7F2-4C23-AB13-477CB6B1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727-5082-4950-97B7-A1F70E18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8E11-F707-4503-9DC1-3B1252FA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5DD18-CA0D-4962-8014-F69ED92F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31058-1815-4563-B232-E6AB622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3462-AC90-48B2-8766-72CEC63A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BD3F9-98AB-4952-970F-F0FC6CF6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AC0CD-76A4-41B5-8300-E4EA7620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37A4C-8374-40B2-A12C-AB022308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3391D-7698-43F1-A4AE-179AD1C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8B9C-76FB-4FE9-8E6F-715D476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1D056-305D-4711-A297-3DE7B78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958-7C23-4329-BDD5-A869F03E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40A10-8870-4452-8F23-1CF2F66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BA3B6-83A6-4A6E-811E-65701888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12F1-688D-4DF4-88CE-BB538D41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6EB8F-3C9D-4A89-9905-7F9C0665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0F651-7CA6-4FD8-A595-7B556806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62BF3-63CD-4B84-A886-9CE2E741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A653D-6DA4-4CE8-9F6A-C468133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50E42-90D4-4EF2-8B44-FA70F69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113BD-42B9-4ABF-8444-C36B9DCF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81063-960D-4D56-A2CF-8002809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051-37B9-48B8-A376-333DA561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25174-98F2-4CE0-BB80-023B150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4B182-03BF-4792-A944-855D5B1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4E0E6-91E3-4F8B-B93F-83E2CA4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AA485-AF80-4B8F-A96E-34B227E0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EDF22-D5C1-4C70-B4A5-E922DA8E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1F6A4-0FD9-4DBE-8847-2B178916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C76CA-E2FC-48AC-A05C-3B591A8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B84E8-CDF1-4300-8CE6-8AA7629D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25AC3-3ADE-4E23-8A66-1E180ED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04BCB-0E42-4DB1-BB10-A076B39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308-50E3-4DF5-B6AA-3B7DDB49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D58C2-5490-4ED2-B460-B7BB3CAA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D11D6-95CF-4DD2-8B4B-AA90CFD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13A6F-923A-4385-B2D5-CDF8346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894BD-9F89-4564-85E2-4DF13D7F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83C46-785C-445E-B56F-8CD6EFD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FA7AE-7692-4CB2-BC72-C4B8BBA0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5C48E-07FC-498D-A788-2F0B305C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3CD8-A19C-4795-B5F8-B23EAB0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1A6-4FD0-4884-8DD2-51772B0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DA3C-11D7-4EBF-9F33-B5618D52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E68B-72AB-40C2-A489-1C390A2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F6C-8BF7-42F7-9687-6BA61E7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B124-A0A9-4279-9132-7B8C217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E12C-79D1-4ECE-A405-1A7C6B24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9199-121F-4487-B71D-8D0EEF5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C8E-623A-4CB4-AD38-3EEE809A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2C4-9504-47D4-AE71-EA9B6F07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4121-21B9-40C7-AC2A-7CF081D1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FF65-4A10-444E-B480-5C489DE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75E2-7086-4ADA-9B0E-7DFB55F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F0DA-41B7-47CE-B551-0371D48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FED3-F62D-4097-B2B8-D134038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E96-079D-42BA-BCBD-FC300A08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68DC-075E-4F50-B5E9-3621F63F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3DD0-A05A-4D8E-8813-030229E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CCE5-E522-4113-8960-8033B5A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BEE3-5617-4934-9C31-B058727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DDA4-6DF4-46D4-BE50-A8AE39E3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E83A-D2D0-4B1D-B053-6ECD4555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ED0C-69A5-47D2-BAE2-5B4941A6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8BB6-34F5-4CEC-A7E9-9B674E1E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279B-5EAF-41BC-8622-42DAC57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B6CB-302B-4F6C-AA37-6117FDAB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3A-6C0D-4381-9F71-4DE9255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42ABF-5B9B-4D70-AB6B-5EF16A2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0893-BE2C-4D55-BE05-945D865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FDE7-F6AB-4228-A662-F02D9197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0613-9EB5-49E7-81E4-0890BA1D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638B-9283-4D0E-9CBB-B05E4DD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27C6-64D4-4BFD-8119-C0DE5DC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9991-5353-4A04-BBFA-B25B6F4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1565B-B3FC-427F-BA3E-CB4FE28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528E-ABDF-47F1-8627-51F86A1F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25BB-68A9-4939-B388-47B9545A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A8D-8617-4DB4-8AD2-39DDDC6B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1A04-C11A-40DC-88D5-3B4D1C3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26FD-3A9C-4758-B993-2A4F9A0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A438-E257-414C-954C-865811B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1293-F1B5-4C1E-8F01-8213905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64A2-EF42-47F0-9873-97BBD4B7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A077-6BA9-4DC0-B31C-1F7EA3A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7D7C-EA60-4763-9DE8-3B46518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923E-DCBF-4AC2-8B77-F5FDD07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0B94-E468-4F91-85A3-93C6A1CD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43EC-8AD0-4314-B1D4-A8BB4B21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FE5-2DFD-4EC1-87A4-7685F59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C66A-8DD1-4886-AEB6-DBAA273E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EEF7-3224-46F7-B133-2063AC4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7273-8B46-4929-A152-03660EE8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84E32-E8F7-4242-A17C-EBA74DFD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FC13-B5EE-4F8F-9346-7105F6C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94BBE-789E-4F46-B762-694BB2E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7B9A-3268-4783-82E8-298352A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E2BB4-6496-4CB5-8739-BC0EA08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A78C-2CA0-440C-BF3B-688C11FB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CB6BC-6102-49CA-AFB7-7E6FB28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910-89FE-4C51-BEE0-FBD78E14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3851-9B1D-4594-9EA8-A93ACCC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B7906-6259-4D2E-A399-E430CFB3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CCAB-98ED-45A3-BE0E-F0DD6DF2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29A9D-9345-42E0-8C8B-3B5F5951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6003-ECFB-454B-A3EE-F61A5DF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E41F-252A-4310-B4B9-5A8F4178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29BF2-9DD4-4B81-86C7-40FDFE5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C1DC3-E7CC-4E91-A993-860E461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0462-090A-4977-8624-064554F3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42A3-2A5B-4FEF-B06F-8AD9ED7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3B1-15EB-43FA-BDAB-37005FF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8385-3E77-45B1-9910-BEF9F14C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71C6-B204-4FD9-B9E0-20D8191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4F35-FA6F-4762-8A18-7F45E41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1AE3-BF5A-4E77-9BC6-DAAAD986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056EA-06BE-4549-B23B-00BBF37E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A586-EF0C-4B06-84BD-14BFCCB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7729F-D3DD-4405-9BFB-73F18AE3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AC59-E83C-4347-BC41-1CF7F64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1C95-9E33-44C6-A459-14EFF80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4DDCF-7A7C-4918-A7EE-F4D3A39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2B9-4ACE-4812-BE1A-EBF82BB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9C87-E84E-4FBA-B34A-A5E5725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A5262-D27D-48DB-A550-8472932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ECE1-4502-4FFD-A63D-71E5CB4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184B-3285-4617-AD29-BCDFA8C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25AF-95ED-423C-94D5-25FA262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0DC10-0A8D-4C72-BBBB-DCA96ED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4CC5-A322-441E-BDC6-B3D8329D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71084-9BB3-4263-B03E-6AC1A086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2692F-F24E-4981-B534-22F3D2D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10B98-101F-4B9B-890A-C546BE6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76B7-AE45-4441-8982-CCCF6DCCDD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1692-5003-48C9-9A08-9FD3D2D762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5D1C-24C9-4371-92CA-890B0E2288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B0C-21A6-49A6-9F37-E5C37C5658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6B5-933F-4EF2-AB6B-52D3E4852F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458-D361-4176-8416-9FDD6936152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2A0-909B-4033-B45A-C8D7F7D9BD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83E-AFA3-41D5-9B3D-51A89015BB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3F3-8504-4515-A559-5DD9362D54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1CD5-4EDA-46B9-B1AF-62A7E9FE34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5CF6-C69F-479A-A77F-85B81DCAF5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92F-8EA2-4036-8F67-6F133821D5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726-30F0-4FA3-9303-38CA4D3AD3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08880" y="1428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1440000" y="2779560"/>
            <a:ext cx="777528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kelorza</cp:lastModifiedBy>
  <dcterms:modified xsi:type="dcterms:W3CDTF">2010-10-12T19:52:21Z</dcterms:modified>
  <cp:revision>26</cp:revision>
  <dc:subject/>
  <dc:title>Diapositiva 1</dc:title>
</cp:coreProperties>
</file>