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1B2 clase 08 CDIO Afi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1E6199D-E008-41B0-9AD2-8966D20F0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1B2 clase 08 CDIO Afi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B42F6C0-7266-487E-8F46-5B0902413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93B7-EB65-462B-93AC-F605807A6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E26A-7A4F-43E3-A215-D093FEA0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318E-E958-4F30-BBDB-8822D31B9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2408-49E5-43AD-B6B9-A8EC7A23E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7E09-FC0E-4C4A-8CCF-7EBB221C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44B9-A1C9-49D8-A549-B693D5ED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28F8-FD22-41A0-989E-10E7B1E9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D0B9-7754-479D-B08D-9A23F54E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D116-2733-412A-BC09-907BBB5B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7225-5236-4165-9437-719B9076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EC28-1AD4-4967-9C58-C6A877C9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A615-BB99-46AE-B28D-1CC08649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E361-0457-45D9-9856-4E40111A9DE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éctor Agusto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428760" y="2286000"/>
            <a:ext cx="84294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omando en cuenta los tres puntos anterio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 se dice que “hacer” o “no hacer” ni qué es lo “correcto” o “incorrect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ostrar posibles “salidas” del dilema (quizás relativas, no absolut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928800" y="71424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ELEMENTOS PARA EL DISCERNIMIEN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428760" y="2428920"/>
            <a:ext cx="84294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ugerir posturas posibles, que sean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razonada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razonabl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, atingentes, convenientes, “justas”, dese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currir a preguntas que problematicen y que, a la vez, desafíen a la reflexividad, criticidad y a la toma de postura honesta, siempre ene l marco de la justicia so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928800" y="71424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ELEMENTOS PARA EL DISCERNIMIENTO I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928800" y="71424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ELEMENTOS PARA EL DISCERNIMIEN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285840" y="2066760"/>
            <a:ext cx="822960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285840" y="471492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Hasta qué nivel debe prevenirse “usos incorrectos” de product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285840" y="3419640"/>
            <a:ext cx="8858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Porqué si hubo un accidente similar, no se habían hecho las correcciones de procedimient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285840" y="4210200"/>
            <a:ext cx="900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Porqué no se había cuestionado el diseñ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285840" y="284796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Es justo que el operario resultara respons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royecto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9"/>
          <p:cNvSpPr/>
          <p:nvPr/>
        </p:nvSpPr>
        <p:spPr>
          <a:xfrm>
            <a:off x="1368360" y="2279520"/>
            <a:ext cx="7775640" cy="64944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643040" y="1214280"/>
          <a:ext cx="7500960" cy="5384880"/>
        </p:xfrm>
        <a:graphic>
          <a:graphicData uri="http://schemas.openxmlformats.org/drawingml/2006/table">
            <a:tbl>
              <a:tblPr/>
              <a:tblGrid>
                <a:gridCol w="563760"/>
                <a:gridCol w="4005000"/>
                <a:gridCol w="2932200"/>
              </a:tblGrid>
              <a:tr h="2509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e de Cáted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ll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604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s, Planteamiento Proyecto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uvia de Ide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o en Cartón Plu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-Correc mode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 de Datos - Gráf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uebas Modelo 2 -&gt;Pla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Diseño-&gt; mejora planos (2/grup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2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ño de Afich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ección de Pla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2,  Prueba prelimin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3,  Prueba f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35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finales 1 (3/Grup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finales 2 (3/Grup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finales 3 (3/Grup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 Proyecto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000080" y="70488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¿Cómo Discernir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Rectangle 2" descr=""/>
          <p:cNvPicPr/>
          <p:nvPr/>
        </p:nvPicPr>
        <p:blipFill>
          <a:blip r:embed="rId1"/>
          <a:stretch/>
        </p:blipFill>
        <p:spPr>
          <a:xfrm>
            <a:off x="281160" y="2657520"/>
            <a:ext cx="868680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457200" y="1071720"/>
            <a:ext cx="822960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 una herramienta que ayuda en el desarrollo del pensamiento crítico, específicamente en el ámbito de la é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571680" y="2838600"/>
            <a:ext cx="822960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compone de 4 momen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h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comprensión del h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implicancias é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ementos para el discern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457200" y="2124000"/>
            <a:ext cx="822960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tuación o caso concreto que se analizará (se parte de la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realidad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no de teorí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presenta el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tema o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ámbito temático del que se tratará el infor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Descripción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de la situ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debe evitar valor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928800" y="71424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EL HECH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28760" y="1714680"/>
            <a:ext cx="822960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928800" y="71424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EL HECH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428760" y="414324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ultado: mueren 70 personas (31 chilen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28760" y="306720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echa: Octubre de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428760" y="357192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ugar: Lima, Per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428760" y="249552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uceso: Accidente AeroPeru vuelo 6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428760" y="471492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usa basal: Falla de un sensor del av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457200" y="2266920"/>
            <a:ext cx="822960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introducen elementos históricos (historia del cas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ventualmente, elementos comparativos (casos similares, situaciones reales que aclar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ciones teóricas que iluminen el problema o algunos elementos problemático de la situ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xposición de las posiciones en pugna (dos o má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928800" y="71424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COMPRENSIÓN DEL HECH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28760" y="2066760"/>
            <a:ext cx="822960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928800" y="71424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COMPRENSIÓ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DEL HECH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428760" y="471024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gislación y normativa aérea, Procedimientos de mate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428760" y="341964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da aviso de cambiar procedimi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428760" y="392436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exto de accidentes aéreos ( no frecuentes pero siempre gr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428760" y="284796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ubo Accidente similar meses 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457200" y="2124000"/>
            <a:ext cx="822960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dentificación de los “valores” que están en juego en este c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xplicación de los conflictos de valor en ju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esentación de (algunas) consecuencias: éticas, sociales, políticas, culturales, ambientales, etc. derivadas del confli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928800" y="71424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700" spc="-1" strike="noStrike">
                <a:solidFill>
                  <a:srgbClr val="000000"/>
                </a:solidFill>
                <a:latin typeface="Times New Roman"/>
              </a:rPr>
              <a:t>IMPLICANCIAS  ÉTICAS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928800" y="71424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700" spc="-1" strike="noStrike">
                <a:solidFill>
                  <a:srgbClr val="000000"/>
                </a:solidFill>
                <a:latin typeface="Times New Roman"/>
              </a:rPr>
              <a:t>IMPLICANCIAS  ÉTICAS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285840" y="2066760"/>
            <a:ext cx="822960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285840" y="471024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guridad de las personas ante intereses económicos o eficiencia de las empre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285840" y="341964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ponsabilidad en el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285840" y="3924360"/>
            <a:ext cx="900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ponsabilidad de las personas: saber qué información es la que entregan los instru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285840" y="284796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ponsabilidad de Empresas aé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/>
  <dc:description/>
  <dc:language>en-US</dc:language>
  <cp:lastModifiedBy>kelorza</cp:lastModifiedBy>
  <dcterms:modified xsi:type="dcterms:W3CDTF">2010-10-12T19:53:14Z</dcterms:modified>
  <cp:revision>59</cp:revision>
  <dc:subject/>
  <dc:title>EI1B2 clase semana 8</dc:title>
</cp:coreProperties>
</file>