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F49267-EF92-4B28-88B1-52D85946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08 CDIO 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F743612-5983-41A1-B0A4-AFD55D8AA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43C-F093-4ACE-BF55-5C800317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474-4607-4148-89AA-CFC03807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8BD-2070-4B88-9B30-502F4186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C51-8F12-43F9-AAAC-2F099CC9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F31-D46D-4182-B1F3-7EB3BF40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4F1-10CE-4370-BF4A-EAA255E4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FE8-5E9D-47EA-98B6-FBA15485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68D-5280-4755-8769-96565EDD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0D5-2667-41E1-9264-2082C150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BFA-542C-47D8-9002-A7BCA122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524-7043-40F2-9501-A2F287C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08F-AC23-48A6-A700-D45283E3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D0E9-570E-4919-AABA-CF92AE0D971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428760" y="228600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ndo en cuenta los tres puntos anteri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se dice que “hacer” o “no hacer” ni qué es lo “correcto” o “incorre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strar posibles “salidas” del dilema (quizás relativas, no absolut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28760" y="2428920"/>
            <a:ext cx="84294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gerir posturas posibles, que sean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da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azonabl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, atingentes, convenientes, “justas”, dese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urrir a preguntas que problematicen y que, a la vez, desafíen a la reflexividad, criticidad y a la toma de postura honesta, siempre ene l marco de la justicia so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EMENTOS PARA EL DISCERN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8584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Hasta qué nivel debe prevenirse “usos incorrectos” de produc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85840" y="3419640"/>
            <a:ext cx="885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si hubo un accidente similar, no se habían hecho las correcciones de procedimien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85840" y="4210200"/>
            <a:ext cx="90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orqué no se había cuestionado el diseñ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s justo que el operario resultara respons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oyecto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368360" y="2279520"/>
            <a:ext cx="7775640" cy="649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43040" y="1214280"/>
          <a:ext cx="7500960" cy="5384880"/>
        </p:xfrm>
        <a:graphic>
          <a:graphicData uri="http://schemas.openxmlformats.org/drawingml/2006/table">
            <a:tbl>
              <a:tblPr/>
              <a:tblGrid>
                <a:gridCol w="563760"/>
                <a:gridCol w="4005000"/>
                <a:gridCol w="2932200"/>
              </a:tblGrid>
              <a:tr h="250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e de Cáted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s, Planteamiento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uvia de Id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-Correc mod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Datos - Gráf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 (2/gru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Afi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1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2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 3 (3/Grupo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Proyecto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0080" y="70488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¿Cómo Discerni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2" descr=""/>
          <p:cNvPicPr/>
          <p:nvPr/>
        </p:nvPicPr>
        <p:blipFill>
          <a:blip r:embed="rId1"/>
          <a:stretch/>
        </p:blipFill>
        <p:spPr>
          <a:xfrm>
            <a:off x="281160" y="2657520"/>
            <a:ext cx="86868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0717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una herramienta que ayuda en el desarrollo del pensamiento crítico, específicamente en el ámbito de la 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1680" y="2838600"/>
            <a:ext cx="8229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compone de 4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mprensión del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implicancias é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ementos para el discer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tuación o caso concreto que se analizará (se parte de la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rea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no de teorí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presenta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tema o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ámbito temático del que se tratará el in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Descrip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 la sit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evitar valo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28760" y="171468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28760" y="414324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ultado: mueren 70 personas (31 chil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306720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cha: Octubre de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428760" y="3571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gar: Lima, Per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28760" y="24955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ceso: Accidente AeroPeru vuelo 6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28760" y="4714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usa basal: Falla de un sensor del av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226692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introducen elementos históricos (historia del ca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, elementos comparativos (casos similares, situaciones reales que aclar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ciones teóricas que iluminen el problema o algunos elementos problemático de la situ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osición de las posiciones en pugna (dos o m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2876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OMPRENSIÓ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DEL HECH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876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gislación y normativa aérea, Procedimientos de m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2876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a aviso de cambiar proced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428760" y="39243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exto de accidentes aéreos ( no frecuentes pero siempre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2876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ubo Accidente similar meses 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2124000"/>
            <a:ext cx="82296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dentificación de los “valores” que están en juego en este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xplicación de los conflictos de valor en ju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ón de (algunas) consecuencias: éticas, sociales, políticas, culturales, ambientales, etc. derivadas del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928800" y="714240"/>
            <a:ext cx="7072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000000"/>
                </a:solidFill>
                <a:latin typeface="Times New Roman"/>
              </a:rPr>
              <a:t>IMPLICANCIAS  ÉTICA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285840" y="2066760"/>
            <a:ext cx="82296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85840" y="471024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de las personas ante intereses económicos o eficiencia de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85840" y="3419640"/>
            <a:ext cx="820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en el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85840" y="3924360"/>
            <a:ext cx="90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las personas: saber qué información es la que entregan los instru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285840" y="284796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de Empresas aé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kelorza</cp:lastModifiedBy>
  <dcterms:modified xsi:type="dcterms:W3CDTF">2010-10-12T19:53:14Z</dcterms:modified>
  <cp:revision>59</cp:revision>
  <dc:subject/>
  <dc:title>EI1B2 clase semana 8</dc:title>
</cp:coreProperties>
</file>