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E497F1-F1F1-4218-904A-A9003624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3A4645-5590-4466-A152-FEF9B8312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A7B-6F07-4A75-963F-C626A7C0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B43-86C7-41AA-8845-CB8E0FE5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D23-E0BB-4D8D-8FE9-650C5EF7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59E-DBE5-4AF9-91A5-BCC12081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2AB-BEA1-4065-A269-84454DE6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4B7-D716-40EF-8D73-21D4D3A5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E74-4163-4BC3-B739-68D0519D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B7D-FA71-4D10-AA47-97CA2FBF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813-B74B-482D-A934-AF81F582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F3C-29EE-476F-AE57-EEC5563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0AE-9431-4455-8D34-FA38498F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F5A-AE55-4FA8-84A9-C80C1B88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9C45-A657-46AF-AD28-89E4F975EE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428760" y="228600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ndo en cuenta los tres puntos anteri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e dice que “hacer” o “no hacer” ni qué es lo “correcto” o “incorre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strar posibles “salidas” del dilema (quizás relativas, no absolu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28760" y="242892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gerir posturas posibles, que sean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d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atingentes, convenientes, “justas”, dese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urrir a preguntas que problematicen y que, a la vez, desafíen a la reflexividad, criticidad y a la toma de postura honesta, siempre ene l marco de la justicia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8584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Hasta qué nivel debe prevenirse “usos incorrectos” de produc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85840" y="3419640"/>
            <a:ext cx="88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si hubo un accidente similar, no se habían hecho las correcciones de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85840" y="4210200"/>
            <a:ext cx="90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no se había cuestionado el diseñ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s justo que el operario resultara respons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368360" y="2279520"/>
            <a:ext cx="777564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0080" y="70488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281160" y="2657520"/>
            <a:ext cx="8686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0717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a herramienta que ayuda en el desarrollo del pensamiento crítico, específicamente en el ámbito de la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71680" y="2838600"/>
            <a:ext cx="8229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mpone de 4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mprensión d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mplicancias é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para el discern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tuación o caso concreto que se analizará (se parte de l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ea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no de teorí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resenta el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ema o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ámbito temático del que se tratará el in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scrip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evitar valo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71468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28760" y="41432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: mueren 70 personas (31 chil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28760" y="306720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cha: Octubre d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28760" y="3571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gar: Lima,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28760" y="24955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ceso: Accidente AeroPeru vuelo 6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2876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usa basal: Falla de un sensor del av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22669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introducen elementos históricos (historia del ca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entualmente, elementos comparativos (casos similares, situaciones reales que acla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ciones teóricas que iluminen el problema o algunos elementos problemático de la sit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ción de las posiciones en pugna (dos o m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2876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876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islación y normativa aérea, Procedimientos de m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2876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a aviso de cambiar proced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28760" y="3924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de accidentes aéreos ( no frecuentes pero siempre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876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ubo Accidente similar meses 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ción de los “valores” que están en juego en este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cación de los conflictos de valor en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de (algunas) consecuencias: éticas, sociales, políticas, culturales, ambientales, etc. derivadas del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8584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de las personas ante intereses económicos o eficiencia de las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584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en 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85840" y="3924360"/>
            <a:ext cx="90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las personas: saber qué información es la que entregan los instr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Empresas aé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kelorza</cp:lastModifiedBy>
  <dcterms:modified xsi:type="dcterms:W3CDTF">2010-10-12T19:53:14Z</dcterms:modified>
  <cp:revision>59</cp:revision>
  <dc:subject/>
  <dc:title>EI1B2 clase semana 8</dc:title>
</cp:coreProperties>
</file>