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1B2 clase 08 CDIO Afi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81B6F48-3484-478F-BAF5-1894716F3A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6"/>
          <p:cNvSpPr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1B2 clase 08 CDIO Afi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149E341-E2B6-4D87-A0A9-A8C1EECDC6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CDA6-33FB-403A-88C5-BE84715B6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77C8-C293-481C-883E-89F3F8A55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6917-D8D1-42CF-B0BF-7760EC9A1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1119-321B-4940-9F3E-B8C18CBE7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A9C4-87AC-4BD4-8F3A-9A8DE9C34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EEB5-D2F3-46E8-B691-0FCE2F22E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2F40-FA2C-4FDA-B02C-34C984836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9F99-5BD6-490B-A97D-FB4972B54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195E-FFDF-4C86-9BFC-7090BB912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2DAB-4FBA-495A-A24E-9F7B46E99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5597-72F5-4488-98A4-D67CC3302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9BF1-C8DC-40CD-AF67-038FB437D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69EDF-7782-4F09-8DA3-374B0BEAA5E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1989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EI1102 Introducción a la Ingeniería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634920" y="5516280"/>
            <a:ext cx="4568760" cy="62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éctor Agusto 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3"/>
          <p:cNvSpPr/>
          <p:nvPr/>
        </p:nvSpPr>
        <p:spPr>
          <a:xfrm>
            <a:off x="428760" y="2286000"/>
            <a:ext cx="842940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Tomando en cuenta los tres puntos anterior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No se dice que “hacer” o “no hacer” ni qué es lo “correcto” o “incorrecto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Mostrar posibles “salidas” del dilema (quizás relativas, no absolut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928800" y="714240"/>
            <a:ext cx="70722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Times New Roman"/>
              </a:rPr>
              <a:t>ELEMENTOS PARA EL DISCERNIMIENT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3"/>
          <p:cNvSpPr/>
          <p:nvPr/>
        </p:nvSpPr>
        <p:spPr>
          <a:xfrm>
            <a:off x="428760" y="2428920"/>
            <a:ext cx="842940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ugerir posturas posibles, que sean </a:t>
            </a: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razonadas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razonables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, atingentes, convenientes, “justas”, dese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Recurrir a preguntas que problematicen y que, a la vez, desafíen a la reflexividad, criticidad y a la toma de postura honesta, siempre ene l marco de la justicia soci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"/>
          <p:cNvSpPr/>
          <p:nvPr/>
        </p:nvSpPr>
        <p:spPr>
          <a:xfrm>
            <a:off x="928800" y="714240"/>
            <a:ext cx="70722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Times New Roman"/>
              </a:rPr>
              <a:t>ELEMENTOS PARA EL DISCERNIMIENTO I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"/>
          <p:cNvSpPr/>
          <p:nvPr/>
        </p:nvSpPr>
        <p:spPr>
          <a:xfrm>
            <a:off x="928800" y="714240"/>
            <a:ext cx="70722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Times New Roman"/>
              </a:rPr>
              <a:t>ELEMENTOS PARA EL DISCERNIMIENT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285840" y="2066760"/>
            <a:ext cx="8229600" cy="20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285840" y="4714920"/>
            <a:ext cx="820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¿Hasta qué nivel debe prevenirse “usos incorrectos” de producto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9"/>
          <p:cNvSpPr/>
          <p:nvPr/>
        </p:nvSpPr>
        <p:spPr>
          <a:xfrm>
            <a:off x="285840" y="3419640"/>
            <a:ext cx="88581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¿Porqué si hubo un accidente similar, no se habían hecho las correcciones de procedimiento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285840" y="4210200"/>
            <a:ext cx="9001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¿Porqué no se había cuestionado el diseñ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285840" y="2847960"/>
            <a:ext cx="820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¿Es justo que el operario resultara respons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Proyecto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29"/>
          <p:cNvSpPr/>
          <p:nvPr/>
        </p:nvSpPr>
        <p:spPr>
          <a:xfrm>
            <a:off x="1368360" y="2279520"/>
            <a:ext cx="7775640" cy="649440"/>
          </a:xfrm>
          <a:prstGeom prst="ellipse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1643040" y="1214280"/>
          <a:ext cx="7500960" cy="5384880"/>
        </p:xfrm>
        <a:graphic>
          <a:graphicData uri="http://schemas.openxmlformats.org/drawingml/2006/table">
            <a:tbl>
              <a:tblPr/>
              <a:tblGrid>
                <a:gridCol w="563760"/>
                <a:gridCol w="4005000"/>
                <a:gridCol w="2932200"/>
              </a:tblGrid>
              <a:tr h="25092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m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e de Cáted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ll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6044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sos, Planteamiento Proyecto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luvia de Ide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tica 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lo en Cartón Plu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tica I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v-Correc model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08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álisis de Datos - Gráfic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uebas Modelo 2 -&gt;Pla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aciones Diseño-&gt; mejora planos (2/grupo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224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eño de Afich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fección de Pla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08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tica II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trucción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92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tica I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trucción 2,  Prueba prelimin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trucción 3,  Prueba fi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356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aciones finales 1 (3/Grupo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aciones finales 2 (3/Grupo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aciones finales 3 (3/Grupo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álisis Proyecto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1000080" y="704880"/>
            <a:ext cx="70722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Times New Roman"/>
              </a:rPr>
              <a:t>¿Cómo Discernir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Rectangle 2" descr=""/>
          <p:cNvPicPr/>
          <p:nvPr/>
        </p:nvPicPr>
        <p:blipFill>
          <a:blip r:embed="rId1"/>
          <a:stretch/>
        </p:blipFill>
        <p:spPr>
          <a:xfrm>
            <a:off x="281160" y="2657520"/>
            <a:ext cx="8686800" cy="27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457200" y="1071720"/>
            <a:ext cx="8229600" cy="20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s una herramienta que ayuda en el desarrollo del pensamiento crítico, específicamente en el ámbito de la é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571680" y="2838600"/>
            <a:ext cx="8229600" cy="26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e compone de 4 moment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l hec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a comprensión del hec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as implicancias ét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lementos para el discerni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3"/>
          <p:cNvSpPr/>
          <p:nvPr/>
        </p:nvSpPr>
        <p:spPr>
          <a:xfrm>
            <a:off x="457200" y="2124000"/>
            <a:ext cx="8229600" cy="20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ituación o caso concreto que se analizará (se parte de la </a:t>
            </a: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realidad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no de teorí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e presenta el </a:t>
            </a: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tema o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l ámbito temático del que se tratará el infor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Descripción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de la situ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e debe evitar valora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"/>
          <p:cNvSpPr/>
          <p:nvPr/>
        </p:nvSpPr>
        <p:spPr>
          <a:xfrm>
            <a:off x="928800" y="714240"/>
            <a:ext cx="70722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Times New Roman"/>
              </a:rPr>
              <a:t>EL HECH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428760" y="1714680"/>
            <a:ext cx="8229600" cy="20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2"/>
          <p:cNvSpPr/>
          <p:nvPr/>
        </p:nvSpPr>
        <p:spPr>
          <a:xfrm>
            <a:off x="928800" y="714240"/>
            <a:ext cx="70722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Times New Roman"/>
              </a:rPr>
              <a:t>EL HECH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428760" y="4143240"/>
            <a:ext cx="820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sultado: mueren 70 personas (31 chilen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9"/>
          <p:cNvSpPr/>
          <p:nvPr/>
        </p:nvSpPr>
        <p:spPr>
          <a:xfrm>
            <a:off x="428760" y="3067200"/>
            <a:ext cx="8208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Fecha: Octubre de 19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0"/>
          <p:cNvSpPr/>
          <p:nvPr/>
        </p:nvSpPr>
        <p:spPr>
          <a:xfrm>
            <a:off x="428760" y="3571920"/>
            <a:ext cx="820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ugar: Lima, Per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1"/>
          <p:cNvSpPr/>
          <p:nvPr/>
        </p:nvSpPr>
        <p:spPr>
          <a:xfrm>
            <a:off x="428760" y="2495520"/>
            <a:ext cx="820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uceso: Accidente AeroPeru vuelo 6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2"/>
          <p:cNvSpPr/>
          <p:nvPr/>
        </p:nvSpPr>
        <p:spPr>
          <a:xfrm>
            <a:off x="428760" y="4714920"/>
            <a:ext cx="820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ausa basal: Falla de un sensor del av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457200" y="2266920"/>
            <a:ext cx="8229600" cy="20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e introducen elementos históricos (historia del cas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ventualmente, elementos comparativos (casos similares, situaciones reales que aclar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Nociones teóricas que iluminen el problema o algunos elementos problemático de la situ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xposición de las posiciones en pugna (dos o má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928800" y="714240"/>
            <a:ext cx="70722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Times New Roman"/>
              </a:rPr>
              <a:t>COMPRENSIÓN DEL HECH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3"/>
          <p:cNvSpPr/>
          <p:nvPr/>
        </p:nvSpPr>
        <p:spPr>
          <a:xfrm>
            <a:off x="428760" y="2066760"/>
            <a:ext cx="8229600" cy="20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928800" y="714240"/>
            <a:ext cx="70722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Times New Roman"/>
              </a:rPr>
              <a:t>COMPRENSIÓN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Times New Roman"/>
              </a:rPr>
              <a:t>DEL HECH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5"/>
          <p:cNvSpPr/>
          <p:nvPr/>
        </p:nvSpPr>
        <p:spPr>
          <a:xfrm>
            <a:off x="428760" y="4710240"/>
            <a:ext cx="8208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egislación y normativa aérea, Procedimientos de maten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9"/>
          <p:cNvSpPr/>
          <p:nvPr/>
        </p:nvSpPr>
        <p:spPr>
          <a:xfrm>
            <a:off x="428760" y="3419640"/>
            <a:ext cx="8208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e da aviso de cambiar procedimien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0"/>
          <p:cNvSpPr/>
          <p:nvPr/>
        </p:nvSpPr>
        <p:spPr>
          <a:xfrm>
            <a:off x="428760" y="3924360"/>
            <a:ext cx="820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ntexto de accidentes aéreos ( no frecuentes pero siempre gra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1"/>
          <p:cNvSpPr/>
          <p:nvPr/>
        </p:nvSpPr>
        <p:spPr>
          <a:xfrm>
            <a:off x="428760" y="2847960"/>
            <a:ext cx="820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Hubo Accidente similar meses a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3"/>
          <p:cNvSpPr/>
          <p:nvPr/>
        </p:nvSpPr>
        <p:spPr>
          <a:xfrm>
            <a:off x="457200" y="2124000"/>
            <a:ext cx="8229600" cy="20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Identificación de los “valores” que están en juego en este ca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xplicación de los conflictos de valor en jue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resentación de (algunas) consecuencias: éticas, sociales, políticas, culturales, ambientales, etc. derivadas del conflic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928800" y="714240"/>
            <a:ext cx="70722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700" spc="-1" strike="noStrike">
                <a:solidFill>
                  <a:srgbClr val="000000"/>
                </a:solidFill>
                <a:latin typeface="Times New Roman"/>
              </a:rPr>
              <a:t>IMPLICANCIAS  ÉTICAS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2"/>
          <p:cNvSpPr/>
          <p:nvPr/>
        </p:nvSpPr>
        <p:spPr>
          <a:xfrm>
            <a:off x="928800" y="714240"/>
            <a:ext cx="70722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700" spc="-1" strike="noStrike">
                <a:solidFill>
                  <a:srgbClr val="000000"/>
                </a:solidFill>
                <a:latin typeface="Times New Roman"/>
              </a:rPr>
              <a:t>IMPLICANCIAS  ÉTICAS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"/>
          <p:cNvSpPr/>
          <p:nvPr/>
        </p:nvSpPr>
        <p:spPr>
          <a:xfrm>
            <a:off x="285840" y="2066760"/>
            <a:ext cx="8229600" cy="20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5"/>
          <p:cNvSpPr/>
          <p:nvPr/>
        </p:nvSpPr>
        <p:spPr>
          <a:xfrm>
            <a:off x="285840" y="4710240"/>
            <a:ext cx="8208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eguridad de las personas ante intereses económicos o eficiencia de las empres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9"/>
          <p:cNvSpPr/>
          <p:nvPr/>
        </p:nvSpPr>
        <p:spPr>
          <a:xfrm>
            <a:off x="285840" y="3419640"/>
            <a:ext cx="8208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sponsabilidad en el diseñ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0"/>
          <p:cNvSpPr/>
          <p:nvPr/>
        </p:nvSpPr>
        <p:spPr>
          <a:xfrm>
            <a:off x="285840" y="3924360"/>
            <a:ext cx="9001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sponsabilidad de las personas: saber qué información es la que entregan los instrumen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1"/>
          <p:cNvSpPr/>
          <p:nvPr/>
        </p:nvSpPr>
        <p:spPr>
          <a:xfrm>
            <a:off x="285840" y="2847960"/>
            <a:ext cx="820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sponsabilidad de Empresas aér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/>
  <dc:description/>
  <dc:language>en-US</dc:language>
  <cp:lastModifiedBy>kelorza</cp:lastModifiedBy>
  <dcterms:modified xsi:type="dcterms:W3CDTF">2010-10-12T19:53:14Z</dcterms:modified>
  <cp:revision>59</cp:revision>
  <dc:subject/>
  <dc:title>EI1B2 clase semana 8</dc:title>
</cp:coreProperties>
</file>