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86AEFB-0ABD-42F5-82F5-73B6F67C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37E266-D170-4E3C-A1D6-18870D42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410-836A-4B63-90AE-A968676B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5FD-BEBE-4794-BFD0-7FECBBB9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774-D7AD-4B46-BA00-19B0A225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C83-EB91-4BFF-B3E7-5764191C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959-7499-41B9-91A0-FBF0077F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4CB-1282-4255-A494-76A167D0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65A-3EDF-4C04-BC5A-5F788738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D59-D79D-4DE1-8BD8-031367EF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047-9AF7-47F6-AC5D-AF634A93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102-84CC-4E71-AA3A-C3731E02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B58-8C3A-4512-B027-3396BB6E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CC4-61E4-46D3-9594-475D679C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A00F-BD4E-415D-896A-ED3C5EB8FB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428760" y="228600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ndo en cuenta los tres puntos anteri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dice que “hacer” o “no hacer” ni qué es lo “correcto” o “incorre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strar posibles “salidas” del dilema (quizás relativas, no absolu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28760" y="242892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gerir posturas posibles, que sea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d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atingentes, convenientes, “justas”, dese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urrir a preguntas que problematicen y que, a la vez, desafíen a la reflexividad, criticidad y a la toma de postura honesta, siempre ene l marco de la justicia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8584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Hasta qué nivel debe prevenirse “usos incorrectos” de produc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85840" y="3419640"/>
            <a:ext cx="88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si hubo un accidente similar, no se habían hecho las correcciones de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85840" y="4210200"/>
            <a:ext cx="90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no se había cuestionado el diseñ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s justo que el operario resultara respons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368360" y="2279520"/>
            <a:ext cx="777564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70488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281160" y="2657520"/>
            <a:ext cx="8686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0717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herramienta que ayuda en el desarrollo del pensamiento crítico, específicamente en el ámbito de la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1680" y="2838600"/>
            <a:ext cx="8229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mpone de 4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mprensión d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mplicancias 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para el discer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tuación o caso concreto que se analizará (se parte de l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ea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no de teorí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resenta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ema o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ámbito temático del que se tratará el in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crip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evitar valo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71468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28760" y="41432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: mueren 70 personas (31 chil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306720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cha: Octubre d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28760" y="3571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gar: Lima,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28760" y="24955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ceso: Accidente AeroPeru vuelo 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2876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usa basal: Falla de un sensor del av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22669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introducen elementos históricos (historia del ca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, elementos comparativos (casos similares, situaciones reales que acla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ciones teóricas que iluminen el problema o algunos elementos problemático de la sit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ción de las posiciones en pugna (dos o m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2876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876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islación y normativa aérea, Procedimientos de m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2876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a aviso de cambiar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28760" y="3924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de accidentes aéreos ( no frecuentes pero siempre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876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ubo Accidente similar meses 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ción de los “valores” que están en juego en este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cación de los conflictos de valor en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de (algunas) consecuencias: éticas, sociales, políticas, culturales, ambientales, etc. derivadas del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8584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de las personas ante intereses económicos o eficiencia de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584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en 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85840" y="3924360"/>
            <a:ext cx="90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las personas: saber qué información es la que entregan l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Empresas aé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kelorza</cp:lastModifiedBy>
  <dcterms:modified xsi:type="dcterms:W3CDTF">2010-10-12T19:53:14Z</dcterms:modified>
  <cp:revision>59</cp:revision>
  <dc:subject/>
  <dc:title>EI1B2 clase semana 8</dc:title>
</cp:coreProperties>
</file>