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08 CDIO Af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A0324A8-7A0C-439E-B264-3D8E045AC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08 CDIO Af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D4C363-5D0F-4F16-9A42-32CE4C22F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7873-B30D-47ED-8E48-F2DFF525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EC1B-71AC-40D7-BA00-39C703B3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339A-4E57-4695-8A16-6409EF44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D9B-D79D-4E15-8DBB-60F8FC30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9224-CA7F-4F2D-B7D3-B50628CA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C1CD-6D65-484B-BBB0-CEF85D18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127D-52F7-408F-952C-0CBC1CDB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BAB9-E542-43CE-8811-50D25231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E898-54F1-4CC3-A9D5-C8F7D2E6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820B-5ACB-4150-AFFA-B1799682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8897-3DC4-4647-B687-08894B6E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DD93-C318-477C-BED1-93E04E48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7D84-F257-4C66-8428-7F5537CEA8D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428760" y="2286000"/>
            <a:ext cx="84294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omando en cuenta los tres puntos anteri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se dice que “hacer” o “no hacer” ni qué es lo “correcto” o “incorrec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ostrar posibles “salidas” del dilema (quizás relativas, no absolu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EMENTOS PARA EL DISCERNIMIEN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428760" y="2428920"/>
            <a:ext cx="84294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gerir posturas posibles, que sean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razonada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razonabl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, atingentes, convenientes, “justas”, dese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currir a preguntas que problematicen y que, a la vez, desafíen a la reflexividad, criticidad y a la toma de postura honesta, siempre ene l marco de la justicia so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EMENTOS PARA EL DISCERNIMIENTO I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EMENTOS PARA EL DISCERNIMIEN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85840" y="2066760"/>
            <a:ext cx="822960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85840" y="47149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Hasta qué nivel debe prevenirse “usos incorrectos” de produc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285840" y="3419640"/>
            <a:ext cx="88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Porqué si hubo un accidente similar, no se habían hecho las correcciones de procedimien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285840" y="4210200"/>
            <a:ext cx="90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Porqué no se había cuestionado el diseñ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85840" y="28479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Es justo que el operario resultara respons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9"/>
          <p:cNvSpPr/>
          <p:nvPr/>
        </p:nvSpPr>
        <p:spPr>
          <a:xfrm>
            <a:off x="1368360" y="2279520"/>
            <a:ext cx="7775640" cy="6494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43040" y="1214280"/>
          <a:ext cx="7500960" cy="5384880"/>
        </p:xfrm>
        <a:graphic>
          <a:graphicData uri="http://schemas.openxmlformats.org/drawingml/2006/table">
            <a:tbl>
              <a:tblPr/>
              <a:tblGrid>
                <a:gridCol w="563760"/>
                <a:gridCol w="4005000"/>
                <a:gridCol w="2932200"/>
              </a:tblGrid>
              <a:tr h="250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e de Cáted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s, Planteamiento Proyect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uvia de Ide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en Cartón Plu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-Correc mod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de Datos - Gráf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uebas Modelo 2 -&gt;Pl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Diseño-&gt; mejora planos (2/grup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2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ño de Afich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2,  Prueba prelimin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3,  Prueba f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1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2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3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Proyect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00080" y="70488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¿Cómo Discerni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2" descr=""/>
          <p:cNvPicPr/>
          <p:nvPr/>
        </p:nvPicPr>
        <p:blipFill>
          <a:blip r:embed="rId1"/>
          <a:stretch/>
        </p:blipFill>
        <p:spPr>
          <a:xfrm>
            <a:off x="281160" y="2657520"/>
            <a:ext cx="86868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57200" y="107172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una herramienta que ayuda en el desarrollo del pensamiento crítico, específicamente en el ámbito de la é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571680" y="2838600"/>
            <a:ext cx="8229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compone de 4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h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comprensión del h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implicancias é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ementos para el discern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457200" y="212400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tuación o caso concreto que se analizará (se parte de la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realida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no de teorí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presenta el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tema o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ámbito temático del que se tratará el in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Descripció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de la sit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debe evitar valor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 HE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28760" y="171468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 HE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428760" y="414324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ultado: mueren 70 personas (31 chile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28760" y="306720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echa: Octubre de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428760" y="35719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ugar: Lima, Per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428760" y="24955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ceso: Accidente AeroPeru vuelo 6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428760" y="47149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usa basal: Falla de un sensor del av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457200" y="226692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introducen elementos históricos (historia del ca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ventualmente, elementos comparativos (casos similares, situaciones reales que acla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ciones teóricas que iluminen el problema o algunos elementos problemático de la situ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posición de las posiciones en pugna (dos o má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COMPRENSIÓN DEL HE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28760" y="2066760"/>
            <a:ext cx="822960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COMPRENSIÓ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DEL HE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28760" y="471024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gislación y normativa aérea, Procedimientos de ma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428760" y="341964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da aviso de cambiar procedimi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28760" y="39243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exto de accidentes aéreos ( no frecuentes pero siempre gr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28760" y="28479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ubo Accidente similar meses 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212400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dentificación de los “valores” que están en juego en este 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plicación de los conflictos de valor en ju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sentación de (algunas) consecuencias: éticas, sociales, políticas, culturales, ambientales, etc. derivadas del confli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700" spc="-1" strike="noStrike">
                <a:solidFill>
                  <a:srgbClr val="000000"/>
                </a:solidFill>
                <a:latin typeface="Times New Roman"/>
              </a:rPr>
              <a:t>IMPLICANCIAS  ÉTICA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700" spc="-1" strike="noStrike">
                <a:solidFill>
                  <a:srgbClr val="000000"/>
                </a:solidFill>
                <a:latin typeface="Times New Roman"/>
              </a:rPr>
              <a:t>IMPLICANCIAS  ÉTICA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285840" y="2066760"/>
            <a:ext cx="822960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285840" y="471024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ridad de las personas ante intereses económicos o eficiencia de las empr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285840" y="341964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sabilidad en 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285840" y="3924360"/>
            <a:ext cx="900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sabilidad de las personas: saber qué información es la que entregan los instru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285840" y="28479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sabilidad de Empresas aé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kelorza</cp:lastModifiedBy>
  <dcterms:modified xsi:type="dcterms:W3CDTF">2010-10-12T19:53:14Z</dcterms:modified>
  <cp:revision>59</cp:revision>
  <dc:subject/>
  <dc:title>EI1B2 clase semana 8</dc:title>
</cp:coreProperties>
</file>