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png" ContentType="image/png"/>
  <Override PartName="/ppt/media/image17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wmf" ContentType="image/x-wmf"/>
  <Override PartName="/ppt/media/image22.jpeg" ContentType="image/jpeg"/>
  <Override PartName="/ppt/media/image1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3A09-E1E2-47A5-8BA8-9D453E217DC9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semana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FE5C-FAB6-4ABF-9090-12D248886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E047-BB47-4950-ABD3-C472661305D1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semana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0767-4705-4452-8510-14F28E6A9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3845-A0A8-44E8-B32B-611F05E6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C766-DAC1-4CEB-840B-95DFB816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497F-13F6-4118-8F0B-CD0E8D63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C020-C3D2-4162-9810-62AE2024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8591-AB87-489C-8361-2ED4DE06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C446-DCF5-4D1B-A494-844945DF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DA13-188E-40DA-8DBF-1438D604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182B-EDE3-4C7A-B2A5-F2902599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1607-99AD-4D7B-98A1-76D1F54D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7801-1CB2-43F5-9084-1235A858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AC3A-1E1D-4AB3-A848-35EDF790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5B69-C363-4DBC-BFCA-07604666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AE2C-C3BE-4BD0-940D-06FD7083DAF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3819600" y="5516640"/>
            <a:ext cx="4568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79280" y="1125360"/>
            <a:ext cx="8569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lación de la variable que se desea medir, con la que efectivamente se mide, dependiendo del principio de funcion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51"/>
          <p:cNvGrpSpPr/>
          <p:nvPr/>
        </p:nvGrpSpPr>
        <p:grpSpPr>
          <a:xfrm>
            <a:off x="612720" y="3716280"/>
            <a:ext cx="1725840" cy="2016000"/>
            <a:chOff x="612720" y="3716280"/>
            <a:chExt cx="1725840" cy="2016000"/>
          </a:xfrm>
        </p:grpSpPr>
        <p:sp>
          <p:nvSpPr>
            <p:cNvPr id="104" name="Rectangle 16"/>
            <p:cNvSpPr/>
            <p:nvPr/>
          </p:nvSpPr>
          <p:spPr>
            <a:xfrm>
              <a:off x="1401840" y="5300640"/>
              <a:ext cx="64764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1763640" y="386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 flipH="1">
              <a:off x="1546200" y="414792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 flipH="1" flipV="1">
              <a:off x="1546200" y="4292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0"/>
            <p:cNvSpPr/>
            <p:nvPr/>
          </p:nvSpPr>
          <p:spPr>
            <a:xfrm flipH="1">
              <a:off x="1546200" y="443520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1"/>
            <p:cNvSpPr/>
            <p:nvPr/>
          </p:nvSpPr>
          <p:spPr>
            <a:xfrm flipH="1" flipV="1">
              <a:off x="1546200" y="45795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2"/>
            <p:cNvSpPr/>
            <p:nvPr/>
          </p:nvSpPr>
          <p:spPr>
            <a:xfrm flipH="1">
              <a:off x="1546200" y="4722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3"/>
            <p:cNvSpPr/>
            <p:nvPr/>
          </p:nvSpPr>
          <p:spPr>
            <a:xfrm flipH="1" flipV="1">
              <a:off x="1546200" y="4866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4"/>
            <p:cNvSpPr/>
            <p:nvPr/>
          </p:nvSpPr>
          <p:spPr>
            <a:xfrm>
              <a:off x="1762200" y="50115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1"/>
            <p:cNvSpPr/>
            <p:nvPr/>
          </p:nvSpPr>
          <p:spPr>
            <a:xfrm>
              <a:off x="1024200" y="40892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3"/>
            <p:cNvSpPr/>
            <p:nvPr/>
          </p:nvSpPr>
          <p:spPr>
            <a:xfrm>
              <a:off x="754200" y="385920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4"/>
            <p:cNvSpPr/>
            <p:nvPr/>
          </p:nvSpPr>
          <p:spPr>
            <a:xfrm flipH="1">
              <a:off x="75384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5"/>
            <p:cNvSpPr/>
            <p:nvPr/>
          </p:nvSpPr>
          <p:spPr>
            <a:xfrm flipH="1">
              <a:off x="969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6"/>
            <p:cNvSpPr/>
            <p:nvPr/>
          </p:nvSpPr>
          <p:spPr>
            <a:xfrm flipH="1">
              <a:off x="1185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7"/>
            <p:cNvSpPr/>
            <p:nvPr/>
          </p:nvSpPr>
          <p:spPr>
            <a:xfrm flipH="1">
              <a:off x="1401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8"/>
            <p:cNvSpPr/>
            <p:nvPr/>
          </p:nvSpPr>
          <p:spPr>
            <a:xfrm flipH="1">
              <a:off x="161928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9"/>
            <p:cNvSpPr/>
            <p:nvPr/>
          </p:nvSpPr>
          <p:spPr>
            <a:xfrm flipH="1">
              <a:off x="183492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0"/>
            <p:cNvSpPr/>
            <p:nvPr/>
          </p:nvSpPr>
          <p:spPr>
            <a:xfrm flipH="1">
              <a:off x="205092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3"/>
            <p:cNvSpPr/>
            <p:nvPr/>
          </p:nvSpPr>
          <p:spPr>
            <a:xfrm>
              <a:off x="1114560" y="494028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4"/>
            <p:cNvSpPr/>
            <p:nvPr/>
          </p:nvSpPr>
          <p:spPr>
            <a:xfrm flipH="1">
              <a:off x="1041120" y="494028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45"/>
            <p:cNvSpPr/>
            <p:nvPr/>
          </p:nvSpPr>
          <p:spPr>
            <a:xfrm>
              <a:off x="612720" y="4579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Picture 47" descr=""/>
          <p:cNvPicPr/>
          <p:nvPr/>
        </p:nvPicPr>
        <p:blipFill>
          <a:blip r:embed="rId1"/>
          <a:stretch/>
        </p:blipFill>
        <p:spPr>
          <a:xfrm>
            <a:off x="3419640" y="2492280"/>
            <a:ext cx="5505120" cy="40006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49"/>
          <p:cNvSpPr/>
          <p:nvPr/>
        </p:nvSpPr>
        <p:spPr>
          <a:xfrm rot="2238600">
            <a:off x="4858920" y="3933360"/>
            <a:ext cx="345960" cy="2232000"/>
          </a:xfrm>
          <a:custGeom>
            <a:avLst/>
            <a:gdLst>
              <a:gd name="textAreaLeft" fmla="*/ 0 w 345960"/>
              <a:gd name="textAreaRight" fmla="*/ 124920 w 3459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0"/>
          <p:cNvSpPr/>
          <p:nvPr/>
        </p:nvSpPr>
        <p:spPr>
          <a:xfrm>
            <a:off x="4932360" y="522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Zona Lineal (e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2"/>
          <p:cNvSpPr/>
          <p:nvPr/>
        </p:nvSpPr>
        <p:spPr>
          <a:xfrm rot="4855200">
            <a:off x="6984000" y="2386800"/>
            <a:ext cx="345960" cy="3024000"/>
          </a:xfrm>
          <a:custGeom>
            <a:avLst/>
            <a:gdLst>
              <a:gd name="textAreaLeft" fmla="*/ 0 w 345960"/>
              <a:gd name="textAreaRight" fmla="*/ 124920 w 3459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3"/>
          <p:cNvSpPr/>
          <p:nvPr/>
        </p:nvSpPr>
        <p:spPr>
          <a:xfrm>
            <a:off x="6373800" y="4156200"/>
            <a:ext cx="20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Zona No Lineal (p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4"/>
          <p:cNvSpPr/>
          <p:nvPr/>
        </p:nvSpPr>
        <p:spPr>
          <a:xfrm>
            <a:off x="324000" y="263700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. Medir masa con deformación de un res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ango de med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Valores mínimo y máximo donde se asegura una buena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penden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Sens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ínima medida po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39913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Exactit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ercanía a valor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324000" y="2421000"/>
            <a:ext cx="856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j. Se puede medir distancia con una regla graduada en décimas de milímetro (muy sensible), pero con problemas en la ubicación del cero, lo que dará consistentemente medidas inexac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eproduc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apacidad de obtener la misma medida, de un mismo valor, en condiciones o instantes dist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3851280" y="2054160"/>
            <a:ext cx="49752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66560" y="306864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sultado: mueren 70 personas (31 chile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9640" y="1341360"/>
            <a:ext cx="8209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alla puede ser muy grave: hasta la mu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468360" y="249228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echa: Octubre de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466560" y="364500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ugar: Lima, Per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468360" y="4221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uceso: Accidente AeroPeru vuelo 6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468360" y="479736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ausa basal: Falla de un sensor del av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l Av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Avion 7572on"/>
          <p:cNvPicPr/>
          <p:nvPr/>
        </p:nvPicPr>
        <p:blipFill>
          <a:blip r:embed="rId1"/>
          <a:stretch/>
        </p:blipFill>
        <p:spPr>
          <a:xfrm>
            <a:off x="2048040" y="1719360"/>
            <a:ext cx="5095800" cy="33526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3132000" y="5373720"/>
            <a:ext cx="51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oing 757-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Logo1_FCFM_apaisado_Oficial_JPG"/>
          <p:cNvPicPr/>
          <p:nvPr/>
        </p:nvPicPr>
        <p:blipFill>
          <a:blip r:embed="rId1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28-3"/>
          <p:cNvPicPr/>
          <p:nvPr/>
        </p:nvPicPr>
        <p:blipFill>
          <a:blip r:embed="rId2"/>
          <a:stretch/>
        </p:blipFill>
        <p:spPr>
          <a:xfrm>
            <a:off x="1042920" y="888840"/>
            <a:ext cx="4140360" cy="50803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5940360" y="3284640"/>
            <a:ext cx="24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(ver vide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aja “negr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Caja Negra cvr2ae"/>
          <p:cNvPicPr/>
          <p:nvPr/>
        </p:nvPicPr>
        <p:blipFill>
          <a:blip r:embed="rId1"/>
          <a:stretch/>
        </p:blipFill>
        <p:spPr>
          <a:xfrm>
            <a:off x="1547640" y="1484280"/>
            <a:ext cx="64090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Uso de material inadecuado. Se usó cinta color aluminio y  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usarse cinta color naranja fosforescente que d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REMOVE BEFORE FLIGH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39640" y="1701720"/>
            <a:ext cx="860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iseño inadecuado que puede ser usado 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(Después fue modificado colocando una ta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 realizada 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95280" y="4292640"/>
            <a:ext cx="84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No se quitó la c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395280" y="472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ntregar a operaciones con la cinta 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755640" y="515772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6"/>
          <p:cNvGraphicFramePr/>
          <p:nvPr/>
        </p:nvGraphicFramePr>
        <p:xfrm>
          <a:off x="5865840" y="189000"/>
          <a:ext cx="3278160" cy="191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5840" y="189000"/>
                    <a:ext cx="32781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7"/>
          <p:cNvGraphicFramePr/>
          <p:nvPr/>
        </p:nvGraphicFramePr>
        <p:xfrm>
          <a:off x="7020000" y="3500280"/>
          <a:ext cx="2009880" cy="26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0000" y="3500280"/>
                    <a:ext cx="20098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8" descr="transbordador-discovery"/>
          <p:cNvPicPr/>
          <p:nvPr/>
        </p:nvPicPr>
        <p:blipFill>
          <a:blip r:embed="rId5"/>
          <a:stretch/>
        </p:blipFill>
        <p:spPr>
          <a:xfrm>
            <a:off x="250920" y="260280"/>
            <a:ext cx="1765080" cy="3529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6"/>
          <a:stretch/>
        </p:blipFill>
        <p:spPr>
          <a:xfrm>
            <a:off x="250920" y="4076640"/>
            <a:ext cx="2898720" cy="1968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7"/>
          <a:stretch/>
        </p:blipFill>
        <p:spPr>
          <a:xfrm>
            <a:off x="4500720" y="2708280"/>
            <a:ext cx="863280" cy="194004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2"/>
          <p:cNvSpPr/>
          <p:nvPr/>
        </p:nvSpPr>
        <p:spPr>
          <a:xfrm rot="1287600">
            <a:off x="5724000" y="414936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 rot="19057200">
            <a:off x="4859280" y="169992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4"/>
          <p:cNvSpPr/>
          <p:nvPr/>
        </p:nvSpPr>
        <p:spPr>
          <a:xfrm rot="19834200">
            <a:off x="3203640" y="429228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"/>
          <p:cNvSpPr/>
          <p:nvPr/>
        </p:nvSpPr>
        <p:spPr>
          <a:xfrm rot="2665800">
            <a:off x="2771280" y="227664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2987640" y="2133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5148360" y="162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3419640" y="42181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6012000" y="39290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3059280" y="4724280"/>
            <a:ext cx="388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¿Cómo interactuamos con estos siste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12"/>
          <p:cNvPicPr/>
          <p:nvPr/>
        </p:nvPicPr>
        <p:blipFill>
          <a:blip r:embed="rId1"/>
          <a:stretch/>
        </p:blipFill>
        <p:spPr>
          <a:xfrm>
            <a:off x="1547640" y="1557360"/>
            <a:ext cx="633744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11"/>
          <p:cNvPicPr/>
          <p:nvPr/>
        </p:nvPicPr>
        <p:blipFill>
          <a:blip r:embed="rId1"/>
          <a:stretch/>
        </p:blipFill>
        <p:spPr>
          <a:xfrm>
            <a:off x="1619280" y="1557360"/>
            <a:ext cx="6172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10"/>
          <p:cNvPicPr/>
          <p:nvPr/>
        </p:nvPicPr>
        <p:blipFill>
          <a:blip r:embed="rId1"/>
          <a:stretch/>
        </p:blipFill>
        <p:spPr>
          <a:xfrm>
            <a:off x="1547640" y="1484280"/>
            <a:ext cx="64090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6"/>
          <p:cNvPicPr/>
          <p:nvPr/>
        </p:nvPicPr>
        <p:blipFill>
          <a:blip r:embed="rId1"/>
          <a:stretch/>
        </p:blipFill>
        <p:spPr>
          <a:xfrm>
            <a:off x="1403280" y="1557360"/>
            <a:ext cx="65534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detectar que sucedía algo anormal cuando d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imultáneamente 2 alarmas que son contradictor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velocidad excesiva y velocidad muy b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68360" y="1701720"/>
            <a:ext cx="860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visión inadecuada de la máquina antes 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spe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ebilidad del sistema informático a bo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468360" y="458136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324000" y="5013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e pudo haber desconectado la computadora de a bo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y haber volado con instrumentos análo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haber trabajad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aplicar el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250920" y="1916280"/>
            <a:ext cx="8280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mantenerse la potencia e inclinación natural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avión de acuerdo a la forma acostumbrada de vo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Por ningún motivo apagar motores ni aplicar fre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s preferible excederse en altura que volar demas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0" y="4221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l piloto y el copiloto tenían criterios dispares y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trabajaron en forma colabo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sumen de Err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68360" y="213192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68360" y="443700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Trabaj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468360" y="328464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466560" y="270828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Progra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sultado: </a:t>
            </a:r>
            <a:r>
              <a:rPr b="1" lang="es-ES" sz="4800" spc="-1" strike="noStrike">
                <a:solidFill>
                  <a:srgbClr val="ff0000"/>
                </a:solidFill>
                <a:latin typeface="Times New Roman"/>
              </a:rPr>
              <a:t>ACCID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Imagen2"/>
          <p:cNvPicPr/>
          <p:nvPr/>
        </p:nvPicPr>
        <p:blipFill>
          <a:blip r:embed="rId1"/>
          <a:stretch/>
        </p:blipFill>
        <p:spPr>
          <a:xfrm>
            <a:off x="539640" y="1833480"/>
            <a:ext cx="3662640" cy="2133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Imagen1"/>
          <p:cNvPicPr/>
          <p:nvPr/>
        </p:nvPicPr>
        <p:blipFill>
          <a:blip r:embed="rId2"/>
          <a:stretch/>
        </p:blipFill>
        <p:spPr>
          <a:xfrm>
            <a:off x="539640" y="1844640"/>
            <a:ext cx="3672000" cy="2138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2843280" y="1628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Sen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340000" y="414972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Actu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 flipH="1">
            <a:off x="2700360" y="2133720"/>
            <a:ext cx="50328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 flipV="1">
            <a:off x="2700360" y="3571920"/>
            <a:ext cx="503280" cy="72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3"/>
          <a:stretch/>
        </p:blipFill>
        <p:spPr>
          <a:xfrm>
            <a:off x="4932360" y="4437000"/>
            <a:ext cx="4010040" cy="18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BS00580_"/>
          <p:cNvPicPr/>
          <p:nvPr/>
        </p:nvPicPr>
        <p:blipFill>
          <a:blip r:embed="rId4"/>
          <a:stretch/>
        </p:blipFill>
        <p:spPr>
          <a:xfrm>
            <a:off x="7142040" y="3065400"/>
            <a:ext cx="1143000" cy="9619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sp>
        <p:nvSpPr>
          <p:cNvPr id="75" name="Line 14"/>
          <p:cNvSpPr/>
          <p:nvPr/>
        </p:nvSpPr>
        <p:spPr>
          <a:xfrm flipH="1" flipV="1">
            <a:off x="7903800" y="4055760"/>
            <a:ext cx="304920" cy="76212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5148360" y="41241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Trans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7020000" y="4508640"/>
            <a:ext cx="57636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Sen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ariable Análoga (p.ej. Termómetr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e Estatus (luz piloto) (Nivel alto – Nivel Baj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Interruptores (si toman a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temperatura"/>
          <p:cNvPicPr/>
          <p:nvPr/>
        </p:nvPicPr>
        <p:blipFill>
          <a:blip r:embed="rId1"/>
          <a:stretch/>
        </p:blipFill>
        <p:spPr>
          <a:xfrm>
            <a:off x="6551640" y="1674720"/>
            <a:ext cx="1836720" cy="218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5508720" y="4071960"/>
            <a:ext cx="3673440" cy="2525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2"/>
          <p:cNvSpPr/>
          <p:nvPr/>
        </p:nvSpPr>
        <p:spPr>
          <a:xfrm>
            <a:off x="250920" y="1341360"/>
            <a:ext cx="5689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ispositivo que transforma variable física en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Transmi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7280" y="3068280"/>
            <a:ext cx="77155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Hidrául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léctricos (Corriente, Volta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or comunic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(Foundation Fielbus, Profibus, 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84360" y="1844640"/>
            <a:ext cx="7715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vía información del sensor a indicador remoto o sistema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Actu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iscreto ( Calefactor: prendido/apagado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Análogo ( Válvula: </a:t>
            </a:r>
            <a:r>
              <a:rPr b="1" i="1" lang="es-ES" sz="28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% abier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50920" y="1341360"/>
            <a:ext cx="6265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ispositivo que permite provocar un efecto en 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13"/>
          <p:cNvGraphicFramePr/>
          <p:nvPr/>
        </p:nvGraphicFramePr>
        <p:xfrm>
          <a:off x="6343560" y="2924280"/>
          <a:ext cx="2765520" cy="36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43560" y="2924280"/>
                    <a:ext cx="276552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Picture 14" descr="Estufa"/>
          <p:cNvPicPr/>
          <p:nvPr/>
        </p:nvPicPr>
        <p:blipFill>
          <a:blip r:embed="rId3"/>
          <a:stretch/>
        </p:blipFill>
        <p:spPr>
          <a:xfrm>
            <a:off x="7156440" y="123840"/>
            <a:ext cx="18082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aracterísticas de un instru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spuesta 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ango de 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Sen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Exac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produc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incipio de Funcion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72835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Ej: Sensores de ni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apac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ondu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o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ibra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lat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859280" y="3006720"/>
            <a:ext cx="381492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agn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iniflo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Neu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ecá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Por pr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Ultras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95280" y="1268280"/>
            <a:ext cx="72835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enómeno físico, químico, eléctrico, etc. que permite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espuest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orma en el tiempo de la respue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57610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Hector Agusto</cp:lastModifiedBy>
  <dcterms:modified xsi:type="dcterms:W3CDTF">2010-08-30T16:16:46Z</dcterms:modified>
  <cp:revision>59</cp:revision>
  <dc:subject/>
  <dc:title>EI1B2 Introducción a la Ingeneiría II</dc:title>
</cp:coreProperties>
</file>