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B9E6-29FC-4184-AC2B-B56483D3CDE9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EE7B-0093-46CD-A78F-CE52D75AE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00B6-83DA-45EC-8C07-A97000452A78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B575-3E72-400D-9E5E-07D0FF6CD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D64-E414-4D91-B0BE-66DF2F43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204-F8C4-4C09-8721-B9E4124C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B132-D1E4-4E3F-AB5B-7A37C3EE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E62-04C4-4236-AE46-FE5C2EB4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D58-2141-4124-B78E-6B0BC4CA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5E4-2937-4A96-93E8-5DAB618B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791-9704-4219-B6C6-148E13A0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4D2-831B-46F7-AEE4-E0371AFC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056-6F17-42CA-BA6E-C6F49929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FE8-6C34-48CD-BC90-58AA4A1F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8CD-F80C-4B7D-AE1C-7A5DEF0D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20C-22BF-45DB-8008-BFCB6E0C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52D5-E114-47EF-99E2-CB10A0C0E6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51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104" name="Rectangle 16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0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3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1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3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4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7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8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9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0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5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47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49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0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2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3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4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Avion 7572on"/>
          <p:cNvPicPr/>
          <p:nvPr/>
        </p:nvPicPr>
        <p:blipFill>
          <a:blip r:embed="rId1"/>
          <a:stretch/>
        </p:blipFill>
        <p:spPr>
          <a:xfrm>
            <a:off x="2048040" y="1719360"/>
            <a:ext cx="5095800" cy="3352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Logo1_FCFM_apaisado_Oficial_JPG"/>
          <p:cNvPicPr/>
          <p:nvPr/>
        </p:nvPicPr>
        <p:blipFill>
          <a:blip r:embed="rId1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28-3"/>
          <p:cNvPicPr/>
          <p:nvPr/>
        </p:nvPicPr>
        <p:blipFill>
          <a:blip r:embed="rId2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Caja Negra cvr2ae"/>
          <p:cNvPicPr/>
          <p:nvPr/>
        </p:nvPicPr>
        <p:blipFill>
          <a:blip r:embed="rId1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6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7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8" descr="transbordador-discovery"/>
          <p:cNvPicPr/>
          <p:nvPr/>
        </p:nvPicPr>
        <p:blipFill>
          <a:blip r:embed="rId5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7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2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12"/>
          <p:cNvPicPr/>
          <p:nvPr/>
        </p:nvPicPr>
        <p:blipFill>
          <a:blip r:embed="rId1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11"/>
          <p:cNvPicPr/>
          <p:nvPr/>
        </p:nvPicPr>
        <p:blipFill>
          <a:blip r:embed="rId1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10"/>
          <p:cNvPicPr/>
          <p:nvPr/>
        </p:nvPicPr>
        <p:blipFill>
          <a:blip r:embed="rId1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6"/>
          <p:cNvPicPr/>
          <p:nvPr/>
        </p:nvPicPr>
        <p:blipFill>
          <a:blip r:embed="rId1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s-E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magen2"/>
          <p:cNvPicPr/>
          <p:nvPr/>
        </p:nvPicPr>
        <p:blipFill>
          <a:blip r:embed="rId1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Imagen1"/>
          <p:cNvPicPr/>
          <p:nvPr/>
        </p:nvPicPr>
        <p:blipFill>
          <a:blip r:embed="rId2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3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BS00580_"/>
          <p:cNvPicPr/>
          <p:nvPr/>
        </p:nvPicPr>
        <p:blipFill>
          <a:blip r:embed="rId4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75" name="Line 14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temperatura"/>
          <p:cNvPicPr/>
          <p:nvPr/>
        </p:nvPicPr>
        <p:blipFill>
          <a:blip r:embed="rId1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3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14" descr="Estufa"/>
          <p:cNvPicPr/>
          <p:nvPr/>
        </p:nvPicPr>
        <p:blipFill>
          <a:blip r:embed="rId3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Hector Agusto</cp:lastModifiedBy>
  <dcterms:modified xsi:type="dcterms:W3CDTF">2010-08-30T16:16:46Z</dcterms:modified>
  <cp:revision>59</cp:revision>
  <dc:subject/>
  <dc:title>EI1B2 Introducción a la Ingeneiría II</dc:title>
</cp:coreProperties>
</file>