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BB1A-446E-4C09-9C38-66D18ADE255C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970C-8BE1-4AC0-8CA1-09B7C7CAC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98AD-6259-4246-9005-C4057E0E5703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8622-D8E1-4BFE-ADC4-3B5C66550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EAF-3A38-4ABF-BDDF-2104E608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91E-BCD0-47B5-929B-527BB25A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2E2-E509-4A9B-95FD-E4AFD74F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67AB-9CB6-47BC-AE81-86A28B87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7847-C203-45C3-B57B-5FCAC7F7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026-E549-4D31-A923-C8C3BE37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560E-CC14-4047-BBBA-2C5A41FC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710E-7ADD-4C19-9750-1DA1AC15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A65-5A19-468B-9108-D19C2B51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C4A-D7AF-4C16-A468-52615003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3998-BB89-4062-87ED-2D8740B9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C26-9219-4A6C-BBC5-BAAB65C6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4E39-BF8E-4B54-9112-7CFDF79126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819600" y="5516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79280" y="112536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lación de la variable que se desea medir, con la que efectivamente se mide, dependiendo del principio de funci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51"/>
          <p:cNvGrpSpPr/>
          <p:nvPr/>
        </p:nvGrpSpPr>
        <p:grpSpPr>
          <a:xfrm>
            <a:off x="612720" y="3716280"/>
            <a:ext cx="1725840" cy="2016000"/>
            <a:chOff x="612720" y="3716280"/>
            <a:chExt cx="1725840" cy="2016000"/>
          </a:xfrm>
        </p:grpSpPr>
        <p:sp>
          <p:nvSpPr>
            <p:cNvPr id="104" name="Rectangle 16"/>
            <p:cNvSpPr/>
            <p:nvPr/>
          </p:nvSpPr>
          <p:spPr>
            <a:xfrm>
              <a:off x="1401840" y="5300640"/>
              <a:ext cx="647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1763640" y="38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 flipH="1">
              <a:off x="1546200" y="41479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 flipH="1" flipV="1">
              <a:off x="1546200" y="4292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0"/>
            <p:cNvSpPr/>
            <p:nvPr/>
          </p:nvSpPr>
          <p:spPr>
            <a:xfrm flipH="1">
              <a:off x="1546200" y="44352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1"/>
            <p:cNvSpPr/>
            <p:nvPr/>
          </p:nvSpPr>
          <p:spPr>
            <a:xfrm flipH="1" flipV="1">
              <a:off x="1546200" y="45795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2"/>
            <p:cNvSpPr/>
            <p:nvPr/>
          </p:nvSpPr>
          <p:spPr>
            <a:xfrm flipH="1">
              <a:off x="1546200" y="4722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3"/>
            <p:cNvSpPr/>
            <p:nvPr/>
          </p:nvSpPr>
          <p:spPr>
            <a:xfrm flipH="1" flipV="1">
              <a:off x="1546200" y="4866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>
              <a:off x="1762200" y="50115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1"/>
            <p:cNvSpPr/>
            <p:nvPr/>
          </p:nvSpPr>
          <p:spPr>
            <a:xfrm>
              <a:off x="1024200" y="4089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3"/>
            <p:cNvSpPr/>
            <p:nvPr/>
          </p:nvSpPr>
          <p:spPr>
            <a:xfrm>
              <a:off x="754200" y="3859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4"/>
            <p:cNvSpPr/>
            <p:nvPr/>
          </p:nvSpPr>
          <p:spPr>
            <a:xfrm flipH="1">
              <a:off x="75384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5"/>
            <p:cNvSpPr/>
            <p:nvPr/>
          </p:nvSpPr>
          <p:spPr>
            <a:xfrm flipH="1">
              <a:off x="969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6"/>
            <p:cNvSpPr/>
            <p:nvPr/>
          </p:nvSpPr>
          <p:spPr>
            <a:xfrm flipH="1">
              <a:off x="1185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7"/>
            <p:cNvSpPr/>
            <p:nvPr/>
          </p:nvSpPr>
          <p:spPr>
            <a:xfrm flipH="1">
              <a:off x="1401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8"/>
            <p:cNvSpPr/>
            <p:nvPr/>
          </p:nvSpPr>
          <p:spPr>
            <a:xfrm flipH="1">
              <a:off x="161928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9"/>
            <p:cNvSpPr/>
            <p:nvPr/>
          </p:nvSpPr>
          <p:spPr>
            <a:xfrm flipH="1">
              <a:off x="183492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0"/>
            <p:cNvSpPr/>
            <p:nvPr/>
          </p:nvSpPr>
          <p:spPr>
            <a:xfrm flipH="1">
              <a:off x="205092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>
              <a:off x="1114560" y="494028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>
              <a:off x="1041120" y="49402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5"/>
            <p:cNvSpPr/>
            <p:nvPr/>
          </p:nvSpPr>
          <p:spPr>
            <a:xfrm>
              <a:off x="612720" y="4579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47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5505120" cy="40006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49"/>
          <p:cNvSpPr/>
          <p:nvPr/>
        </p:nvSpPr>
        <p:spPr>
          <a:xfrm rot="2238600">
            <a:off x="4858920" y="3933360"/>
            <a:ext cx="345960" cy="2232000"/>
          </a:xfrm>
          <a:custGeom>
            <a:avLst/>
            <a:gdLst>
              <a:gd name="textAreaLeft" fmla="*/ 0 w 345960"/>
              <a:gd name="textAreaRight" fmla="*/ 124920 w 3459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0"/>
          <p:cNvSpPr/>
          <p:nvPr/>
        </p:nvSpPr>
        <p:spPr>
          <a:xfrm>
            <a:off x="4932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Lineal (e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2"/>
          <p:cNvSpPr/>
          <p:nvPr/>
        </p:nvSpPr>
        <p:spPr>
          <a:xfrm rot="4855200">
            <a:off x="6984000" y="2386800"/>
            <a:ext cx="345960" cy="3024000"/>
          </a:xfrm>
          <a:custGeom>
            <a:avLst/>
            <a:gdLst>
              <a:gd name="textAreaLeft" fmla="*/ 0 w 345960"/>
              <a:gd name="textAreaRight" fmla="*/ 124920 w 3459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3"/>
          <p:cNvSpPr/>
          <p:nvPr/>
        </p:nvSpPr>
        <p:spPr>
          <a:xfrm>
            <a:off x="6373800" y="415620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No Lineal (p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4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. Medir masa con deformación de un re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ango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Valores mínimo y máximo donde se asegura una buena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pende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ínima medida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3991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ercanía a val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24000" y="24210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j. Se puede medir distancia con una regla graduada en décimas de milímetro (muy sensible), pero con problemas en la ubicación del cero, lo que dará consistentemente medidas inex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produc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dad de obtener la misma medida, de un mismo valor, en condiciones o instante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3851280" y="2054160"/>
            <a:ext cx="49752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66560" y="3068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sultado: mueren 70 personas (31 chile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9640" y="1341360"/>
            <a:ext cx="820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lla puede ser muy grave: hasta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68360" y="249228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cha: Octubr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6656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ugar: Lima, Pe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468360" y="422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ceso: Accidente AeroPeru vuelo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68360" y="4797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ausa basal: Falla de un sensor del av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l Av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Avion 7572on"/>
          <p:cNvPicPr/>
          <p:nvPr/>
        </p:nvPicPr>
        <p:blipFill>
          <a:blip r:embed="rId1"/>
          <a:stretch/>
        </p:blipFill>
        <p:spPr>
          <a:xfrm>
            <a:off x="2048040" y="1719360"/>
            <a:ext cx="5095800" cy="3352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3132000" y="537372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oing 757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Logo1_FCFM_apaisado_Oficial_JPG"/>
          <p:cNvPicPr/>
          <p:nvPr/>
        </p:nvPicPr>
        <p:blipFill>
          <a:blip r:embed="rId1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28-3"/>
          <p:cNvPicPr/>
          <p:nvPr/>
        </p:nvPicPr>
        <p:blipFill>
          <a:blip r:embed="rId2"/>
          <a:stretch/>
        </p:blipFill>
        <p:spPr>
          <a:xfrm>
            <a:off x="1042920" y="888840"/>
            <a:ext cx="4140360" cy="50803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5940360" y="3284640"/>
            <a:ext cx="24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(ver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ja “negr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Caja Negra cvr2ae"/>
          <p:cNvPicPr/>
          <p:nvPr/>
        </p:nvPicPr>
        <p:blipFill>
          <a:blip r:embed="rId1"/>
          <a:stretch/>
        </p:blipFill>
        <p:spPr>
          <a:xfrm>
            <a:off x="1547640" y="1484280"/>
            <a:ext cx="64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Uso de material inadecuado. Se usó cinta color aluminio y  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usarse cinta color naranja fosforescente que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REMOVE BEFORE F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39640" y="1701720"/>
            <a:ext cx="860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 inadecuado que puede ser usa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Después fue modificado colocando una t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 realizada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95280" y="429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No se quitó la c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95280" y="472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ntregar a operaciones con la cinta 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755640" y="515772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6"/>
          <p:cNvGraphicFramePr/>
          <p:nvPr/>
        </p:nvGraphicFramePr>
        <p:xfrm>
          <a:off x="5865840" y="189000"/>
          <a:ext cx="3278160" cy="19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5840" y="189000"/>
                    <a:ext cx="32781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7"/>
          <p:cNvGraphicFramePr/>
          <p:nvPr/>
        </p:nvGraphicFramePr>
        <p:xfrm>
          <a:off x="7020000" y="3500280"/>
          <a:ext cx="2009880" cy="26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0000" y="3500280"/>
                    <a:ext cx="20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8" descr="transbordador-discovery"/>
          <p:cNvPicPr/>
          <p:nvPr/>
        </p:nvPicPr>
        <p:blipFill>
          <a:blip r:embed="rId5"/>
          <a:stretch/>
        </p:blipFill>
        <p:spPr>
          <a:xfrm>
            <a:off x="250920" y="260280"/>
            <a:ext cx="1765080" cy="352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6"/>
          <a:stretch/>
        </p:blipFill>
        <p:spPr>
          <a:xfrm>
            <a:off x="250920" y="4076640"/>
            <a:ext cx="2898720" cy="1968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7"/>
          <a:stretch/>
        </p:blipFill>
        <p:spPr>
          <a:xfrm>
            <a:off x="4500720" y="2708280"/>
            <a:ext cx="863280" cy="19400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2"/>
          <p:cNvSpPr/>
          <p:nvPr/>
        </p:nvSpPr>
        <p:spPr>
          <a:xfrm rot="1287600">
            <a:off x="5724000" y="414936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 rot="19057200">
            <a:off x="4859280" y="169992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 rot="19834200">
            <a:off x="3203640" y="429228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 rot="2665800">
            <a:off x="2771280" y="227664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298764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14836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419640" y="4218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601200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059280" y="472428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¿Cómo interactuamos con estos sist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12"/>
          <p:cNvPicPr/>
          <p:nvPr/>
        </p:nvPicPr>
        <p:blipFill>
          <a:blip r:embed="rId1"/>
          <a:stretch/>
        </p:blipFill>
        <p:spPr>
          <a:xfrm>
            <a:off x="1547640" y="1557360"/>
            <a:ext cx="63374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11"/>
          <p:cNvPicPr/>
          <p:nvPr/>
        </p:nvPicPr>
        <p:blipFill>
          <a:blip r:embed="rId1"/>
          <a:stretch/>
        </p:blipFill>
        <p:spPr>
          <a:xfrm>
            <a:off x="1619280" y="1557360"/>
            <a:ext cx="617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10"/>
          <p:cNvPicPr/>
          <p:nvPr/>
        </p:nvPicPr>
        <p:blipFill>
          <a:blip r:embed="rId1"/>
          <a:stretch/>
        </p:blipFill>
        <p:spPr>
          <a:xfrm>
            <a:off x="1547640" y="1484280"/>
            <a:ext cx="64090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6"/>
          <p:cNvPicPr/>
          <p:nvPr/>
        </p:nvPicPr>
        <p:blipFill>
          <a:blip r:embed="rId1"/>
          <a:stretch/>
        </p:blipFill>
        <p:spPr>
          <a:xfrm>
            <a:off x="1403280" y="1557360"/>
            <a:ext cx="6553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detectar que sucedía algo anormal cuando 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imultáneamente 2 alarmas que son contradict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velocidad excesiva y velocidad muy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68360" y="1701720"/>
            <a:ext cx="860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visión inadecuada de la máquina antes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spe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ebilidad del sistema informático a b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468360" y="458136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324000" y="501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pudo haber desconectado la computadora de a 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y haber volado con instrumentos anál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haber trabajad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aplicar el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50920" y="191628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mantenerse la potencia e inclinación natural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vión de acuerdo a la forma acostumbrada de v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Por ningún motivo apagar motores ni aplicar fr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s preferible excederse en altura que volar demas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0" y="422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l piloto y el copiloto tenían criterios dispares 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trabajaron en forma colabo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me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68360" y="213192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68360" y="4437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468360" y="328464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66560" y="270828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ltado: </a:t>
            </a:r>
            <a:r>
              <a:rPr b="1" lang="es-ES" sz="4800" spc="-1" strike="noStrike">
                <a:solidFill>
                  <a:srgbClr val="ff0000"/>
                </a:solidFill>
                <a:latin typeface="Times New Roman"/>
              </a:rPr>
              <a:t>ACCID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Imagen2"/>
          <p:cNvPicPr/>
          <p:nvPr/>
        </p:nvPicPr>
        <p:blipFill>
          <a:blip r:embed="rId1"/>
          <a:stretch/>
        </p:blipFill>
        <p:spPr>
          <a:xfrm>
            <a:off x="539640" y="1833480"/>
            <a:ext cx="366264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Imagen1"/>
          <p:cNvPicPr/>
          <p:nvPr/>
        </p:nvPicPr>
        <p:blipFill>
          <a:blip r:embed="rId2"/>
          <a:stretch/>
        </p:blipFill>
        <p:spPr>
          <a:xfrm>
            <a:off x="539640" y="1844640"/>
            <a:ext cx="3672000" cy="2138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284328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34000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Actu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 flipH="1">
            <a:off x="2700360" y="2133720"/>
            <a:ext cx="50328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V="1">
            <a:off x="2700360" y="357192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3"/>
          <a:stretch/>
        </p:blipFill>
        <p:spPr>
          <a:xfrm>
            <a:off x="4932360" y="4437000"/>
            <a:ext cx="4010040" cy="18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BS00580_"/>
          <p:cNvPicPr/>
          <p:nvPr/>
        </p:nvPicPr>
        <p:blipFill>
          <a:blip r:embed="rId4"/>
          <a:stretch/>
        </p:blipFill>
        <p:spPr>
          <a:xfrm>
            <a:off x="7142040" y="3065400"/>
            <a:ext cx="1143000" cy="961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75" name="Line 14"/>
          <p:cNvSpPr/>
          <p:nvPr/>
        </p:nvSpPr>
        <p:spPr>
          <a:xfrm flipH="1" flipV="1">
            <a:off x="7903800" y="405576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148360" y="41241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7020000" y="4508640"/>
            <a:ext cx="57636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ariable Análoga (p.ej. Termómetr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e Estatus (luz piloto) (Nivel alto – Nivel Baj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nterruptores (si toman a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temperatura"/>
          <p:cNvPicPr/>
          <p:nvPr/>
        </p:nvPicPr>
        <p:blipFill>
          <a:blip r:embed="rId1"/>
          <a:stretch/>
        </p:blipFill>
        <p:spPr>
          <a:xfrm>
            <a:off x="6551640" y="167472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5508720" y="4071960"/>
            <a:ext cx="3673440" cy="252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250920" y="1341360"/>
            <a:ext cx="568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ispositivo que transforma variable física en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7280" y="3068280"/>
            <a:ext cx="7715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idráu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léctricos (Corriente, Volt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or comun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Foundation Fielbus, Profibus, 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84360" y="184464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vía información del sensor a indicador remoto o sistema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iscreto ( Calefactor: prendido/apagado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Análogo ( Válvula: </a:t>
            </a:r>
            <a:r>
              <a:rPr b="1" i="1" lang="es-E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% abie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50920" y="1341360"/>
            <a:ext cx="6265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ispositivo que permite provocar un efecto 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3"/>
          <p:cNvGraphicFramePr/>
          <p:nvPr/>
        </p:nvGraphicFramePr>
        <p:xfrm>
          <a:off x="6343560" y="2924280"/>
          <a:ext cx="2765520" cy="36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3560" y="2924280"/>
                    <a:ext cx="27655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14" descr="Estufa"/>
          <p:cNvPicPr/>
          <p:nvPr/>
        </p:nvPicPr>
        <p:blipFill>
          <a:blip r:embed="rId3"/>
          <a:stretch/>
        </p:blipFill>
        <p:spPr>
          <a:xfrm>
            <a:off x="7156440" y="123840"/>
            <a:ext cx="1808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racterísticas de un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spuesta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ngo de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roduc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2835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j: Sensores de ni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ib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lat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859280" y="3006720"/>
            <a:ext cx="38149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agn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iniflo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eu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ecá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or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ltras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95280" y="1268280"/>
            <a:ext cx="7283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nómeno físico, químico, eléctrico, etc. que permi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orma en el tiempo d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5761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Hector Agusto</cp:lastModifiedBy>
  <dcterms:modified xsi:type="dcterms:W3CDTF">2010-08-30T16:16:46Z</dcterms:modified>
  <cp:revision>59</cp:revision>
  <dc:subject/>
  <dc:title>EI1B2 Introducción a la Ingeneiría II</dc:title>
</cp:coreProperties>
</file>