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F00-194C-4B5C-8B0E-AE03B493B281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81C2-167E-40C3-8F1B-0DDCB9FC4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4C2F-9232-427C-8A79-4E1D37CABD1C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4570-4C78-4E9E-BB8F-B976DC954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E67-3C9E-41B8-823E-C6993708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C7A-FEFA-4EC0-946F-775D5313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4B2-4921-496E-AD7B-7A915725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7D0-2296-4429-A80A-14E4A9FF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26C-B377-487C-9453-869B433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54A-C39B-465C-B7FC-C1D6C66C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04A-819D-4745-A2D0-B8F7B38D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0B1-052F-4C9F-BA36-F4864250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674-DFB2-482F-9627-8ED8079E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48C-C520-47A3-BC29-0B52C40F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5F9-38FB-4DF2-A8FE-BB67215D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D3A-541C-44B6-9F24-7106DF6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1EB4-E64E-42B8-A5EE-489823AC7A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1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1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2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5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7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1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1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1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1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2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3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4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1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3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10-08-30T16:16:46Z</dcterms:modified>
  <cp:revision>59</cp:revision>
  <dc:subject/>
  <dc:title>EI1B2 Introducción a la Ingeneiría II</dc:title>
</cp:coreProperties>
</file>