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7C6D-5455-45BB-8C67-52C60E44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E640-884E-4796-ACE6-A6843B36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4586-EDAA-4C0B-A1EC-6D3FADE02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06B0-2F21-41A4-86F7-A5C48AEF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0F0A-7D86-4564-B4DD-929CEF96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F38B-66F9-46D6-9BC5-3B8B7867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83CE-DCF2-4AC2-AB9F-52D9071A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8559-8B62-4014-8034-3601970D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1570-2111-4185-B733-0397BE3E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C15B-E16B-4FA7-9B0E-B63BB7AE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3E34-7ACF-4083-B1A0-3F91DD2E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B8BA-6315-4DB9-929B-02CFDEE4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CE33-D003-459F-8DC9-E355FCC3A34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3 CuadroTexto"/>
          <p:cNvSpPr/>
          <p:nvPr/>
        </p:nvSpPr>
        <p:spPr>
          <a:xfrm>
            <a:off x="594720" y="1643040"/>
            <a:ext cx="521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oble Rol de Ingenier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4 CuadroTexto"/>
          <p:cNvSpPr/>
          <p:nvPr/>
        </p:nvSpPr>
        <p:spPr>
          <a:xfrm>
            <a:off x="1285920" y="2643120"/>
            <a:ext cx="7429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omo trabajador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iegos, uso de E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ngeniero (propiamente tal)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ignar labores, capacitar,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708120" y="466560"/>
            <a:ext cx="7726320" cy="59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260280" y="752400"/>
            <a:ext cx="86216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280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09520" y="790560"/>
            <a:ext cx="872352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57120" y="714240"/>
          <a:ext cx="8429760" cy="5691240"/>
        </p:xfrm>
        <a:graphic>
          <a:graphicData uri="http://schemas.openxmlformats.org/drawingml/2006/table">
            <a:tbl>
              <a:tblPr/>
              <a:tblGrid>
                <a:gridCol w="500040"/>
                <a:gridCol w="2746440"/>
                <a:gridCol w="2654280"/>
                <a:gridCol w="2529000"/>
              </a:tblGrid>
              <a:tr h="305280"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IF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e de Cáte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l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0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sentación del Curso, 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teamiento del Proyecto 1, Dis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vestigación personal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guridad Indust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mación de Grupos: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luvia de Ideas, Bosquej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finición Roles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Entregar lista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idades de Me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delo en Cartón Pl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 informe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trumen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fección de planos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e Revisión infor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forme (UCursos) Listados de Materiales, piezas y partes, Planos, cubicación , manual constru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fcf2a988ba1d2541e1af16c336a_740"/>
          <p:cNvPicPr/>
          <p:nvPr/>
        </p:nvPicPr>
        <p:blipFill>
          <a:blip r:embed="rId1"/>
          <a:stretch/>
        </p:blipFill>
        <p:spPr>
          <a:xfrm>
            <a:off x="684360" y="620640"/>
            <a:ext cx="7775280" cy="58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~Oh_dear~9"/>
          <p:cNvPicPr/>
          <p:nvPr/>
        </p:nvPicPr>
        <p:blipFill>
          <a:blip r:embed="rId1"/>
          <a:stretch/>
        </p:blipFill>
        <p:spPr>
          <a:xfrm>
            <a:off x="826920" y="692280"/>
            <a:ext cx="640908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~Oh_dear2_"/>
          <p:cNvPicPr/>
          <p:nvPr/>
        </p:nvPicPr>
        <p:blipFill>
          <a:blip r:embed="rId1"/>
          <a:stretch/>
        </p:blipFill>
        <p:spPr>
          <a:xfrm>
            <a:off x="1042920" y="620640"/>
            <a:ext cx="669780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~safety_first~14"/>
          <p:cNvPicPr/>
          <p:nvPr/>
        </p:nvPicPr>
        <p:blipFill>
          <a:blip r:embed="rId1"/>
          <a:stretch/>
        </p:blipFill>
        <p:spPr>
          <a:xfrm>
            <a:off x="900000" y="620640"/>
            <a:ext cx="67676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3222b8dd1d736c82020c65151389_612"/>
          <p:cNvPicPr/>
          <p:nvPr/>
        </p:nvPicPr>
        <p:blipFill>
          <a:blip r:embed="rId1"/>
          <a:stretch/>
        </p:blipFill>
        <p:spPr>
          <a:xfrm>
            <a:off x="1657440" y="-100080"/>
            <a:ext cx="5172120" cy="692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459263e6f799c9b170c552985459_740"/>
          <p:cNvPicPr/>
          <p:nvPr/>
        </p:nvPicPr>
        <p:blipFill>
          <a:blip r:embed="rId1"/>
          <a:stretch/>
        </p:blipFill>
        <p:spPr>
          <a:xfrm>
            <a:off x="1047600" y="33480"/>
            <a:ext cx="698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File_2008124164757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3 CuadroTexto"/>
          <p:cNvSpPr/>
          <p:nvPr/>
        </p:nvSpPr>
        <p:spPr>
          <a:xfrm>
            <a:off x="585360" y="1643040"/>
            <a:ext cx="282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mplicanci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4 CuadroTexto"/>
          <p:cNvSpPr/>
          <p:nvPr/>
        </p:nvSpPr>
        <p:spPr>
          <a:xfrm>
            <a:off x="1500120" y="2428920"/>
            <a:ext cx="7643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écn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cedimientos, investigación acc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Legales (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y 16744, seguro social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vención repa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conóm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érd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Ét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guridad y Vida de pers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Hector Agusto</cp:lastModifiedBy>
  <dcterms:modified xsi:type="dcterms:W3CDTF">2010-08-16T21:38:26Z</dcterms:modified>
  <cp:revision>37</cp:revision>
  <dc:subject/>
  <dc:title>EL63A-Taller de Proyecto en Control II</dc:title>
</cp:coreProperties>
</file>