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media/image9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E6858-96B0-4177-B272-2731DE63C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1AFBE-EFE7-4964-8F16-9540EFD85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4DBCF-3C01-4294-A3F0-DE48DDC20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6A6D2-3C7C-431D-AC8C-385813434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D7AFD-976F-4848-8B49-8D74E27F2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BB6C6-46C7-4731-8F8D-5D70D7008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57F36-2DBE-406B-80DF-C3F7A1ECA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4A554-CEFA-4F25-AE40-D28A2ED40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C6632-A832-4A93-9AB1-C265F85A5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03735-8745-44D3-942C-0E0C971CE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4C44B-B802-4856-B9C7-DD35E8DFB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7F612-3B18-4D6A-B606-243F0152F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7C7D6-233C-41E0-BDD2-D1EFFA4149BB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989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EI1102 Introducción a la Ingeniería 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634920" y="5516280"/>
            <a:ext cx="4568760" cy="62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Héctor Agusto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Seguridad Industri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3 CuadroTexto"/>
          <p:cNvSpPr/>
          <p:nvPr/>
        </p:nvSpPr>
        <p:spPr>
          <a:xfrm>
            <a:off x="594720" y="1643040"/>
            <a:ext cx="5216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Doble Rol de Ingeniero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4 CuadroTexto"/>
          <p:cNvSpPr/>
          <p:nvPr/>
        </p:nvSpPr>
        <p:spPr>
          <a:xfrm>
            <a:off x="1285920" y="2643120"/>
            <a:ext cx="74293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Como trabajador: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riegos, uso de EP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Ingeniero (propiamente tal):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signar labores, capacitar, diseñ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Vide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708120" y="466560"/>
            <a:ext cx="7726320" cy="592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3" descr=""/>
          <p:cNvPicPr/>
          <p:nvPr/>
        </p:nvPicPr>
        <p:blipFill>
          <a:blip r:embed="rId1"/>
          <a:stretch/>
        </p:blipFill>
        <p:spPr>
          <a:xfrm>
            <a:off x="260280" y="752400"/>
            <a:ext cx="8621640" cy="535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324000" y="404640"/>
            <a:ext cx="8280360" cy="61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209520" y="790560"/>
            <a:ext cx="872352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3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357120" y="714240"/>
          <a:ext cx="8429760" cy="5691240"/>
        </p:xfrm>
        <a:graphic>
          <a:graphicData uri="http://schemas.openxmlformats.org/drawingml/2006/table">
            <a:tbl>
              <a:tblPr/>
              <a:tblGrid>
                <a:gridCol w="500040"/>
                <a:gridCol w="2746440"/>
                <a:gridCol w="2654280"/>
                <a:gridCol w="2529000"/>
              </a:tblGrid>
              <a:tr h="305280">
                <a:tc gridSpan="4"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LANIFICA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308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e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lase de Cátedr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Tall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erson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22004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resentación del Curso, </a:t>
                      </a:r>
                      <a:br>
                        <a:rPr sz="2000"/>
                      </a:b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lanteamiento del Proyecto 1, Diseñ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nvestigación personal (UCurso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1512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eguridad Industri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Formación de Grupos: </a:t>
                      </a: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Lluvia de Ideas, Bosquej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Definición Roles</a:t>
                      </a:r>
                      <a:br>
                        <a:rPr sz="2000"/>
                      </a:b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(Entregar listado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8328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Unidades de Medid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odelo en Cartón Plu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re informe (UCurso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3480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nstrumenta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onfección de planos</a:t>
                      </a: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e Revisión infor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nforme (UCursos) Listados de Materiales, piezas y partes, Planos, cubicación , manual constructiv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cfcf2a988ba1d2541e1af16c336a_740"/>
          <p:cNvPicPr/>
          <p:nvPr/>
        </p:nvPicPr>
        <p:blipFill>
          <a:blip r:embed="rId1"/>
          <a:stretch/>
        </p:blipFill>
        <p:spPr>
          <a:xfrm>
            <a:off x="684360" y="620640"/>
            <a:ext cx="7775280" cy="584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~Oh_dear~9"/>
          <p:cNvPicPr/>
          <p:nvPr/>
        </p:nvPicPr>
        <p:blipFill>
          <a:blip r:embed="rId1"/>
          <a:stretch/>
        </p:blipFill>
        <p:spPr>
          <a:xfrm>
            <a:off x="826920" y="692280"/>
            <a:ext cx="6409080" cy="47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3" descr="~Oh_dear2_"/>
          <p:cNvPicPr/>
          <p:nvPr/>
        </p:nvPicPr>
        <p:blipFill>
          <a:blip r:embed="rId1"/>
          <a:stretch/>
        </p:blipFill>
        <p:spPr>
          <a:xfrm>
            <a:off x="1042920" y="620640"/>
            <a:ext cx="6697800" cy="502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~safety_first~14"/>
          <p:cNvPicPr/>
          <p:nvPr/>
        </p:nvPicPr>
        <p:blipFill>
          <a:blip r:embed="rId1"/>
          <a:stretch/>
        </p:blipFill>
        <p:spPr>
          <a:xfrm>
            <a:off x="900000" y="620640"/>
            <a:ext cx="6767640" cy="552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3222b8dd1d736c82020c65151389_612"/>
          <p:cNvPicPr/>
          <p:nvPr/>
        </p:nvPicPr>
        <p:blipFill>
          <a:blip r:embed="rId1"/>
          <a:stretch/>
        </p:blipFill>
        <p:spPr>
          <a:xfrm>
            <a:off x="1657440" y="-100080"/>
            <a:ext cx="5172120" cy="692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459263e6f799c9b170c552985459_740"/>
          <p:cNvPicPr/>
          <p:nvPr/>
        </p:nvPicPr>
        <p:blipFill>
          <a:blip r:embed="rId1"/>
          <a:stretch/>
        </p:blipFill>
        <p:spPr>
          <a:xfrm>
            <a:off x="1047600" y="33480"/>
            <a:ext cx="6980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3" descr="File_2008124164757"/>
          <p:cNvPicPr/>
          <p:nvPr/>
        </p:nvPicPr>
        <p:blipFill>
          <a:blip r:embed="rId1"/>
          <a:stretch/>
        </p:blipFill>
        <p:spPr>
          <a:xfrm>
            <a:off x="611280" y="549360"/>
            <a:ext cx="7993080" cy="54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Seguridad Industri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3 CuadroTexto"/>
          <p:cNvSpPr/>
          <p:nvPr/>
        </p:nvSpPr>
        <p:spPr>
          <a:xfrm>
            <a:off x="585360" y="1643040"/>
            <a:ext cx="2824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Implicancia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4 CuadroTexto"/>
          <p:cNvSpPr/>
          <p:nvPr/>
        </p:nvSpPr>
        <p:spPr>
          <a:xfrm>
            <a:off x="1500120" y="2428920"/>
            <a:ext cx="76438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Técnicas: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rocedimientos, investigación acc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Legales (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ey 16744, seguro social</a:t>
            </a: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):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revención repar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Económicas: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érdid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Éticas: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eguridad y Vida de person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4T16:52:24Z</dcterms:created>
  <dc:creator>Héctor Agusto A.</dc:creator>
  <dc:description/>
  <dc:language>en-US</dc:language>
  <cp:lastModifiedBy>Hector Agusto</cp:lastModifiedBy>
  <dcterms:modified xsi:type="dcterms:W3CDTF">2010-08-16T21:38:26Z</dcterms:modified>
  <cp:revision>37</cp:revision>
  <dc:subject/>
  <dc:title>EL63A-Taller de Proyecto en Control II</dc:title>
</cp:coreProperties>
</file>