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2CB-DB85-46CB-9B80-40AD346E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C20-9E52-406B-904D-637EBF8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19A-EE2E-474B-93A7-C98C727F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1BC-097B-4262-91F1-05806DE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8B3-ABC1-4A32-BA5B-0FB5D1A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305-D5DA-4F76-9164-AA71373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1A7-A615-4C11-9FEF-145B0DB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DCD-F240-4C32-B92A-64A6766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F5A-E539-4CD6-845D-189843D5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FC7-2D69-4CD3-B37C-AD0C65C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234-254C-4F67-90D5-EF3B31A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456-8E40-4972-AF28-350DEEE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16A-7A12-40F8-B719-B21B6D9A91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06T20:43:10Z</dcterms:modified>
  <cp:revision>30</cp:revision>
  <dc:subject/>
  <dc:title>EL63A-Taller de Proyecto en Control II</dc:title>
</cp:coreProperties>
</file>