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D4A-75F0-4AA1-B71C-059BDE9B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3CB-A700-42AD-84B2-20BFEB5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264-74C8-4F1E-B8F4-718624EC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32A-EFDB-41E0-92E7-5CEF3EA2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378-F2F7-4038-9D05-89E5373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95E-97DE-4054-A567-C855D691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4FE-DD73-4B57-87C3-A8780AE5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E16-B6C9-4400-B714-5F4DCA9D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C72-7230-48B8-8145-246A9256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77B-FA08-4963-AEED-085C596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65A-738A-4F47-91FF-66F6DDF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F24-67C5-4B0B-8EB9-D30C14C4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092-71A3-4FEB-84D0-4F0AE6CB35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06T20:43:10Z</dcterms:modified>
  <cp:revision>30</cp:revision>
  <dc:subject/>
  <dc:title>EL63A-Taller de Proyecto en Control II</dc:title>
</cp:coreProperties>
</file>