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F2A-C545-403B-95BD-94D6BA07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E4D-146C-4387-9773-8950AB9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AFD-3E8E-480D-B8B5-759F9B03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32D-2908-4AE7-B6E2-991D020C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605-FFFA-4640-BA2E-6E4C4A81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7B3-2642-4C58-94E6-90A23870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711-7AA0-4010-AEA8-92A9DE8A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198-6397-4655-B601-0EF3A3C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DAD-9235-4062-A254-66EE4C6A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D49-B85D-46CB-834E-4F579EC6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84C-08CE-47F4-B063-623A011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19F-7E17-4974-AFF9-7078CE5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DF7-311E-4A2B-8188-23C30A501B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06T20:43:10Z</dcterms:modified>
  <cp:revision>30</cp:revision>
  <dc:subject/>
  <dc:title>EL63A-Taller de Proyecto en Control II</dc:title>
</cp:coreProperties>
</file>