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7C3B-388D-4F4F-9482-DA9F8C55EC2F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A25C-CB63-47DF-AEF3-C901C1CD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69B4-B25F-4352-B8E3-3BDC15160BF8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14CE-6700-468B-B291-F06B08F8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6B1-1835-4BD8-9603-11C3A689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62F-73F0-47F5-877F-C588B7A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C53-C5EB-4C9E-AE54-B7C37D31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746-BC65-4E80-8339-68292F67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3E6-092A-4C3B-A8A7-94CCEAB6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8E1-FF62-4F24-B9B3-134667DD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24B-E6F6-400A-B15A-E83255CB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2F8-42EA-4341-B06D-71DDE62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056-EB2C-455D-856C-89C1D291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972-C753-43CE-9D16-845D4E4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D66-391D-4DFF-9308-CF25A57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896-2CEE-4D88-8BB0-DD7CED0C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40CE-D413-4751-AE85-58198130DE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2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TA PROYECT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 inform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: 50% (se desprende de los infor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de construcción maquet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ridad diseño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riginalidad y uti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sebastian.barrios</cp:lastModifiedBy>
  <dcterms:modified xsi:type="dcterms:W3CDTF">2010-08-31T14:02:17Z</dcterms:modified>
  <cp:revision>61</cp:revision>
  <dc:subject/>
  <dc:title>EI1B2 Introducción a la Ingeneiría II</dc:title>
</cp:coreProperties>
</file>