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2628-465E-4E8D-9D90-7A92155217EC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7851-6D9C-4A78-A5F6-AD5F5BF2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712-A6D8-4A86-A49F-C0F78AFAE930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9ED-1789-496A-90B2-B80EDFA0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522-9B38-4874-A183-0E65298A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BEA-012B-44C5-9EBC-8EF1AA8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FF5-A2EF-4E05-90F8-6D7E3092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F21-155A-4ED3-B377-14A958E4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322-8437-47B2-8F9E-4507A0C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315-6E26-44FA-BB31-4D7484F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4E2-C828-4117-8F8B-B6992D47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67D-5E36-41D8-A188-5FDB2DF5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BE3-0CE6-405B-B9B5-A6746AD0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A91-6C1B-4EAA-9F4A-C9AE954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1B3-0635-4295-88B1-26B549B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E9A-B6CB-4881-93F4-2961CCD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7CC1-14EC-4090-B3FC-840A5FB3F1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2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TA PROYEC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 inform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: 50% (se desprende de los infor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de construcción maquet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ridad diseño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iginalidad y uti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sebastian.barrios</cp:lastModifiedBy>
  <dcterms:modified xsi:type="dcterms:W3CDTF">2010-08-31T14:02:17Z</dcterms:modified>
  <cp:revision>61</cp:revision>
  <dc:subject/>
  <dc:title>EI1B2 Introducción a la Ingeneiría II</dc:title>
</cp:coreProperties>
</file>