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0DAB-2BD6-4EA8-934F-403FC235F64C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1CFB-1714-4564-870D-B4AA1ACF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DE84-3352-45A8-92A2-B526CA444D28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8240-B285-4F54-8411-F60BC22D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E77-C273-46D7-AC46-E1CFB5CF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A53-749A-4226-852E-14378E7B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795-62D9-4AA7-9FBF-21D32BF7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C92-83B6-4424-98FA-AB205E3F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1F1-EA6B-4F72-B8AE-612E9111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676-10B0-4281-B176-084608F9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BF0-8063-4B91-898E-2A640D7F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241-8BF1-4510-B60B-76C6D0F6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FB6-2B63-4273-AD2D-32ED923C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B63-2868-440B-A3A7-F7A610A1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91C-BFD1-4C63-8CB5-AEE0DAB7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546-8A75-4A9B-8FFC-F4726276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AF66-8C7F-4FAA-8149-1758886DDA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1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104" name="Rectangle 16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4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5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7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9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2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4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vion 7572on"/>
          <p:cNvPicPr/>
          <p:nvPr/>
        </p:nvPicPr>
        <p:blipFill>
          <a:blip r:embed="rId2"/>
          <a:stretch/>
        </p:blipFill>
        <p:spPr>
          <a:xfrm>
            <a:off x="2048040" y="1719360"/>
            <a:ext cx="509580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1_FCFM_apaisado_Oficial_JPG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28-3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aja Negra cvr2ae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transbordador-discovery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0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6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s-E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TA PROYECT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ORME: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 inform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orme fin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: 50% (se desprende de los infor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ibilidad de construcción maquet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ridad diseño fin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riginalidad y uti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agen2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BS00580_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75" name="Line 14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temperatura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3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14" descr="Estufa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sebastian.barrios</cp:lastModifiedBy>
  <dcterms:modified xsi:type="dcterms:W3CDTF">2010-08-31T14:02:17Z</dcterms:modified>
  <cp:revision>61</cp:revision>
  <dc:subject/>
  <dc:title>EI1B2 Introducción a la Ingeneiría II</dc:title>
</cp:coreProperties>
</file>