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F62-97F7-4F86-80D5-64A22E47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48B-0164-4703-90AF-5445291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1D2-9A63-484F-B092-72979B38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899-5E97-413B-8CCA-BAF1072C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C50-424D-4329-929E-1750403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A4C-C84E-439C-9D34-A81BCFB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CB4-DFF7-4664-9EEB-4FA4C6E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703-7E44-44C6-AB49-02228CDD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F2C-6644-4D78-A93E-EC5C311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F0E-E7BE-457E-A1D8-6719A64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96F-F9BD-450D-8690-81DD6C6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808-56D3-4BEB-9E4A-4034AEE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B3DD-F278-424D-B30B-A22F6236B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iden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y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2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2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2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17T13:15:36Z</dcterms:modified>
  <cp:revision>39</cp:revision>
  <dc:subject/>
  <dc:title>EL63A-Taller de Proyecto en Control II</dc:title>
</cp:coreProperties>
</file>