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DB7-68BF-4DC1-8AC3-C9F240CD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7E4-9303-42E1-8711-1C0BBB03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EC3-0CE9-4369-8260-C0E33262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69D-53A9-46A6-B5F2-0D5E3E94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D2D-6731-403F-BEC4-370D92D1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780-8F47-4FFA-B5D3-6BD5FE26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024-E665-4EFE-BD27-FDD8897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405-E122-4956-9B98-DD4AB82E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5B5-5039-41F4-87D1-FB17C05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85D-8058-4ED3-ABBB-8A9C95B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FB0-F25A-47B4-950C-47997E99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F4D-7F21-4CBC-BDB1-9871F27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856-1978-44BF-AA86-0D1FBCCB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iden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y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2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2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2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17T13:15:36Z</dcterms:modified>
  <cp:revision>39</cp:revision>
  <dc:subject/>
  <dc:title>EL63A-Taller de Proyecto en Control II</dc:title>
</cp:coreProperties>
</file>