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A9E-81DE-45C1-BF3D-EC8113D3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0D6-C033-43DC-A9A2-85B8EEBA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8F6-0990-489A-A9D5-D9D72E5D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E9D-6BA7-451F-B473-15861B5D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7D0-1998-4BCE-8DB3-67BB5B38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992-EB27-4787-BF6E-2BB78F2F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260-A9DB-4B3C-AD90-579CE7BB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4B8-2F08-49AA-92FA-DCDACF3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FA0-66B5-45C5-AB4C-B4D9A7A4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02A-F546-4C81-B21C-3B584F8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E2F-721D-466B-A3BE-B10354FC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4BD-E822-4B31-9E8E-E36FEFA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819-67C5-44CF-9947-3A14E7A9A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09T13:07:54Z</dcterms:modified>
  <cp:revision>31</cp:revision>
  <dc:subject/>
  <dc:title>EL63A-Taller de Proyecto en Control II</dc:title>
</cp:coreProperties>
</file>