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45F-AC05-4734-AE9D-E34A8579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96F-CCE6-418E-80DD-428C23EB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66A-3A72-47F9-A93B-7C44C0AF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8AC-27A0-4798-9DF1-3859D9C5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08F-F6B5-41BB-B9EE-CAA6B7B8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8B0-D0BF-4F73-94EF-719FDBF5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89A-2462-4CC1-A560-924F729D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DF9-0109-40AE-B5D6-4A9F78EB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DA0-57E2-4EBC-B63C-3F4C15B3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719-EF3A-477E-BCB0-4B08DFEE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DDA-4358-4001-9D97-37A4C8BC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F9C-5D13-455B-9F3A-DCA9CD6B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E410-BEEE-4ABF-9125-5BE1C30E2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55640" y="1268280"/>
            <a:ext cx="8064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la facult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 Se evaluará principalmente factibilidad de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55640" y="1268280"/>
            <a:ext cx="7488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ancas, sillas, mesas de estudi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0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4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31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32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sebastian.barrios</cp:lastModifiedBy>
  <dcterms:modified xsi:type="dcterms:W3CDTF">2010-08-09T13:07:54Z</dcterms:modified>
  <cp:revision>31</cp:revision>
  <dc:subject/>
  <dc:title>EL63A-Taller de Proyecto en Control II</dc:title>
</cp:coreProperties>
</file>