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D2B1-01A8-4842-8644-88646C2C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1C46-E4D4-4C65-AC8D-59BD7425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1FDF-30FB-4F06-AF23-B1628AE23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AA9C-62C6-4DF5-8F83-29A49B364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8D28-1640-485B-AEE7-5C69CCE5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C788-FE89-4C5B-9A2E-3F0904E7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153C-4486-4A9B-AB4A-96BF3B02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5287-54CA-4809-8ADF-80AD68C7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3F62-74EB-41AE-A8BF-C083B423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9250-9688-4940-B972-032351F6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4E5A-4FAF-4A0B-A8A6-C6A44940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7B2F-101F-4D39-894B-7CCE5719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857C-AB24-4025-BAD6-ED0211CE7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bastian Barrios 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24000" y="1539720"/>
          <a:ext cx="8569080" cy="31132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NALIZ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enes sean sorprendidos infringiendo estas normas, o realizando actividades que atenten contra la seguridad y/o el normal desarrollo del trabajo del grupo, serán multados, cada vez con un descuento en 5 décimas en su nota individual, y su grupo con una décima en la nota del proyecto correspondiente.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755640" y="1268280"/>
            <a:ext cx="806436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iseño de un producto (o mejora de un producto) para la facult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diseño debe ser factible de construir en el Taller de Introducción a la Ingeniería. Usando principalmente una plancha de POM de 40x30 c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diseño debe ser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tallado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e incluir planos para el corte. Se evaluará principalmente factibilidad de constr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57120" y="714240"/>
          <a:ext cx="8429760" cy="5691240"/>
        </p:xfrm>
        <a:graphic>
          <a:graphicData uri="http://schemas.openxmlformats.org/drawingml/2006/table">
            <a:tbl>
              <a:tblPr/>
              <a:tblGrid>
                <a:gridCol w="500040"/>
                <a:gridCol w="2746440"/>
                <a:gridCol w="2654280"/>
                <a:gridCol w="2529000"/>
              </a:tblGrid>
              <a:tr h="305280">
                <a:tc grid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IFIC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ase de Cáted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l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0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sentación del Curso, 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teamiento del Proyecto 1, Dise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vestigación personal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5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guridad Indust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mación de Grupos: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luvia de Ideas, Bosquej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finición Roles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Entregar lista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nidades de Med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delo en Cartón Pl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 informe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trument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fección de planos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y Revisión infor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forme (UCursos) Listados de Materiales, piezas y partes, Planos, cubicación , manual construc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55640" y="1268280"/>
            <a:ext cx="748836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ispensadores (de alimentos, de especia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conomizadores ( de agua, de energía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Bancas, sillas, mesas de estudio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Se evaluará, además de  cumplir con las restricciones, la originalidad, la estética y la justificación del dise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mejor trabajo será implementado en un prototi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Diseñar Para … (DPx)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ver 7.4 lib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55640" y="126828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iderar la mayor cantidad de aspectos posi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900000" y="2349360"/>
            <a:ext cx="3024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cio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samb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 bien comú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995640" y="2360520"/>
            <a:ext cx="39610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 seg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 econó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 amigable con el medio 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¿Qué hace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0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3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4535280" cy="2873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4" descr=""/>
          <p:cNvPicPr/>
          <p:nvPr/>
        </p:nvPicPr>
        <p:blipFill>
          <a:blip r:embed="rId3"/>
          <a:stretch/>
        </p:blipFill>
        <p:spPr>
          <a:xfrm>
            <a:off x="5724360" y="4797360"/>
            <a:ext cx="291636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¿Qué tiene que ser capaz de hacer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24000" y="1960560"/>
            <a:ext cx="302400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3276720" y="2492280"/>
            <a:ext cx="142920" cy="1368360"/>
          </a:xfrm>
          <a:custGeom>
            <a:avLst/>
            <a:gdLst>
              <a:gd name="textAreaLeft" fmla="*/ 0 w 142920"/>
              <a:gd name="textAreaRight" fmla="*/ 51480 w 1429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3495600" y="2909880"/>
            <a:ext cx="21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yec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Estructu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5796000" y="2492280"/>
            <a:ext cx="217440" cy="2087640"/>
          </a:xfrm>
          <a:custGeom>
            <a:avLst/>
            <a:gdLst>
              <a:gd name="textAreaLeft" fmla="*/ 0 w 217440"/>
              <a:gd name="textAreaRight" fmla="*/ 78480 w 2174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6014880" y="3284640"/>
            <a:ext cx="199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yect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Brazo H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1403280" y="465300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señ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ra constru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 flipV="1">
            <a:off x="2987640" y="3933360"/>
            <a:ext cx="1297080" cy="107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4716360" y="544500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señ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ra op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 flipV="1">
            <a:off x="6443640" y="4292640"/>
            <a:ext cx="360360" cy="144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flictos Ét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50920" y="981000"/>
            <a:ext cx="30240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3527280" y="1341360"/>
            <a:ext cx="25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Para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3528000" y="226224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ó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3530160" y="2987640"/>
            <a:ext cx="445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on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En qué condicion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3529080" y="4149720"/>
            <a:ext cx="23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uán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30"/>
          <p:cNvSpPr/>
          <p:nvPr/>
        </p:nvSpPr>
        <p:spPr>
          <a:xfrm>
            <a:off x="1048680" y="1700280"/>
            <a:ext cx="421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iseño  4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oncurso de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31"/>
          <p:cNvSpPr/>
          <p:nvPr/>
        </p:nvSpPr>
        <p:spPr>
          <a:xfrm>
            <a:off x="975600" y="3429000"/>
            <a:ext cx="645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IO en un Proceso 10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iseño cíclico (proceso itera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32"/>
          <p:cNvSpPr/>
          <p:nvPr/>
        </p:nvSpPr>
        <p:spPr>
          <a:xfrm>
            <a:off x="2411280" y="550692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mbos proyectos, en lo posible, con el mismo gru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100440" y="126828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val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313920" y="2133720"/>
            <a:ext cx="694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20% Nota de clases (Asistencia, Tar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329040" y="2781360"/>
            <a:ext cx="423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80% Nota de Proye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1407600" y="3500280"/>
            <a:ext cx="525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20% Proyecto 1: Informe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1413000" y="3989520"/>
            <a:ext cx="731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80% Proyecto 2: Ingeniería - Constr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Operación - 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1047960" y="5157720"/>
            <a:ext cx="30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o-evalu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900000" y="1773360"/>
          <a:ext cx="7417080" cy="3597120"/>
        </p:xfrm>
        <a:graphic>
          <a:graphicData uri="http://schemas.openxmlformats.org/drawingml/2006/table">
            <a:tbl>
              <a:tblPr/>
              <a:tblGrid>
                <a:gridCol w="7417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GENE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asistencia a taller, a las presentaciones y a </a:t>
                      </a:r>
                      <a:r>
                        <a:rPr b="0" lang="es-MX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lgunas cátedras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s 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igatoria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y se reprobará el curso con más de 2 inasistencias no justificadas ante la escuel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átedra se realizarán  periódicamente actividades evaluadas, con notas cualitativas o cuantitativa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95280" y="1052640"/>
          <a:ext cx="8424720" cy="474012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6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tualidad: La duración del taller es de 2 horas, se pasará lista y los atrasos deben ser justificados, 2 atrasos se consideraran como una inasistencia. Retirarse antes del fin del taller sin autorización puede significar  una inasistencia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 y ayudantes, ante cualquier duda preguntar antes de realizar una activ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de segura, sin generar condiciones de riesgo, respetando las normas específicas dadas. Utilizar elementos de protección personal (EPP): lentes de seguridad, guantes y otros según las herramientas a utiliz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539640" y="333360"/>
          <a:ext cx="8569440" cy="570384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4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herramientas correctamente, para la función que fueron diseñadas y con la finalidad para la que fueron entregadas (trabajo en los proyect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. Aprovechar el tiempo en el trabajo grupal en el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prohíbe estrictamente realizar actividades ajenas al trabajo en el proyecto, en el horario de tall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ar análisis de riesgo: Analista debe entregar un análisis de riesgo antes de cada sesión, realizado y firmado por todos los integrantes del gru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do lo que se construya debe ser guardado en el casillero asigna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sebastian.barrios</cp:lastModifiedBy>
  <dcterms:modified xsi:type="dcterms:W3CDTF">2010-08-09T13:07:54Z</dcterms:modified>
  <cp:revision>31</cp:revision>
  <dc:subject/>
  <dc:title>EL63A-Taller de Proyecto en Control II</dc:title>
</cp:coreProperties>
</file>