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695-5B3B-41FC-BDF2-44E5398D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C32-B461-4604-BFAF-BA63A40F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CCE-A68B-4D28-B1D3-24E24928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D8A-B116-4EC6-BDE2-30456142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FA3-1B56-484E-99C8-34D39475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233-4DC1-4334-B1D2-B1EA0101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1A1-A708-45C2-A3B0-61A2EB41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C40-CA01-49D3-A069-6E85B89E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0AC-4B2D-4F81-B064-554633B2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3D1-52B6-47E5-935C-53B63EB3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E93-A713-4009-B629-6991C221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8DA-5613-46B8-A5A6-B7599DC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FE86-F177-44BC-AC86-2A240E754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09T13:07:54Z</dcterms:modified>
  <cp:revision>31</cp:revision>
  <dc:subject/>
  <dc:title>EL63A-Taller de Proyecto en Control II</dc:title>
</cp:coreProperties>
</file>