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71FE-68E7-4F91-9D21-182F4E9B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10F1-0B07-430C-9AFF-3238C92E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DBEA-A551-41FC-AEF0-D09419B8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A8A2-3349-4205-80A6-4FAD5EE7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100A-FD19-48D2-8877-8728A09C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5F31-658F-4F95-AEBB-EF3EA2F6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D8E5-97BB-4C31-812D-64B376AE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51AF-D6F8-4E50-B09C-6A7DC92A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E3BC-1CA0-4C3E-A798-1724B811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7977-A221-43B9-917A-2EF7777B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2947-DA7F-4247-BD10-112A3C20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7B50-9583-49B2-BEC2-C850FF54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4008-869E-4646-97AE-11CDB33C114F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Group 38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Rectangle 7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10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Group 37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4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5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6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7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18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19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3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4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28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29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0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1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2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3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4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Rectangle 35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Rectangle 36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BDEBED1-4DC8-446C-A1F6-566D9F1853C3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990720" y="45720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CF0EB4B-3BC1-470E-90D4-D08FF2F3F41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tasas marginales de sustit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066680" y="1295280"/>
            <a:ext cx="7772400" cy="502920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024"/>
              <p:cNvSpPr txBox="1"/>
              <p:nvPr/>
            </p:nvSpPr>
            <p:spPr>
              <a:xfrm>
                <a:off x="1676520" y="182880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025"/>
              <p:cNvSpPr txBox="1"/>
              <p:nvPr/>
            </p:nvSpPr>
            <p:spPr>
              <a:xfrm>
                <a:off x="4243320" y="2057400"/>
                <a:ext cx="3463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026"/>
              <p:cNvSpPr txBox="1"/>
              <p:nvPr/>
            </p:nvSpPr>
            <p:spPr>
              <a:xfrm>
                <a:off x="1808280" y="3300480"/>
                <a:ext cx="5757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recios  decrecientes con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027"/>
              <p:cNvSpPr txBox="1"/>
              <p:nvPr/>
            </p:nvSpPr>
            <p:spPr>
              <a:xfrm>
                <a:off x="1828800" y="4151160"/>
                <a:ext cx="18082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13"/>
          <p:cNvSpPr/>
          <p:nvPr/>
        </p:nvSpPr>
        <p:spPr>
          <a:xfrm>
            <a:off x="4289400" y="4113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ejarse del CBD mientras los ahorros en renta sean mayor que costo extra en transport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2614559-9E2C-423E-A6CF-52169EA342C5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440" y="25142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finición: conjunto de precios que el individuo está dispuesto a pagar a diversas distancias para obtener un nivel de utilidad d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pia de cada individuo (gustos e ingres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ferida a un nivel de utilidad. Existe una familia de cur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tiene necesaria relación con la curva de precios re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048"/>
              <p:cNvSpPr txBox="1"/>
              <p:nvPr/>
            </p:nvSpPr>
            <p:spPr>
              <a:xfrm>
                <a:off x="2496960" y="1143000"/>
                <a:ext cx="4267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A4F09BC-12C2-4288-98E8-225942B5985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024"/>
              <p:cNvSpPr txBox="1"/>
              <p:nvPr/>
            </p:nvSpPr>
            <p:spPr>
              <a:xfrm>
                <a:off x="2344680" y="1143000"/>
                <a:ext cx="4265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25"/>
              <p:cNvSpPr txBox="1"/>
              <p:nvPr/>
            </p:nvSpPr>
            <p:spPr>
              <a:xfrm>
                <a:off x="762120" y="3232080"/>
                <a:ext cx="3332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026"/>
              <p:cNvSpPr txBox="1"/>
              <p:nvPr/>
            </p:nvSpPr>
            <p:spPr>
              <a:xfrm>
                <a:off x="4343400" y="3200400"/>
                <a:ext cx="41911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limLow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10"/>
          <p:cNvSpPr/>
          <p:nvPr/>
        </p:nvSpPr>
        <p:spPr>
          <a:xfrm>
            <a:off x="609480" y="48744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 precio o costo marginal de localizació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ún si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constante, DP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desutilidad tpte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U(x,q,t)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e puede derivar la DP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yor costo tpt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ás desutilidad de viajar debe compensarse con disminución de DP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027"/>
              <p:cNvSpPr txBox="1"/>
              <p:nvPr/>
            </p:nvSpPr>
            <p:spPr>
              <a:xfrm>
                <a:off x="762120" y="2362320"/>
                <a:ext cx="31240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B496BE6-569B-4BBE-8A9D-996D2A85BD8F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495288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-k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Consumo máximo de bienes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=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sición a pagar decrece con la distanci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umo de terreno 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p(t) decre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demás decrece consumo de bienes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4" name="Straight Arrow Connector 25"/>
          <p:cNvCxnSpPr/>
          <p:nvPr/>
        </p:nvCxnSpPr>
        <p:spPr>
          <a:xfrm flipV="1">
            <a:off x="1141560" y="1296360"/>
            <a:ext cx="3600" cy="28962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55" name="Straight Arrow Connector 27"/>
          <p:cNvCxnSpPr/>
          <p:nvPr/>
        </p:nvCxnSpPr>
        <p:spPr>
          <a:xfrm>
            <a:off x="1142640" y="4191120"/>
            <a:ext cx="518220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56" name="Freeform 32"/>
          <p:cNvSpPr/>
          <p:nvPr/>
        </p:nvSpPr>
        <p:spPr>
          <a:xfrm>
            <a:off x="1477800" y="1593720"/>
            <a:ext cx="3551400" cy="22924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Straight Connector 34"/>
          <p:cNvSpPr/>
          <p:nvPr/>
        </p:nvSpPr>
        <p:spPr>
          <a:xfrm>
            <a:off x="1142280" y="1981080"/>
            <a:ext cx="1676520" cy="221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Straight Connector 36"/>
          <p:cNvSpPr/>
          <p:nvPr/>
        </p:nvSpPr>
        <p:spPr>
          <a:xfrm>
            <a:off x="1143000" y="2666880"/>
            <a:ext cx="2819520" cy="1524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Box 37"/>
          <p:cNvSpPr/>
          <p:nvPr/>
        </p:nvSpPr>
        <p:spPr>
          <a:xfrm>
            <a:off x="6339240" y="403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Box 38"/>
          <p:cNvSpPr/>
          <p:nvPr/>
        </p:nvSpPr>
        <p:spPr>
          <a:xfrm>
            <a:off x="32760" y="1752480"/>
            <a:ext cx="114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x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traight Connector 41"/>
          <p:cNvSpPr/>
          <p:nvPr/>
        </p:nvSpPr>
        <p:spPr>
          <a:xfrm flipH="1">
            <a:off x="1750680" y="2820960"/>
            <a:ext cx="3240" cy="13716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Straight Connector 42"/>
          <p:cNvSpPr/>
          <p:nvPr/>
        </p:nvSpPr>
        <p:spPr>
          <a:xfrm flipH="1">
            <a:off x="2360160" y="3354480"/>
            <a:ext cx="3240" cy="8380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Box 45"/>
          <p:cNvSpPr/>
          <p:nvPr/>
        </p:nvSpPr>
        <p:spPr>
          <a:xfrm>
            <a:off x="2217960" y="40957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Box 48"/>
          <p:cNvSpPr/>
          <p:nvPr/>
        </p:nvSpPr>
        <p:spPr>
          <a:xfrm>
            <a:off x="1608480" y="41148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Box 55"/>
          <p:cNvSpPr/>
          <p:nvPr/>
        </p:nvSpPr>
        <p:spPr>
          <a:xfrm>
            <a:off x="3892680" y="1828800"/>
            <a:ext cx="2046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&gt;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x + 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(t) q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Box 57"/>
          <p:cNvSpPr/>
          <p:nvPr/>
        </p:nvSpPr>
        <p:spPr>
          <a:xfrm>
            <a:off x="5219280" y="37339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Box 58"/>
          <p:cNvSpPr/>
          <p:nvPr/>
        </p:nvSpPr>
        <p:spPr>
          <a:xfrm>
            <a:off x="2548800" y="3657600"/>
            <a:ext cx="520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Box 59"/>
          <p:cNvSpPr/>
          <p:nvPr/>
        </p:nvSpPr>
        <p:spPr>
          <a:xfrm>
            <a:off x="3614040" y="3809880"/>
            <a:ext cx="564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 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Box 60"/>
          <p:cNvSpPr/>
          <p:nvPr/>
        </p:nvSpPr>
        <p:spPr>
          <a:xfrm>
            <a:off x="48600" y="2514600"/>
            <a:ext cx="114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x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01B4C5-198A-4080-9757-C825BA0CD39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5028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disposición a pagar decrece con la utilidad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&gt;p’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consumo de terreno crece con la util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3" name="Straight Arrow Connector 25"/>
          <p:cNvCxnSpPr/>
          <p:nvPr/>
        </p:nvCxnSpPr>
        <p:spPr>
          <a:xfrm flipV="1">
            <a:off x="1141560" y="1296360"/>
            <a:ext cx="3600" cy="28962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4" name="Straight Arrow Connector 27"/>
          <p:cNvCxnSpPr/>
          <p:nvPr/>
        </p:nvCxnSpPr>
        <p:spPr>
          <a:xfrm>
            <a:off x="1142640" y="4191120"/>
            <a:ext cx="518220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75" name="Freeform 32"/>
          <p:cNvSpPr/>
          <p:nvPr/>
        </p:nvSpPr>
        <p:spPr>
          <a:xfrm>
            <a:off x="1477800" y="1593720"/>
            <a:ext cx="3551400" cy="22924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Straight Connector 34"/>
          <p:cNvSpPr/>
          <p:nvPr/>
        </p:nvSpPr>
        <p:spPr>
          <a:xfrm>
            <a:off x="1142280" y="1981080"/>
            <a:ext cx="1676520" cy="221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Box 37"/>
          <p:cNvSpPr/>
          <p:nvPr/>
        </p:nvSpPr>
        <p:spPr>
          <a:xfrm>
            <a:off x="6339240" y="403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Box 38"/>
          <p:cNvSpPr/>
          <p:nvPr/>
        </p:nvSpPr>
        <p:spPr>
          <a:xfrm>
            <a:off x="546840" y="1752480"/>
            <a:ext cx="60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Straight Connector 41"/>
          <p:cNvSpPr/>
          <p:nvPr/>
        </p:nvSpPr>
        <p:spPr>
          <a:xfrm flipH="1">
            <a:off x="1750680" y="2820960"/>
            <a:ext cx="3240" cy="13716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Straight Connector 42"/>
          <p:cNvSpPr/>
          <p:nvPr/>
        </p:nvSpPr>
        <p:spPr>
          <a:xfrm flipH="1">
            <a:off x="2284560" y="2973240"/>
            <a:ext cx="2880" cy="12193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Box 45"/>
          <p:cNvSpPr/>
          <p:nvPr/>
        </p:nvSpPr>
        <p:spPr>
          <a:xfrm>
            <a:off x="2175480" y="40957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q’</a:t>
            </a:r>
            <a:r>
              <a:rPr b="1" i="1" lang="en-US" sz="20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Box 48"/>
          <p:cNvSpPr/>
          <p:nvPr/>
        </p:nvSpPr>
        <p:spPr>
          <a:xfrm>
            <a:off x="1608480" y="41148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Freeform 49"/>
          <p:cNvSpPr/>
          <p:nvPr/>
        </p:nvSpPr>
        <p:spPr>
          <a:xfrm>
            <a:off x="1706400" y="1441440"/>
            <a:ext cx="3551400" cy="2292480"/>
          </a:xfrm>
          <a:prstGeom prst="pie">
            <a:avLst/>
          </a:prstGeom>
          <a:noFill/>
          <a:ln w="2844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Straight Connector 51"/>
          <p:cNvSpPr/>
          <p:nvPr/>
        </p:nvSpPr>
        <p:spPr>
          <a:xfrm>
            <a:off x="1193760" y="1936800"/>
            <a:ext cx="2387520" cy="22543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Box 55"/>
          <p:cNvSpPr/>
          <p:nvPr/>
        </p:nvSpPr>
        <p:spPr>
          <a:xfrm>
            <a:off x="3969720" y="1828800"/>
            <a:ext cx="189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x + p(t)q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Box 56"/>
          <p:cNvSpPr/>
          <p:nvPr/>
        </p:nvSpPr>
        <p:spPr>
          <a:xfrm>
            <a:off x="5249520" y="35053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Box 57"/>
          <p:cNvSpPr/>
          <p:nvPr/>
        </p:nvSpPr>
        <p:spPr>
          <a:xfrm>
            <a:off x="5143320" y="37339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Box 21"/>
          <p:cNvSpPr/>
          <p:nvPr/>
        </p:nvSpPr>
        <p:spPr>
          <a:xfrm>
            <a:off x="2563200" y="3657600"/>
            <a:ext cx="49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Box 22"/>
          <p:cNvSpPr/>
          <p:nvPr/>
        </p:nvSpPr>
        <p:spPr>
          <a:xfrm>
            <a:off x="3240000" y="3730680"/>
            <a:ext cx="551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Times New Roman"/>
              </a:rPr>
              <a:t>p’(t</a:t>
            </a:r>
            <a:r>
              <a:rPr b="1" i="1" lang="en-US" sz="1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5A9253E-DC98-4551-A11C-84C98CCD7924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4648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y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 mismo individuo NO se intercep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ecto ingreso terreno más barato compensa costo tpte para mantener 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Group 1064"/>
          <p:cNvGrpSpPr/>
          <p:nvPr/>
        </p:nvGrpSpPr>
        <p:grpSpPr>
          <a:xfrm>
            <a:off x="375480" y="685800"/>
            <a:ext cx="6646680" cy="4114800"/>
            <a:chOff x="375480" y="685800"/>
            <a:chExt cx="6646680" cy="4114800"/>
          </a:xfrm>
        </p:grpSpPr>
        <p:sp>
          <p:nvSpPr>
            <p:cNvPr id="194" name="Rectangle 1032"/>
            <p:cNvSpPr/>
            <p:nvPr/>
          </p:nvSpPr>
          <p:spPr>
            <a:xfrm>
              <a:off x="375480" y="685800"/>
              <a:ext cx="3823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i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5" name="Group 1063"/>
            <p:cNvGrpSpPr/>
            <p:nvPr/>
          </p:nvGrpSpPr>
          <p:grpSpPr>
            <a:xfrm>
              <a:off x="735120" y="944280"/>
              <a:ext cx="6287040" cy="3856320"/>
              <a:chOff x="735120" y="944280"/>
              <a:chExt cx="6287040" cy="3856320"/>
            </a:xfrm>
          </p:grpSpPr>
          <p:sp>
            <p:nvSpPr>
              <p:cNvPr id="196" name="Line 1029"/>
              <p:cNvSpPr/>
              <p:nvPr/>
            </p:nvSpPr>
            <p:spPr>
              <a:xfrm>
                <a:off x="735120" y="995760"/>
                <a:ext cx="0" cy="327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Line 1030"/>
              <p:cNvSpPr/>
              <p:nvPr/>
            </p:nvSpPr>
            <p:spPr>
              <a:xfrm>
                <a:off x="740520" y="4277520"/>
                <a:ext cx="5824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Rectangle 1031"/>
              <p:cNvSpPr/>
              <p:nvPr/>
            </p:nvSpPr>
            <p:spPr>
              <a:xfrm>
                <a:off x="6292080" y="42091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Arc 1033"/>
              <p:cNvSpPr/>
              <p:nvPr/>
            </p:nvSpPr>
            <p:spPr>
              <a:xfrm rot="60000">
                <a:off x="828360" y="18021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Rectangle 1043"/>
              <p:cNvSpPr/>
              <p:nvPr/>
            </p:nvSpPr>
            <p:spPr>
              <a:xfrm>
                <a:off x="1554120" y="4330800"/>
                <a:ext cx="30636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Rectangle 1046"/>
              <p:cNvSpPr/>
              <p:nvPr/>
            </p:nvSpPr>
            <p:spPr>
              <a:xfrm>
                <a:off x="1554120" y="4062240"/>
                <a:ext cx="32364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Rectangle 1053"/>
              <p:cNvSpPr/>
              <p:nvPr/>
            </p:nvSpPr>
            <p:spPr>
              <a:xfrm>
                <a:off x="5166720" y="4398120"/>
                <a:ext cx="30672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Arc 1057"/>
              <p:cNvSpPr/>
              <p:nvPr/>
            </p:nvSpPr>
            <p:spPr>
              <a:xfrm rot="60000">
                <a:off x="942840" y="13323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Arc 1058"/>
              <p:cNvSpPr/>
              <p:nvPr/>
            </p:nvSpPr>
            <p:spPr>
              <a:xfrm rot="60000">
                <a:off x="1106640" y="9903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Text Box 1059"/>
              <p:cNvSpPr/>
              <p:nvPr/>
            </p:nvSpPr>
            <p:spPr>
              <a:xfrm>
                <a:off x="6445080" y="30826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Text Box 1060"/>
              <p:cNvSpPr/>
              <p:nvPr/>
            </p:nvSpPr>
            <p:spPr>
              <a:xfrm>
                <a:off x="6514200" y="34862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Text Box 1061"/>
              <p:cNvSpPr/>
              <p:nvPr/>
            </p:nvSpPr>
            <p:spPr>
              <a:xfrm>
                <a:off x="6583680" y="38876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" name="Text Box 1065"/>
          <p:cNvSpPr/>
          <p:nvPr/>
        </p:nvSpPr>
        <p:spPr>
          <a:xfrm>
            <a:off x="7316280" y="3167640"/>
            <a:ext cx="15739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1066"/>
          <p:cNvSpPr/>
          <p:nvPr/>
        </p:nvSpPr>
        <p:spPr>
          <a:xfrm>
            <a:off x="2647440" y="1505160"/>
            <a:ext cx="309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 q, y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u 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D63BD03-5EAF-4B96-B1F8-CA07F31DA894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-1526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l hogar </a:t>
            </a: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(precios exógenos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2048"/>
              <p:cNvSpPr txBox="1"/>
              <p:nvPr/>
            </p:nvSpPr>
            <p:spPr>
              <a:xfrm>
                <a:off x="1171440" y="1295280"/>
                <a:ext cx="2562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3" name="Text Box 26"/>
          <p:cNvSpPr/>
          <p:nvPr/>
        </p:nvSpPr>
        <p:spPr>
          <a:xfrm>
            <a:off x="3965400" y="1238760"/>
            <a:ext cx="495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dición de equilibrio individual condicional en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,y,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;P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4718160" y="324828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y,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,u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80880" y="2362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744480" y="267336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750960" y="5954760"/>
            <a:ext cx="582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6302160" y="58863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15638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15638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51768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rc 13"/>
          <p:cNvSpPr/>
          <p:nvPr/>
        </p:nvSpPr>
        <p:spPr>
          <a:xfrm rot="60000">
            <a:off x="952200" y="3009600"/>
            <a:ext cx="5329080" cy="240804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6426720" y="51631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21"/>
          <p:cNvSpPr/>
          <p:nvPr/>
        </p:nvSpPr>
        <p:spPr>
          <a:xfrm>
            <a:off x="1828800" y="434340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9"/>
          <p:cNvSpPr/>
          <p:nvPr/>
        </p:nvSpPr>
        <p:spPr>
          <a:xfrm>
            <a:off x="16776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049"/>
              <p:cNvSpPr txBox="1"/>
              <p:nvPr/>
            </p:nvSpPr>
            <p:spPr>
              <a:xfrm>
                <a:off x="1752480" y="2666880"/>
                <a:ext cx="17686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Line 32"/>
          <p:cNvSpPr/>
          <p:nvPr/>
        </p:nvSpPr>
        <p:spPr>
          <a:xfrm flipH="1">
            <a:off x="1447560" y="3200400"/>
            <a:ext cx="53316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33"/>
          <p:cNvSpPr/>
          <p:nvPr/>
        </p:nvSpPr>
        <p:spPr>
          <a:xfrm>
            <a:off x="5486760" y="4570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34"/>
          <p:cNvSpPr/>
          <p:nvPr/>
        </p:nvSpPr>
        <p:spPr>
          <a:xfrm flipH="1">
            <a:off x="761760" y="434340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35"/>
          <p:cNvSpPr/>
          <p:nvPr/>
        </p:nvSpPr>
        <p:spPr>
          <a:xfrm>
            <a:off x="298080" y="401220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Arc 37"/>
          <p:cNvSpPr/>
          <p:nvPr/>
        </p:nvSpPr>
        <p:spPr>
          <a:xfrm rot="60000">
            <a:off x="1104840" y="2742840"/>
            <a:ext cx="532944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Arc 38"/>
          <p:cNvSpPr/>
          <p:nvPr/>
        </p:nvSpPr>
        <p:spPr>
          <a:xfrm rot="60000">
            <a:off x="838080" y="3352320"/>
            <a:ext cx="532944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Freeform 36"/>
          <p:cNvSpPr/>
          <p:nvPr/>
        </p:nvSpPr>
        <p:spPr>
          <a:xfrm>
            <a:off x="1447920" y="2895480"/>
            <a:ext cx="4267080" cy="213372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39"/>
          <p:cNvSpPr/>
          <p:nvPr/>
        </p:nvSpPr>
        <p:spPr>
          <a:xfrm>
            <a:off x="6579000" y="47743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40"/>
          <p:cNvSpPr/>
          <p:nvPr/>
        </p:nvSpPr>
        <p:spPr>
          <a:xfrm>
            <a:off x="6426720" y="553644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84D3961-832B-4B63-90D0-D44E5B20A8A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0800" y="3805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P de la firm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0"/>
              <p:cNvSpPr txBox="1"/>
              <p:nvPr/>
            </p:nvSpPr>
            <p:spPr>
              <a:xfrm>
                <a:off x="2438280" y="4924440"/>
                <a:ext cx="4699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"/>
              <p:cNvSpPr txBox="1"/>
              <p:nvPr/>
            </p:nvSpPr>
            <p:spPr>
              <a:xfrm>
                <a:off x="1600200" y="1752480"/>
                <a:ext cx="2425680" cy="24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0" name="Text Box 9"/>
          <p:cNvSpPr/>
          <p:nvPr/>
        </p:nvSpPr>
        <p:spPr>
          <a:xfrm>
            <a:off x="4788000" y="16754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fi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4736160" y="236124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olumen de negoci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4725720" y="304704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stos de operació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4799520" y="36565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ecio del suel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EC899DE-4353-4520-A7EA-CDA10A4F02D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0"/>
              <p:cNvSpPr txBox="1"/>
              <p:nvPr/>
            </p:nvSpPr>
            <p:spPr>
              <a:xfrm>
                <a:off x="2286000" y="1066680"/>
                <a:ext cx="27432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"/>
              <p:cNvSpPr txBox="1"/>
              <p:nvPr/>
            </p:nvSpPr>
            <p:spPr>
              <a:xfrm>
                <a:off x="2303640" y="1752480"/>
                <a:ext cx="4173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2"/>
              <p:cNvSpPr txBox="1"/>
              <p:nvPr/>
            </p:nvSpPr>
            <p:spPr>
              <a:xfrm>
                <a:off x="2286000" y="2503440"/>
                <a:ext cx="4038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3"/>
              <p:cNvSpPr txBox="1"/>
              <p:nvPr/>
            </p:nvSpPr>
            <p:spPr>
              <a:xfrm>
                <a:off x="4495680" y="30492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Text Box 10"/>
          <p:cNvSpPr/>
          <p:nvPr/>
        </p:nvSpPr>
        <p:spPr>
          <a:xfrm>
            <a:off x="1107360" y="4129560"/>
            <a:ext cx="725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Vt: Pérdida de ingreso por alejamiento del CB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v : Cambio costo operación por cambio en volumen de negocio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t: Cambio por costos de operación por alejamient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q dP/dt: Disminución del precio del suel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8A3DC96-0294-47A3-89A2-2981D8332FB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024"/>
              <p:cNvSpPr txBox="1"/>
              <p:nvPr/>
            </p:nvSpPr>
            <p:spPr>
              <a:xfrm>
                <a:off x="1152360" y="1371600"/>
                <a:ext cx="7077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8080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1025"/>
              <p:cNvSpPr txBox="1"/>
              <p:nvPr/>
            </p:nvSpPr>
            <p:spPr>
              <a:xfrm>
                <a:off x="3011400" y="2646360"/>
                <a:ext cx="38750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5" name="Rectangle 6"/>
          <p:cNvSpPr/>
          <p:nvPr/>
        </p:nvSpPr>
        <p:spPr>
          <a:xfrm>
            <a:off x="609480" y="42670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gananci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a firma NO se intersecta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enen pendiente negativ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967366-7F22-4F73-BFD2-6CCBC2090D74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portes teorícos en localización residencial</a:t>
            </a:r>
            <a:br>
              <a:rPr sz="3600"/>
            </a:b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ntes de 1900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. Smith, D. Ricardo, J. S. Mill: suelo es un caso monopó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fred Marshal (1890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te value = situation + agricultural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ds: en base a ventajas de localización y asignación a uso más ren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M Hurd (1903): valor depende de rentabilidad, esta de localización y esta de  cercanía, valor depende de cercanía. Caso residencial el valor es social y no económ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FA49E2C-F1EE-458A-8D14-D38B3B3CB0F5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75480" y="1603440"/>
            <a:ext cx="382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735120" y="183528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741240" y="5116680"/>
            <a:ext cx="582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6292440" y="504828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Arc 9"/>
          <p:cNvSpPr/>
          <p:nvPr/>
        </p:nvSpPr>
        <p:spPr>
          <a:xfrm rot="60000">
            <a:off x="828360" y="2641320"/>
            <a:ext cx="5330880" cy="24066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1554120" y="51688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54120" y="4900680"/>
            <a:ext cx="3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5167440" y="52354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Arc 13"/>
          <p:cNvSpPr/>
          <p:nvPr/>
        </p:nvSpPr>
        <p:spPr>
          <a:xfrm rot="60000">
            <a:off x="942480" y="2171520"/>
            <a:ext cx="5330880" cy="240804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Arc 14"/>
          <p:cNvSpPr/>
          <p:nvPr/>
        </p:nvSpPr>
        <p:spPr>
          <a:xfrm rot="60000">
            <a:off x="1106640" y="1828440"/>
            <a:ext cx="533052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6407280" y="40334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6294600" y="4444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6102360" y="4795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7240680" y="4005720"/>
            <a:ext cx="17251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2847240" y="2343600"/>
            <a:ext cx="269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q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G 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7600" y="-3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2819520" y="583920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 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,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G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2780640" y="5028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5639040" y="3427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27"/>
          <p:cNvSpPr/>
          <p:nvPr/>
        </p:nvSpPr>
        <p:spPr>
          <a:xfrm>
            <a:off x="2971800" y="40384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28"/>
          <p:cNvSpPr/>
          <p:nvPr/>
        </p:nvSpPr>
        <p:spPr>
          <a:xfrm flipH="1">
            <a:off x="762120" y="4038480"/>
            <a:ext cx="21333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222120" y="370764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Freeform 33"/>
          <p:cNvSpPr/>
          <p:nvPr/>
        </p:nvSpPr>
        <p:spPr>
          <a:xfrm>
            <a:off x="1727280" y="1816200"/>
            <a:ext cx="4673520" cy="267948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34"/>
          <p:cNvSpPr/>
          <p:nvPr/>
        </p:nvSpPr>
        <p:spPr>
          <a:xfrm flipH="1">
            <a:off x="5486040" y="3809880"/>
            <a:ext cx="30492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E48E9C-88BA-467E-A141-DEC494FA7CF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18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19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28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40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41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54"/>
          <p:cNvSpPr/>
          <p:nvPr/>
        </p:nvSpPr>
        <p:spPr>
          <a:xfrm flipV="1">
            <a:off x="2057400" y="4038480"/>
            <a:ext cx="0" cy="9144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55"/>
          <p:cNvSpPr/>
          <p:nvPr/>
        </p:nvSpPr>
        <p:spPr>
          <a:xfrm flipV="1">
            <a:off x="3581280" y="4114800"/>
            <a:ext cx="0" cy="838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56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57"/>
          <p:cNvSpPr/>
          <p:nvPr/>
        </p:nvSpPr>
        <p:spPr>
          <a:xfrm>
            <a:off x="1447920" y="4038480"/>
            <a:ext cx="54864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5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Line 4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58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60"/>
          <p:cNvSpPr/>
          <p:nvPr/>
        </p:nvSpPr>
        <p:spPr>
          <a:xfrm>
            <a:off x="706536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61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lugares residenciales y otros de agricultu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17E7C04-A0CB-46A8-9F68-6743116338B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1026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Line 1027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03" name="Rectangle 1029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1030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1031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1032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1033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034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1035"/>
          <p:cNvSpPr/>
          <p:nvPr/>
        </p:nvSpPr>
        <p:spPr>
          <a:xfrm>
            <a:off x="449568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Line 1036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Line 1037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Line 1038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Line 1039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Line 1040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Line 1041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1042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Line 1043"/>
          <p:cNvSpPr/>
          <p:nvPr/>
        </p:nvSpPr>
        <p:spPr>
          <a:xfrm flipV="1">
            <a:off x="2057400" y="1828800"/>
            <a:ext cx="0" cy="3124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Line 1044"/>
          <p:cNvSpPr/>
          <p:nvPr/>
        </p:nvSpPr>
        <p:spPr>
          <a:xfrm flipV="1">
            <a:off x="3581280" y="3200400"/>
            <a:ext cx="0" cy="17524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Line 1045"/>
          <p:cNvSpPr/>
          <p:nvPr/>
        </p:nvSpPr>
        <p:spPr>
          <a:xfrm flipV="1">
            <a:off x="4648320" y="3809520"/>
            <a:ext cx="0" cy="11430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1046"/>
          <p:cNvSpPr/>
          <p:nvPr/>
        </p:nvSpPr>
        <p:spPr>
          <a:xfrm>
            <a:off x="1447920" y="4114800"/>
            <a:ext cx="54864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1047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Line 1048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049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050"/>
          <p:cNvSpPr/>
          <p:nvPr/>
        </p:nvSpPr>
        <p:spPr>
          <a:xfrm>
            <a:off x="7126920" y="401220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1051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1052"/>
          <p:cNvSpPr/>
          <p:nvPr/>
        </p:nvSpPr>
        <p:spPr>
          <a:xfrm>
            <a:off x="2490480" y="126900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Line 1053"/>
          <p:cNvSpPr/>
          <p:nvPr/>
        </p:nvSpPr>
        <p:spPr>
          <a:xfrm flipH="1">
            <a:off x="2133720" y="1752480"/>
            <a:ext cx="45720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1054"/>
          <p:cNvSpPr/>
          <p:nvPr/>
        </p:nvSpPr>
        <p:spPr>
          <a:xfrm>
            <a:off x="3176280" y="2031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1055"/>
          <p:cNvSpPr/>
          <p:nvPr/>
        </p:nvSpPr>
        <p:spPr>
          <a:xfrm flipH="1">
            <a:off x="3048120" y="2514600"/>
            <a:ext cx="30456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1056"/>
          <p:cNvSpPr/>
          <p:nvPr/>
        </p:nvSpPr>
        <p:spPr>
          <a:xfrm>
            <a:off x="4623840" y="3174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1057"/>
          <p:cNvSpPr/>
          <p:nvPr/>
        </p:nvSpPr>
        <p:spPr>
          <a:xfrm flipH="1">
            <a:off x="4495680" y="3657600"/>
            <a:ext cx="15264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42CFE97-65C4-4E40-A0D8-CF2FCD7371F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2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3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Line 13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Line 14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15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Line 16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Line 17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19"/>
          <p:cNvSpPr/>
          <p:nvPr/>
        </p:nvSpPr>
        <p:spPr>
          <a:xfrm flipV="1">
            <a:off x="2057400" y="2437920"/>
            <a:ext cx="0" cy="25146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20"/>
          <p:cNvSpPr/>
          <p:nvPr/>
        </p:nvSpPr>
        <p:spPr>
          <a:xfrm flipV="1">
            <a:off x="3581280" y="3733920"/>
            <a:ext cx="0" cy="121896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Line 21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22"/>
          <p:cNvSpPr/>
          <p:nvPr/>
        </p:nvSpPr>
        <p:spPr>
          <a:xfrm>
            <a:off x="1447920" y="4038480"/>
            <a:ext cx="548640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Line 23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Line 24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5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668412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27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05C31D9-35B1-4A16-9D03-7DCA4CB16DA3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61" name="Line 3"/>
          <p:cNvSpPr/>
          <p:nvPr/>
        </p:nvSpPr>
        <p:spPr>
          <a:xfrm>
            <a:off x="1447920" y="12254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990000" y="1219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Arc 7"/>
          <p:cNvSpPr/>
          <p:nvPr/>
        </p:nvSpPr>
        <p:spPr>
          <a:xfrm rot="60000">
            <a:off x="1550880" y="1911240"/>
            <a:ext cx="5845320" cy="273528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Arc 8"/>
          <p:cNvSpPr/>
          <p:nvPr/>
        </p:nvSpPr>
        <p:spPr>
          <a:xfrm rot="300000">
            <a:off x="3017520" y="1706400"/>
            <a:ext cx="2108160" cy="324972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Arc 9"/>
          <p:cNvSpPr/>
          <p:nvPr/>
        </p:nvSpPr>
        <p:spPr>
          <a:xfrm rot="120000">
            <a:off x="1468440" y="3655800"/>
            <a:ext cx="6006960" cy="7380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2268360" y="106056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2971800" y="3740040"/>
            <a:ext cx="0" cy="12067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5105520" y="45021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198108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15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16"/>
          <p:cNvSpPr/>
          <p:nvPr/>
        </p:nvSpPr>
        <p:spPr>
          <a:xfrm>
            <a:off x="279828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17"/>
          <p:cNvSpPr/>
          <p:nvPr/>
        </p:nvSpPr>
        <p:spPr>
          <a:xfrm>
            <a:off x="493200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18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19"/>
          <p:cNvSpPr/>
          <p:nvPr/>
        </p:nvSpPr>
        <p:spPr>
          <a:xfrm>
            <a:off x="637992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20"/>
          <p:cNvSpPr/>
          <p:nvPr/>
        </p:nvSpPr>
        <p:spPr>
          <a:xfrm flipV="1">
            <a:off x="6553080" y="4489200"/>
            <a:ext cx="0" cy="469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Line 21"/>
          <p:cNvSpPr/>
          <p:nvPr/>
        </p:nvSpPr>
        <p:spPr>
          <a:xfrm flipH="1">
            <a:off x="1441080" y="4572000"/>
            <a:ext cx="5118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Arc 22"/>
          <p:cNvSpPr/>
          <p:nvPr/>
        </p:nvSpPr>
        <p:spPr>
          <a:xfrm rot="192000">
            <a:off x="2437920" y="1676520"/>
            <a:ext cx="2741760" cy="202860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Arc 23"/>
          <p:cNvSpPr/>
          <p:nvPr/>
        </p:nvSpPr>
        <p:spPr>
          <a:xfrm rot="60000">
            <a:off x="2970000" y="1926720"/>
            <a:ext cx="4422600" cy="252900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Arc 24"/>
          <p:cNvSpPr/>
          <p:nvPr/>
        </p:nvSpPr>
        <p:spPr>
          <a:xfrm rot="120000">
            <a:off x="5124600" y="3733920"/>
            <a:ext cx="2328840" cy="81756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25"/>
          <p:cNvSpPr/>
          <p:nvPr/>
        </p:nvSpPr>
        <p:spPr>
          <a:xfrm>
            <a:off x="1603440" y="152388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Rectangle 26"/>
          <p:cNvSpPr/>
          <p:nvPr/>
        </p:nvSpPr>
        <p:spPr>
          <a:xfrm>
            <a:off x="1447920" y="3124080"/>
            <a:ext cx="45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Line 27"/>
          <p:cNvSpPr/>
          <p:nvPr/>
        </p:nvSpPr>
        <p:spPr>
          <a:xfrm>
            <a:off x="1447920" y="525780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Line 28"/>
          <p:cNvSpPr/>
          <p:nvPr/>
        </p:nvSpPr>
        <p:spPr>
          <a:xfrm>
            <a:off x="2971800" y="525780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Line 29"/>
          <p:cNvSpPr/>
          <p:nvPr/>
        </p:nvSpPr>
        <p:spPr>
          <a:xfrm>
            <a:off x="51055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30"/>
          <p:cNvSpPr/>
          <p:nvPr/>
        </p:nvSpPr>
        <p:spPr>
          <a:xfrm>
            <a:off x="3708360" y="533700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31"/>
          <p:cNvSpPr/>
          <p:nvPr/>
        </p:nvSpPr>
        <p:spPr>
          <a:xfrm>
            <a:off x="568944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Arc 32"/>
          <p:cNvSpPr/>
          <p:nvPr/>
        </p:nvSpPr>
        <p:spPr>
          <a:xfrm rot="60000">
            <a:off x="1371600" y="2063880"/>
            <a:ext cx="5845320" cy="2735280"/>
          </a:xfrm>
          <a:prstGeom prst="pie">
            <a:avLst/>
          </a:prstGeom>
          <a:noFill/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Arc 33"/>
          <p:cNvSpPr/>
          <p:nvPr/>
        </p:nvSpPr>
        <p:spPr>
          <a:xfrm rot="60000">
            <a:off x="1851120" y="1828800"/>
            <a:ext cx="5844960" cy="2735280"/>
          </a:xfrm>
          <a:prstGeom prst="pie">
            <a:avLst/>
          </a:prstGeom>
          <a:noFill/>
          <a:ln w="324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699601E-12AB-4177-BD41-F9F3164D130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047240" y="1143000"/>
            <a:ext cx="77914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Área disponible 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: S(t)=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ars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(t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rdenar hogares y firmas de mayor a menor pendient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contr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solv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1024"/>
              <p:cNvSpPr txBox="1"/>
              <p:nvPr/>
            </p:nvSpPr>
            <p:spPr>
              <a:xfrm>
                <a:off x="3733920" y="2714760"/>
                <a:ext cx="1969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A1FCE42-4EED-4FFD-B689-E2975D8E7F66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761760" y="4343400"/>
            <a:ext cx="77914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arar el precio resultante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el margen de la ciudad con el valor agrícola, si coincide con la suposición entonces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ra correcta, si no, hay que modificar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Se obtiene el límite urb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ernativamente, partir del valor de suelo agrícola y un límite urbano, probar si cabe toda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609480" y="75960"/>
            <a:ext cx="7963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pic>
        <p:nvPicPr>
          <p:cNvPr id="399" name="Picture 5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8001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ropiedad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ta del suelo y propiedades decrece con dista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yor distancia mayor consumo de terreno por hogar y menor dens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00E3-B840-4C5A-ABA2-6EBF4FD811A7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D7438C6-0EFF-4238-8DB3-AD2FD85C76F3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4" name="Object 0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1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2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0" name="Group 628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411" name="Line 5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Line 6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Line 7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Line 8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Line 9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Line 10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Line 11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Line 12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Line 13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Line 14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Line 15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Line 16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Line 17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Line 18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Line 19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Line 20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Line 21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Line 22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Line 23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Line 24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Line 25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Line 26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Line 27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Line 28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Line 29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Line 30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Line 31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Line 32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Line 33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Line 34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Line 35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Line 36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Line 37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Line 38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Line 39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Line 40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Line 41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Line 42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Line 43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Line 44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Line 45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Line 46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Line 47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Line 48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Line 49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50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Line 51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Line 52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Line 53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Line 54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Line 55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Line 56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Line 57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58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Line 59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Line 60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Line 61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Line 62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Line 63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64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Line 65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Line 66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Line 67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Line 68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Line 69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Line 70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Line 71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Line 72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Line 73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Line 74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Line 75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Line 76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Line 77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Line 78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Line 79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Line 80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Line 81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82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83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Line 84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Line 85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Line 86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Line 87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Line 88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Line 89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90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91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Line 92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Line 93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Line 94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Line 95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Line 96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Line 97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Line 98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Line 99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Line 100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Line 101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Line 102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Line 103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Line 104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Line 105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Line 106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Line 107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Line 108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Line 109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Line 110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Line 111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Line 112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Line 113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Line 114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Line 115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Line 116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Line 117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Line 118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Line 119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Line 120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Line 121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Line 122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Line 123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Line 124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Line 125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Line 126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Line 127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Line 128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Line 129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Line 130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Line 131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Line 132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Line 133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Line 134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Line 135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Line 136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Line 137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Line 138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Line 139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Line 140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Line 141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Line 142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Line 143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Line 144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Line 145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Line 146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Line 147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Line 148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Line 149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Line 150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Line 151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Line 152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Line 153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Line 154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Line 155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Line 156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Line 157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Line 158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Line 159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Line 160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Line 161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Line 162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Line 163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Line 164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Line 165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Line 166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Line 167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Line 168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Line 169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Line 170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Line 171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Line 172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Line 173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Line 174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Line 175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Line 176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Line 177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Line 178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Line 179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Line 180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Line 181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Line 182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Line 183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Line 184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Line 185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Line 186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Line 187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Line 188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Line 189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Line 190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Line 191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Line 192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Line 193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Line 194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Line 195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Line 196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Line 197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Line 198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Line 199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Line 200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Line 201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Line 202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Line 203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Line 204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Line 205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Line 206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Line 207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Line 208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Line 209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Line 210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Line 211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Line 212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Line 213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Line 214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Line 215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Line 216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Line 217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Line 218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Line 219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Line 220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Line 221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Line 222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Line 223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Line 224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Line 225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Line 226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Line 227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Line 228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Line 229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Line 230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Line 231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Line 232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Line 233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Line 234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Line 235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Line 236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Line 237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Line 238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Line 239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Line 240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Line 241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Line 242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Line 243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Line 244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Line 245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Line 246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Line 247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Line 248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Line 249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Line 250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Line 251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Line 252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Line 253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Line 254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Line 255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Line 256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Line 257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Line 258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Line 259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Line 260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Line 261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Line 262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Line 263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Line 264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Line 265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Line 266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Line 267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Line 268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Line 269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Line 270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Line 271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Line 272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Line 273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Line 274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Line 275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Line 276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Line 277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Line 278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Line 279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Line 280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Line 281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Line 282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Line 283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Line 284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Line 285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Line 286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Line 287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Line 288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Line 289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Line 290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Line 291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Line 292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Line 293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Line 294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Line 295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Line 296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Line 297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Line 298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Line 299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Line 300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Line 301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Line 302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Line 303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Line 304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Line 305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Line 306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Line 307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Line 308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Line 309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Line 310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Line 311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Line 312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Line 313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Line 314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Line 315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Line 316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Line 317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Line 318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Line 319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Line 320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Line 321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Line 322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Line 323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Line 324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Line 325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Line 326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Line 327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Line 328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Line 329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Line 330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Line 331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Line 332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Line 333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Line 334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Line 335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Line 336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Line 337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Line 338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Line 339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Line 340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Line 341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Line 342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Line 343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Line 344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Line 345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Line 346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Line 347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Line 348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Line 349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Line 350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Line 351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Line 352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Line 353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Line 354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Line 355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Line 356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Line 357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Line 358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Line 359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Line 360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Line 361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Line 362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Line 363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Line 364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Line 365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Line 366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Line 367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Line 368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Line 369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Line 370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Line 371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Line 372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Line 373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Line 374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Line 375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Line 376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Line 377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Line 378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Line 379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Line 380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Line 381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Line 382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Line 383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Line 384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Line 385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Line 386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Line 387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Line 388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Line 389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Line 390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Line 391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Line 392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Line 393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Line 394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Line 395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Line 396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Line 397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Line 398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Line 399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Line 400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Line 401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Line 402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Line 403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Line 404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Line 405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Line 406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Line 407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Line 408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Line 409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Line 410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Line 411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Line 412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Line 413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Line 414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Line 415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Line 416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Line 417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Line 418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Line 419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Line 420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Line 421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Line 422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Line 423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Line 424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Line 425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Line 426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Line 427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Line 428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Line 429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Line 430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Line 431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Line 432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Line 433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Line 434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Line 435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Line 436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Line 437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Line 438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Line 439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Line 440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Line 441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Line 442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Line 443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Line 444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Line 445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Line 446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Line 447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Line 448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Line 449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Line 450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Line 451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Line 452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Line 453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Line 454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Line 455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Line 456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Line 457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Line 458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Line 459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Line 460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Line 461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Line 462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Line 463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Line 464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Line 465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Line 466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Line 467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Line 468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Line 469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Line 470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Line 471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Line 472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Line 473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474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Line 475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Line 476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Line 477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Line 478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Line 479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Line 480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Line 481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Line 482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Line 483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Line 484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Line 485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Line 486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Line 487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Line 488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Line 489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Line 490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Line 491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Line 492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Line 493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Line 494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Line 495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Line 496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Line 497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Line 498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Line 499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Line 500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Line 501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Line 502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Line 503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Line 504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Line 505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Line 506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Line 507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Line 508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Line 509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510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Line 511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Line 512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Line 513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Line 514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Line 515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Line 516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Line 517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Line 518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Line 519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Line 520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Line 521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Line 522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Line 523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Line 524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Line 525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Line 526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Line 527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Line 528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Line 529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Line 530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Line 531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Line 532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Line 533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Line 534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Line 535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Line 536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Line 537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Line 538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Line 539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Line 540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Line 541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Line 542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Line 543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Line 544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Line 545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Line 546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Line 547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Line 548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Line 549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Line 550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Line 551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Line 552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Line 553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Line 554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Line 555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Line 556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Line 557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Line 558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Line 559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Line 560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Line 561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Line 562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Line 563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Line 564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Line 565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Line 566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Line 567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Line 568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Line 569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Line 570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Line 571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Line 572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Line 573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Line 574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Line 575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Line 576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Line 577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Line 578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Line 579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Line 580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Line 581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Line 582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Line 583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Line 584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Line 585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Line 586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Line 587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Arc 588"/>
            <p:cNvSpPr/>
            <p:nvPr/>
          </p:nvSpPr>
          <p:spPr>
            <a:xfrm>
              <a:off x="6969240" y="1236600"/>
              <a:ext cx="52200" cy="117360"/>
            </a:xfrm>
            <a:prstGeom prst="pie">
              <a:avLst/>
            </a:prstGeom>
            <a:noFill/>
            <a:ln cap="rnd" w="5076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Line 589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Line 590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Line 591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Line 592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Line 593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Line 594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Line 595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Arc 596"/>
            <p:cNvSpPr/>
            <p:nvPr/>
          </p:nvSpPr>
          <p:spPr>
            <a:xfrm>
              <a:off x="7203960" y="1127160"/>
              <a:ext cx="32040" cy="3636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Line 597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Line 598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Line 599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Rectangle 600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Rectangle 601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Rectangle 602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Rectangle 603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Rectangle 604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Rectangle 605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Rectangle 606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Rectangle 607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Rectangle 608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Rectangle 609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Rectangle 610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Rectangle 611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Rectangle 612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Line 613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Rectangle 614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Rectangle 615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Rectangle 616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Rectangle 617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Rectangle 618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Rectangle 619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Rectangle 620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Rectangle 621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Rectangle 622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Line 623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Line 624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Line 625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Line 626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Line 627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4" name="Group 650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1035" name="Group 633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1036" name="Freeform 629"/>
              <p:cNvSpPr/>
              <p:nvPr/>
            </p:nvSpPr>
            <p:spPr>
              <a:xfrm>
                <a:off x="7823160" y="1297080"/>
                <a:ext cx="176400" cy="5857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Freeform 630"/>
              <p:cNvSpPr/>
              <p:nvPr/>
            </p:nvSpPr>
            <p:spPr>
              <a:xfrm>
                <a:off x="7915320" y="920880"/>
                <a:ext cx="181080" cy="25056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Freeform 631"/>
              <p:cNvSpPr/>
              <p:nvPr/>
            </p:nvSpPr>
            <p:spPr>
              <a:xfrm>
                <a:off x="8023320" y="1155600"/>
                <a:ext cx="73080" cy="355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Freeform 632"/>
              <p:cNvSpPr/>
              <p:nvPr/>
            </p:nvSpPr>
            <p:spPr>
              <a:xfrm>
                <a:off x="7812000" y="928800"/>
                <a:ext cx="249480" cy="9572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Group 638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1041" name="Freeform 634"/>
              <p:cNvSpPr/>
              <p:nvPr/>
            </p:nvSpPr>
            <p:spPr>
              <a:xfrm>
                <a:off x="7631280" y="928800"/>
                <a:ext cx="215640" cy="96660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Freeform 635"/>
              <p:cNvSpPr/>
              <p:nvPr/>
            </p:nvSpPr>
            <p:spPr>
              <a:xfrm>
                <a:off x="7608960" y="1282680"/>
                <a:ext cx="79200" cy="1969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Freeform 636"/>
              <p:cNvSpPr/>
              <p:nvPr/>
            </p:nvSpPr>
            <p:spPr>
              <a:xfrm>
                <a:off x="7711920" y="914400"/>
                <a:ext cx="78120" cy="19044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Freeform 637"/>
              <p:cNvSpPr/>
              <p:nvPr/>
            </p:nvSpPr>
            <p:spPr>
              <a:xfrm>
                <a:off x="7601040" y="914400"/>
                <a:ext cx="223920" cy="9716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Group 643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1046" name="Freeform 639"/>
              <p:cNvSpPr/>
              <p:nvPr/>
            </p:nvSpPr>
            <p:spPr>
              <a:xfrm>
                <a:off x="7812000" y="1533600"/>
                <a:ext cx="227160" cy="5173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Freeform 640"/>
              <p:cNvSpPr/>
              <p:nvPr/>
            </p:nvSpPr>
            <p:spPr>
              <a:xfrm>
                <a:off x="8004240" y="1139760"/>
                <a:ext cx="150840" cy="2872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Freeform 641"/>
              <p:cNvSpPr/>
              <p:nvPr/>
            </p:nvSpPr>
            <p:spPr>
              <a:xfrm>
                <a:off x="8050320" y="1427040"/>
                <a:ext cx="104760" cy="328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Freeform 642"/>
              <p:cNvSpPr/>
              <p:nvPr/>
            </p:nvSpPr>
            <p:spPr>
              <a:xfrm>
                <a:off x="7812000" y="1143000"/>
                <a:ext cx="306360" cy="907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Group 649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1051" name="Freeform 644"/>
              <p:cNvSpPr/>
              <p:nvPr/>
            </p:nvSpPr>
            <p:spPr>
              <a:xfrm>
                <a:off x="7551720" y="1544760"/>
                <a:ext cx="52560" cy="19836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Freeform 645"/>
              <p:cNvSpPr/>
              <p:nvPr/>
            </p:nvSpPr>
            <p:spPr>
              <a:xfrm>
                <a:off x="7589880" y="1139760"/>
                <a:ext cx="49320" cy="193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3" name="Group 648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1054" name="Freeform 646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prstGeom prst="pi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Freeform 647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prstGeom prst="pi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1056" name="Object 3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7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F07F404-BE14-4FBC-AC30-F6CF86C09EF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obert Haig (1926): renta producto del ahorro de costos de transporte; asignación vía rem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in (Renta + costo tpte) = costo de fri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cologis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k &amp; Burques:Valor renta determina e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ig: ¿Uso determina valor o a la invers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wley: Hogares se distribuyen por renta, costo de transporte y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localización de otros hogar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stos factores generan la renta residenc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alter Firey: Minimizar costo total de obtener máxima satisfacción sea mínimo. Costo incluye elementos sentiment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5CFB3DD-4608-4424-9243-191E37F2ADB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Teoría de localización residencial</a:t>
            </a:r>
            <a:br>
              <a:rPr sz="3600"/>
            </a:b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Alonso (1961-64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lanada homogénea: idéntica calidad, lista para usar, compra y venta libre, se aceptan hoy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ormación perfecta, no hay restricciones legales ni so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mpradores maximizan utilidad, vendedores maximizan gan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cio: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Arrien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venta y costo de propie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amaño terreno: trivial para un solo ocupante, una fracción para múltiples ocupant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6F0BFB-388A-4AE5-B15D-95E509D7973F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l terr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istancia del centro C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de decisión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"hombre económico" Individuo puede representar un hogar (opinantes o no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idéntico en todas dire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onocentr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empleo y servicios concentrados en CB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quilibri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iste en definir la cantidad de terreno y localización que el individuo comprar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2B857BD-639D-4878-B9D2-D8990957AF7F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19320" y="31240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x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ienes de consumo a precio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tancia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tamaño de terreno a precio en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(t)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recio suelo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calizado en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or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costo de transporte desde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ingreso del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24"/>
              <p:cNvSpPr txBox="1"/>
              <p:nvPr/>
            </p:nvSpPr>
            <p:spPr>
              <a:xfrm>
                <a:off x="2741760" y="1447920"/>
                <a:ext cx="4117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Text Box 5"/>
          <p:cNvSpPr/>
          <p:nvPr/>
        </p:nvSpPr>
        <p:spPr>
          <a:xfrm>
            <a:off x="614880" y="141624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l hoga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5DD7042-0C7B-49A4-B9FA-B6C77ACFB065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upuest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7" name="Group 13"/>
          <p:cNvGrpSpPr/>
          <p:nvPr/>
        </p:nvGrpSpPr>
        <p:grpSpPr>
          <a:xfrm>
            <a:off x="829800" y="1474920"/>
            <a:ext cx="6495120" cy="4492800"/>
            <a:chOff x="829800" y="1474920"/>
            <a:chExt cx="6495120" cy="4492800"/>
          </a:xfrm>
        </p:grpSpPr>
        <p:sp>
          <p:nvSpPr>
            <p:cNvPr id="98" name="Line 4"/>
            <p:cNvSpPr/>
            <p:nvPr/>
          </p:nvSpPr>
          <p:spPr>
            <a:xfrm>
              <a:off x="1238760" y="1508760"/>
              <a:ext cx="0" cy="390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Line 5"/>
            <p:cNvSpPr/>
            <p:nvPr/>
          </p:nvSpPr>
          <p:spPr>
            <a:xfrm>
              <a:off x="1238760" y="5410440"/>
              <a:ext cx="588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1635480" y="1703880"/>
              <a:ext cx="4431240" cy="33811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1900080" y="1833840"/>
              <a:ext cx="3703680" cy="3251160"/>
            </a:xfrm>
            <a:prstGeom prst="pie">
              <a:avLst/>
            </a:pr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Text Box 8"/>
            <p:cNvSpPr/>
            <p:nvPr/>
          </p:nvSpPr>
          <p:spPr>
            <a:xfrm>
              <a:off x="6002640" y="485640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(t)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Text Box 9"/>
            <p:cNvSpPr/>
            <p:nvPr/>
          </p:nvSpPr>
          <p:spPr>
            <a:xfrm>
              <a:off x="5564520" y="173376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k(t)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Text Box 10"/>
            <p:cNvSpPr/>
            <p:nvPr/>
          </p:nvSpPr>
          <p:spPr>
            <a:xfrm>
              <a:off x="7058880" y="54403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Text Box 11"/>
            <p:cNvSpPr/>
            <p:nvPr/>
          </p:nvSpPr>
          <p:spPr>
            <a:xfrm>
              <a:off x="829800" y="55080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CBD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Text Box 12"/>
            <p:cNvSpPr/>
            <p:nvPr/>
          </p:nvSpPr>
          <p:spPr>
            <a:xfrm>
              <a:off x="872280" y="147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$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7" name="Object 1024"/>
              <p:cNvSpPr txBox="1"/>
              <p:nvPr/>
            </p:nvSpPr>
            <p:spPr>
              <a:xfrm>
                <a:off x="6477120" y="1752480"/>
                <a:ext cx="761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025"/>
              <p:cNvSpPr txBox="1"/>
              <p:nvPr/>
            </p:nvSpPr>
            <p:spPr>
              <a:xfrm>
                <a:off x="6858000" y="4572000"/>
                <a:ext cx="762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Text Box 16"/>
          <p:cNvSpPr/>
          <p:nvPr/>
        </p:nvSpPr>
        <p:spPr>
          <a:xfrm>
            <a:off x="6096960" y="365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ecios exógeno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552B5A9-84B0-41C6-ABA2-9B5D051C6DE4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143000" y="1295280"/>
            <a:ext cx="7772400" cy="510552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restricción de ingreso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024"/>
              <p:cNvSpPr txBox="1"/>
              <p:nvPr/>
            </p:nvSpPr>
            <p:spPr>
              <a:xfrm>
                <a:off x="2286000" y="1447920"/>
                <a:ext cx="5105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025"/>
              <p:cNvSpPr txBox="1"/>
              <p:nvPr/>
            </p:nvSpPr>
            <p:spPr>
              <a:xfrm>
                <a:off x="2971800" y="2133720"/>
                <a:ext cx="4267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026"/>
              <p:cNvSpPr txBox="1"/>
              <p:nvPr/>
            </p:nvSpPr>
            <p:spPr>
              <a:xfrm>
                <a:off x="2362320" y="2738520"/>
                <a:ext cx="4572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027"/>
              <p:cNvSpPr txBox="1"/>
              <p:nvPr/>
            </p:nvSpPr>
            <p:spPr>
              <a:xfrm>
                <a:off x="2057400" y="3429000"/>
                <a:ext cx="6400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028"/>
              <p:cNvSpPr txBox="1"/>
              <p:nvPr/>
            </p:nvSpPr>
            <p:spPr>
              <a:xfrm>
                <a:off x="1447920" y="4898880"/>
                <a:ext cx="25905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029"/>
              <p:cNvSpPr txBox="1"/>
              <p:nvPr/>
            </p:nvSpPr>
            <p:spPr>
              <a:xfrm>
                <a:off x="4984920" y="4919760"/>
                <a:ext cx="3473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2B0A6E2-C6E4-403E-A635-D29FE9F5EC0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029"/>
          <p:cNvSpPr/>
          <p:nvPr/>
        </p:nvSpPr>
        <p:spPr>
          <a:xfrm>
            <a:off x="1143000" y="1219320"/>
            <a:ext cx="7696080" cy="51051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024"/>
              <p:cNvSpPr txBox="1"/>
              <p:nvPr/>
            </p:nvSpPr>
            <p:spPr>
              <a:xfrm>
                <a:off x="1822320" y="1447920"/>
                <a:ext cx="2757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función de utilidad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025"/>
              <p:cNvSpPr txBox="1"/>
              <p:nvPr/>
            </p:nvSpPr>
            <p:spPr>
              <a:xfrm>
                <a:off x="2057400" y="2057400"/>
                <a:ext cx="4629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26"/>
              <p:cNvSpPr txBox="1"/>
              <p:nvPr/>
            </p:nvSpPr>
            <p:spPr>
              <a:xfrm>
                <a:off x="5603760" y="2971800"/>
                <a:ext cx="2549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027"/>
              <p:cNvSpPr txBox="1"/>
              <p:nvPr/>
            </p:nvSpPr>
            <p:spPr>
              <a:xfrm>
                <a:off x="6432480" y="5018040"/>
                <a:ext cx="12636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028"/>
              <p:cNvSpPr txBox="1"/>
              <p:nvPr/>
            </p:nvSpPr>
            <p:spPr>
              <a:xfrm>
                <a:off x="1987560" y="2881440"/>
                <a:ext cx="26370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029"/>
              <p:cNvSpPr txBox="1"/>
              <p:nvPr/>
            </p:nvSpPr>
            <p:spPr>
              <a:xfrm>
                <a:off x="2133720" y="484992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Text Box 1037"/>
          <p:cNvSpPr/>
          <p:nvPr/>
        </p:nvSpPr>
        <p:spPr>
          <a:xfrm>
            <a:off x="2338560" y="380916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illo concéntric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038"/>
          <p:cNvSpPr/>
          <p:nvPr/>
        </p:nvSpPr>
        <p:spPr>
          <a:xfrm>
            <a:off x="5617080" y="380916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 radia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039"/>
          <p:cNvSpPr/>
          <p:nvPr/>
        </p:nvSpPr>
        <p:spPr>
          <a:xfrm>
            <a:off x="1101240" y="426600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s marginales de sustitució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7:05:13Z</dcterms:created>
  <dc:creator/>
  <dc:description/>
  <cp:keywords/>
  <dc:language>en-US</dc:language>
  <cp:lastModifiedBy>Francisco Martinez</cp:lastModifiedBy>
  <dcterms:modified xsi:type="dcterms:W3CDTF">2010-08-27T14:09:53Z</dcterms:modified>
  <cp:revision>126</cp:revision>
  <dc:subject/>
  <dc:title>General</dc:title>
</cp:coreProperties>
</file>