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03A-72D6-41FF-9390-E2348D1E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907-87E8-4C45-983D-5B7E068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02C-E3A3-405E-B397-31C0DBD2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6F7-3AC8-42FC-A091-478AC6C6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380-5D56-4108-AA2D-8CAF0E2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28C-1436-4A21-A931-F94E7A4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5C1-31BB-4651-BE08-3DA384F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A55-01EE-4A91-8572-47326B33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62D-2235-4835-AC9C-FCA6F5B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635-A423-40E7-A1CF-4426A27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BDC-6935-4929-A2DB-8A1ED69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EC0-6888-4F36-B339-8B69A25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D85-ECE9-476D-A11B-41B1B936C8B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7350CF-BED6-4950-8800-AFB792E9E4D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C19224-0845-4784-B3F3-A40785F4CDE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4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25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026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1027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3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76C1B6-63C6-406B-A973-F7484EC4ED6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048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BDC788-1392-424A-8049-466A4FF6376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24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25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26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10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27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08497F-0B90-40CE-ACF0-0FBD8B6AE38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y-k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nsumo máximo de bienes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=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sición a pagar decrece con la distanci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umo de terreno 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p(t) dec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demás decrece consumo de bienes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4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55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6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traight Connector 36"/>
          <p:cNvSpPr/>
          <p:nvPr/>
        </p:nvSpPr>
        <p:spPr>
          <a:xfrm>
            <a:off x="1143000" y="2666880"/>
            <a:ext cx="2819520" cy="152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38"/>
          <p:cNvSpPr/>
          <p:nvPr/>
        </p:nvSpPr>
        <p:spPr>
          <a:xfrm>
            <a:off x="32760" y="175248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traight Connector 42"/>
          <p:cNvSpPr/>
          <p:nvPr/>
        </p:nvSpPr>
        <p:spPr>
          <a:xfrm flipH="1">
            <a:off x="2360160" y="3354480"/>
            <a:ext cx="3240" cy="8380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45"/>
          <p:cNvSpPr/>
          <p:nvPr/>
        </p:nvSpPr>
        <p:spPr>
          <a:xfrm>
            <a:off x="2217960" y="4095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3892680" y="1828800"/>
            <a:ext cx="2046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&gt;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(t) 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Box 57"/>
          <p:cNvSpPr/>
          <p:nvPr/>
        </p:nvSpPr>
        <p:spPr>
          <a:xfrm>
            <a:off x="521928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Box 58"/>
          <p:cNvSpPr/>
          <p:nvPr/>
        </p:nvSpPr>
        <p:spPr>
          <a:xfrm>
            <a:off x="2548800" y="3657600"/>
            <a:ext cx="520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Box 59"/>
          <p:cNvSpPr/>
          <p:nvPr/>
        </p:nvSpPr>
        <p:spPr>
          <a:xfrm>
            <a:off x="3614040" y="3809880"/>
            <a:ext cx="56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Box 60"/>
          <p:cNvSpPr/>
          <p:nvPr/>
        </p:nvSpPr>
        <p:spPr>
          <a:xfrm>
            <a:off x="48600" y="2514600"/>
            <a:ext cx="114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x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9B5899-1704-4EA9-BEDD-0246F464927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5028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posición a pagar decrece con la utilidad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&gt;p’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consumo de terreno crece con la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Straight Arrow Connector 25"/>
          <p:cNvCxnSpPr/>
          <p:nvPr/>
        </p:nvCxnSpPr>
        <p:spPr>
          <a:xfrm flipV="1">
            <a:off x="1141560" y="1296360"/>
            <a:ext cx="3600" cy="289620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4" name="Straight Arrow Connector 27"/>
          <p:cNvCxnSpPr/>
          <p:nvPr/>
        </p:nvCxnSpPr>
        <p:spPr>
          <a:xfrm>
            <a:off x="1142640" y="4191120"/>
            <a:ext cx="5182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5" name="Freeform 32"/>
          <p:cNvSpPr/>
          <p:nvPr/>
        </p:nvSpPr>
        <p:spPr>
          <a:xfrm>
            <a:off x="1477800" y="1593720"/>
            <a:ext cx="3551400" cy="229248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34"/>
          <p:cNvSpPr/>
          <p:nvPr/>
        </p:nvSpPr>
        <p:spPr>
          <a:xfrm>
            <a:off x="1142280" y="1981080"/>
            <a:ext cx="1676520" cy="2210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37"/>
          <p:cNvSpPr/>
          <p:nvPr/>
        </p:nvSpPr>
        <p:spPr>
          <a:xfrm>
            <a:off x="633924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38"/>
          <p:cNvSpPr/>
          <p:nvPr/>
        </p:nvSpPr>
        <p:spPr>
          <a:xfrm>
            <a:off x="546840" y="175248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traight Connector 41"/>
          <p:cNvSpPr/>
          <p:nvPr/>
        </p:nvSpPr>
        <p:spPr>
          <a:xfrm flipH="1">
            <a:off x="1750680" y="2820960"/>
            <a:ext cx="3240" cy="13716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traight Connector 42"/>
          <p:cNvSpPr/>
          <p:nvPr/>
        </p:nvSpPr>
        <p:spPr>
          <a:xfrm flipH="1">
            <a:off x="2284560" y="2973240"/>
            <a:ext cx="2880" cy="12193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45"/>
          <p:cNvSpPr/>
          <p:nvPr/>
        </p:nvSpPr>
        <p:spPr>
          <a:xfrm>
            <a:off x="2175480" y="4095720"/>
            <a:ext cx="46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q’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8"/>
          <p:cNvSpPr/>
          <p:nvPr/>
        </p:nvSpPr>
        <p:spPr>
          <a:xfrm>
            <a:off x="1608480" y="41148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49"/>
          <p:cNvSpPr/>
          <p:nvPr/>
        </p:nvSpPr>
        <p:spPr>
          <a:xfrm>
            <a:off x="1706400" y="1441440"/>
            <a:ext cx="3551400" cy="2292480"/>
          </a:xfrm>
          <a:prstGeom prst="pie">
            <a:avLst/>
          </a:pr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traight Connector 51"/>
          <p:cNvSpPr/>
          <p:nvPr/>
        </p:nvSpPr>
        <p:spPr>
          <a:xfrm>
            <a:off x="1193760" y="1936800"/>
            <a:ext cx="2387520" cy="22543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55"/>
          <p:cNvSpPr/>
          <p:nvPr/>
        </p:nvSpPr>
        <p:spPr>
          <a:xfrm>
            <a:off x="3969720" y="1828800"/>
            <a:ext cx="189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x + p(t)q = y-kt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Box 56"/>
          <p:cNvSpPr/>
          <p:nvPr/>
        </p:nvSpPr>
        <p:spPr>
          <a:xfrm>
            <a:off x="5249520" y="35053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57"/>
          <p:cNvSpPr/>
          <p:nvPr/>
        </p:nvSpPr>
        <p:spPr>
          <a:xfrm>
            <a:off x="5143320" y="373392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2563200" y="3657600"/>
            <a:ext cx="49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p(t</a:t>
            </a:r>
            <a:r>
              <a:rPr b="1" i="1" lang="en-US" sz="1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3240000" y="3730680"/>
            <a:ext cx="55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’(t</a:t>
            </a:r>
            <a:r>
              <a:rPr b="1" i="1" lang="en-US" sz="1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AE6B70F-364F-4D5B-A402-4B6984E7961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cep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1064"/>
          <p:cNvGrpSpPr/>
          <p:nvPr/>
        </p:nvGrpSpPr>
        <p:grpSpPr>
          <a:xfrm>
            <a:off x="375480" y="685800"/>
            <a:ext cx="6646680" cy="4114800"/>
            <a:chOff x="375480" y="685800"/>
            <a:chExt cx="6646680" cy="4114800"/>
          </a:xfrm>
        </p:grpSpPr>
        <p:sp>
          <p:nvSpPr>
            <p:cNvPr id="194" name="Rectangle 1032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Group 1063"/>
            <p:cNvGrpSpPr/>
            <p:nvPr/>
          </p:nvGrpSpPr>
          <p:grpSpPr>
            <a:xfrm>
              <a:off x="735120" y="944280"/>
              <a:ext cx="6287040" cy="3856320"/>
              <a:chOff x="735120" y="944280"/>
              <a:chExt cx="6287040" cy="3856320"/>
            </a:xfrm>
          </p:grpSpPr>
          <p:sp>
            <p:nvSpPr>
              <p:cNvPr id="196" name="Line 1029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1030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1031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rc 1033"/>
              <p:cNvSpPr/>
              <p:nvPr/>
            </p:nvSpPr>
            <p:spPr>
              <a:xfrm rot="60000">
                <a:off x="828360" y="18021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1043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1046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053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rc 1057"/>
              <p:cNvSpPr/>
              <p:nvPr/>
            </p:nvSpPr>
            <p:spPr>
              <a:xfrm rot="60000">
                <a:off x="942840" y="1332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rc 1058"/>
              <p:cNvSpPr/>
              <p:nvPr/>
            </p:nvSpPr>
            <p:spPr>
              <a:xfrm rot="60000">
                <a:off x="1106640" y="990360"/>
                <a:ext cx="5329080" cy="2408040"/>
              </a:xfrm>
              <a:prstGeom prst="pie">
                <a:avLst/>
              </a:pr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1059"/>
              <p:cNvSpPr/>
              <p:nvPr/>
            </p:nvSpPr>
            <p:spPr>
              <a:xfrm>
                <a:off x="644508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Text Box 1060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1061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Text Box 1065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066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EECD0DC-2679-4D1D-93F2-18D949B01FA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2048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26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Arc 13"/>
          <p:cNvSpPr/>
          <p:nvPr/>
        </p:nvSpPr>
        <p:spPr>
          <a:xfrm rot="60000">
            <a:off x="9522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21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049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Line 32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34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rc 37"/>
          <p:cNvSpPr/>
          <p:nvPr/>
        </p:nvSpPr>
        <p:spPr>
          <a:xfrm rot="60000">
            <a:off x="11048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Arc 38"/>
          <p:cNvSpPr/>
          <p:nvPr/>
        </p:nvSpPr>
        <p:spPr>
          <a:xfrm rot="60000">
            <a:off x="838080" y="3352320"/>
            <a:ext cx="532944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36"/>
          <p:cNvSpPr/>
          <p:nvPr/>
        </p:nvSpPr>
        <p:spPr>
          <a:xfrm>
            <a:off x="1447920" y="2895480"/>
            <a:ext cx="4267080" cy="21337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48E3359-AEE0-49BA-935C-BFED281CEC3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0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9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261836-AE7D-47D7-86B6-3339A984FDB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10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C9D9F6-3479-4371-A951-45D7B1F3CB7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024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25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ED38EAA-EB63-412B-9573-48D6D525BBD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1E5EF8F-E61C-4009-82F5-FEE52CD85DD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Arc 9"/>
          <p:cNvSpPr/>
          <p:nvPr/>
        </p:nvSpPr>
        <p:spPr>
          <a:xfrm rot="60000">
            <a:off x="828360" y="2641320"/>
            <a:ext cx="5330880" cy="24066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rc 13"/>
          <p:cNvSpPr/>
          <p:nvPr/>
        </p:nvSpPr>
        <p:spPr>
          <a:xfrm rot="60000">
            <a:off x="942480" y="2171520"/>
            <a:ext cx="5330880" cy="240804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Arc 14"/>
          <p:cNvSpPr/>
          <p:nvPr/>
        </p:nvSpPr>
        <p:spPr>
          <a:xfrm rot="60000">
            <a:off x="1106640" y="1828440"/>
            <a:ext cx="5330520" cy="24084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8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33"/>
          <p:cNvSpPr/>
          <p:nvPr/>
        </p:nvSpPr>
        <p:spPr>
          <a:xfrm>
            <a:off x="1727280" y="1816200"/>
            <a:ext cx="4673520" cy="267948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26AB73-9135-4D8B-A4DC-C261C44EE2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8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54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55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56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57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5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74A40C7-B045-47D7-BB21-AB15B226506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1026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Line 1027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3" name="Rectangle 1029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030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1031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032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1033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34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035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036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037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Line 1038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039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040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381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Line 1041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34ec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042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Line 1043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Line 1044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Line 1045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1046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047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1048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49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0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051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52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1053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054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1055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56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057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DAD91BE-B94B-4762-90F5-94C878863BB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6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7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4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59A51D-E07F-4410-AB8D-F9BD61BB0FC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Arc 7"/>
          <p:cNvSpPr/>
          <p:nvPr/>
        </p:nvSpPr>
        <p:spPr>
          <a:xfrm rot="60000">
            <a:off x="1550880" y="1911240"/>
            <a:ext cx="5845320" cy="273528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rc 8"/>
          <p:cNvSpPr/>
          <p:nvPr/>
        </p:nvSpPr>
        <p:spPr>
          <a:xfrm rot="300000">
            <a:off x="3017520" y="1706400"/>
            <a:ext cx="2108160" cy="324972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rc 9"/>
          <p:cNvSpPr/>
          <p:nvPr/>
        </p:nvSpPr>
        <p:spPr>
          <a:xfrm rot="120000">
            <a:off x="1468440" y="3655800"/>
            <a:ext cx="6006960" cy="738000"/>
          </a:xfrm>
          <a:prstGeom prst="pie">
            <a:avLst/>
          </a:pr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19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1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rc 22"/>
          <p:cNvSpPr/>
          <p:nvPr/>
        </p:nvSpPr>
        <p:spPr>
          <a:xfrm rot="192000">
            <a:off x="2437920" y="1676520"/>
            <a:ext cx="2741760" cy="20286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Arc 23"/>
          <p:cNvSpPr/>
          <p:nvPr/>
        </p:nvSpPr>
        <p:spPr>
          <a:xfrm rot="60000">
            <a:off x="2970000" y="1926720"/>
            <a:ext cx="4422600" cy="252900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Arc 24"/>
          <p:cNvSpPr/>
          <p:nvPr/>
        </p:nvSpPr>
        <p:spPr>
          <a:xfrm rot="120000">
            <a:off x="5124600" y="3733920"/>
            <a:ext cx="2328840" cy="817560"/>
          </a:xfrm>
          <a:prstGeom prst="pie">
            <a:avLst/>
          </a:prstGeom>
          <a:noFill/>
          <a:ln cap="rnd"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25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26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27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28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29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31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Arc 32"/>
          <p:cNvSpPr/>
          <p:nvPr/>
        </p:nvSpPr>
        <p:spPr>
          <a:xfrm rot="60000">
            <a:off x="1371600" y="2063880"/>
            <a:ext cx="584532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Arc 33"/>
          <p:cNvSpPr/>
          <p:nvPr/>
        </p:nvSpPr>
        <p:spPr>
          <a:xfrm rot="60000">
            <a:off x="1851120" y="1828800"/>
            <a:ext cx="5844960" cy="2735280"/>
          </a:xfrm>
          <a:prstGeom prst="pie">
            <a:avLst/>
          </a:prstGeom>
          <a:noFill/>
          <a:ln w="3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F08C7F-2F5A-4BCD-A340-3EC3EAD1023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024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686F9C6-B751-44AF-913A-07D3DDEBB0E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8001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ropiedad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ta del suelo y propiedades decrece con dista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yor distancia mayor consumo de terreno por hogar y menor dens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077-9A3C-49C6-88CE-40E90697A03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6C6ADD-040C-44F1-8DF7-D3AB408D9B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4" name="Object 0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2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628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411" name="Line 5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7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15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Line 17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Line 18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Line 20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21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22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Line 24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25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6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Line 34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Line 35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Line 36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37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Line 38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Line 39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Line 40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Line 41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Line 42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Line 43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Line 44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Line 45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Line 46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Line 47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Line 48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49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0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Line 51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Line 52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Line 53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Line 54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55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56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57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58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59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Line 61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Line 62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Line 63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64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65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Line 66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Line 67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Line 68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69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70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Line 71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72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73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74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75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6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77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Line 78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79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80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81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82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83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84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85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86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87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88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89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90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91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92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93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94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95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96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97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98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99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100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101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102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103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104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105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106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107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108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109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110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111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112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113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Line 114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Line 115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116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117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Line 118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Line 120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Line 121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Line 122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Line 124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Line 125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Line 126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Line 127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Line 128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129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130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31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32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33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34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Line 135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Line 136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7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38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Line 139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40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41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42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43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Line 144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Line 145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Line 146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Line 147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Line 148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Line 149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Line 150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Line 151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152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153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154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155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156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157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158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159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160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Line 161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162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163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164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165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Line 166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Line 167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Line 168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Line 169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Line 170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Line 171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Line 172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Line 173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Line 174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Line 175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176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177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178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179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180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181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Line 182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Line 183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Line 184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Line 185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Line 186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Line 187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Line 188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Line 189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Line 190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Line 191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Line 192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Line 193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Line 194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Line 195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Line 196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Line 197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198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199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200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201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Line 202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Line 203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Line 204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Line 205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Line 206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Line 207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Line 208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Line 209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Line 210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Line 211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Line 212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Line 213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Line 214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215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216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217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218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219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220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221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222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Line 223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Line 224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Line 225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Line 226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Line 227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Line 228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Line 229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Line 230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Line 231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232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Line 233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Line 234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Line 235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236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237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238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239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240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241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242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243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244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245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246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247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248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249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250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251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52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53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54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55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56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7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58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59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60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61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262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Line 263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264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265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266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267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268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69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70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71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Line 272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Line 273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Line 274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Line 275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Line 276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277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Line 278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Line 279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Line 280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281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Line 282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Line 283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Line 284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Line 285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Line 286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Line 287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Line 288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Line 289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290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291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Line 292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Line 293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Line 294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Line 295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Line 296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Line 297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Line 298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Line 299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Line 300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Line 301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302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303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304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305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306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307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308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309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310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311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312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313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314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315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316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317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318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319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320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321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322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23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24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5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26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27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28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Line 329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Line 330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Line 331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Line 332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Line 333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Line 334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Line 335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Line 336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Line 337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Line 338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339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340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341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Line 342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Line 343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Line 344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Line 345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Line 346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Line 347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Line 348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Line 349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Line 350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Line 351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Line 352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Line 353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Line 354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Line 355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356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357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358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359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360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361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362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Line 363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Line 364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Line 365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Line 366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367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368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369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370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Line 371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Line 372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Line 373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Line 374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Line 375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Line 376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Line 377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Line 378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Line 379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Line 380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381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382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383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384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Line 385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386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Line 387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388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Line 389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Line 390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391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392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393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394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Line 395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Line 396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Line 397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Line 398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399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400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401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402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Line 403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404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405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406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407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408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409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410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411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412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413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414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415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416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Line 417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418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419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420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421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422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423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424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425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426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427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428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429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30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31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2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33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34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35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36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37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38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439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440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Line 441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442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43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44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45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46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Line 447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Line 448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449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450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Line 451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Line 452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Line 453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Line 454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455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56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57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458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459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460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461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462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463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464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465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66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67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68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69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70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71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72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3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74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75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476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477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478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479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480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Line 481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482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483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484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485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486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487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488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Line 489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490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491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492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493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494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495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496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Line 497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498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Line 499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500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Line 501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Line 502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Line 503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504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505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506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507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508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509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510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511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512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513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514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515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16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517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18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519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20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521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22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523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524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Line 525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526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527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Line 528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Line 529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530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531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532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533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534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Line 535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Line 536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537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538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539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540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541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Line 542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Line 543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Line 544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545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546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547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Line 548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Line 549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Line 550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551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552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553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554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555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556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557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558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559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560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561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562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563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564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565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Line 566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Line 567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Line 568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569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570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571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572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573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574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575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576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577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578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579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Line 580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Line 581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582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583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584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Line 585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586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Line 587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Arc 588"/>
            <p:cNvSpPr/>
            <p:nvPr/>
          </p:nvSpPr>
          <p:spPr>
            <a:xfrm>
              <a:off x="6969240" y="1236600"/>
              <a:ext cx="52200" cy="117360"/>
            </a:xfrm>
            <a:prstGeom prst="pie">
              <a:avLst/>
            </a:prstGeom>
            <a:noFill/>
            <a:ln cap="rnd" w="5076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Line 589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590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591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592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593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594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595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Arc 596"/>
            <p:cNvSpPr/>
            <p:nvPr/>
          </p:nvSpPr>
          <p:spPr>
            <a:xfrm>
              <a:off x="7203960" y="1127160"/>
              <a:ext cx="32040" cy="36360"/>
            </a:xfrm>
            <a:prstGeom prst="pie">
              <a:avLst/>
            </a:pr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Line 597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Line 598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Line 599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Rectangle 600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Rectangle 601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602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603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604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Rectangle 605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Rectangle 606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Rectangle 607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608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Rectangle 609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Rectangle 610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Rectangle 611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Rectangle 612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613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614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615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616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617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Rectangle 618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Rectangle 619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Rectangle 620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Rectangle 621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622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Line 623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Line 624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Line 625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Line 626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627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4" name="Group 650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1035" name="Group 633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1036" name="Freeform 629"/>
              <p:cNvSpPr/>
              <p:nvPr/>
            </p:nvSpPr>
            <p:spPr>
              <a:xfrm>
                <a:off x="7823160" y="1297080"/>
                <a:ext cx="176400" cy="5857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Freeform 630"/>
              <p:cNvSpPr/>
              <p:nvPr/>
            </p:nvSpPr>
            <p:spPr>
              <a:xfrm>
                <a:off x="7915320" y="920880"/>
                <a:ext cx="181080" cy="2505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Freeform 631"/>
              <p:cNvSpPr/>
              <p:nvPr/>
            </p:nvSpPr>
            <p:spPr>
              <a:xfrm>
                <a:off x="8023320" y="1155600"/>
                <a:ext cx="73080" cy="355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Freeform 632"/>
              <p:cNvSpPr/>
              <p:nvPr/>
            </p:nvSpPr>
            <p:spPr>
              <a:xfrm>
                <a:off x="7812000" y="928800"/>
                <a:ext cx="249480" cy="957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Group 638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1041" name="Freeform 634"/>
              <p:cNvSpPr/>
              <p:nvPr/>
            </p:nvSpPr>
            <p:spPr>
              <a:xfrm>
                <a:off x="7631280" y="928800"/>
                <a:ext cx="215640" cy="96660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Freeform 635"/>
              <p:cNvSpPr/>
              <p:nvPr/>
            </p:nvSpPr>
            <p:spPr>
              <a:xfrm>
                <a:off x="7608960" y="1282680"/>
                <a:ext cx="79200" cy="1969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Freeform 636"/>
              <p:cNvSpPr/>
              <p:nvPr/>
            </p:nvSpPr>
            <p:spPr>
              <a:xfrm>
                <a:off x="7711920" y="914400"/>
                <a:ext cx="78120" cy="19044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Freeform 637"/>
              <p:cNvSpPr/>
              <p:nvPr/>
            </p:nvSpPr>
            <p:spPr>
              <a:xfrm>
                <a:off x="7601040" y="914400"/>
                <a:ext cx="223920" cy="971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643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1046" name="Freeform 639"/>
              <p:cNvSpPr/>
              <p:nvPr/>
            </p:nvSpPr>
            <p:spPr>
              <a:xfrm>
                <a:off x="7812000" y="1533600"/>
                <a:ext cx="227160" cy="51732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Freeform 640"/>
              <p:cNvSpPr/>
              <p:nvPr/>
            </p:nvSpPr>
            <p:spPr>
              <a:xfrm>
                <a:off x="8004240" y="1139760"/>
                <a:ext cx="150840" cy="2872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Freeform 641"/>
              <p:cNvSpPr/>
              <p:nvPr/>
            </p:nvSpPr>
            <p:spPr>
              <a:xfrm>
                <a:off x="8050320" y="1427040"/>
                <a:ext cx="104760" cy="328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Freeform 642"/>
              <p:cNvSpPr/>
              <p:nvPr/>
            </p:nvSpPr>
            <p:spPr>
              <a:xfrm>
                <a:off x="7812000" y="1143000"/>
                <a:ext cx="306360" cy="907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649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1051" name="Freeform 644"/>
              <p:cNvSpPr/>
              <p:nvPr/>
            </p:nvSpPr>
            <p:spPr>
              <a:xfrm>
                <a:off x="7551720" y="1544760"/>
                <a:ext cx="52560" cy="19836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Freeform 645"/>
              <p:cNvSpPr/>
              <p:nvPr/>
            </p:nvSpPr>
            <p:spPr>
              <a:xfrm>
                <a:off x="7589880" y="1139760"/>
                <a:ext cx="49320" cy="193680"/>
              </a:xfrm>
              <a:prstGeom prst="pi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3" name="Group 648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1054" name="Freeform 646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prstGeom prst="pi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647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1056" name="Object 3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6BFEC2-DCB1-4063-ACEB-7277FF02EF9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0A0F21-65C7-46C1-9E31-DB2BC6D901B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A93A3ED-E6F8-4CC2-897E-CC413DAE084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CED6DC-EAAF-4A13-99C0-F51A708BDF7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Text Box 5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0169BE-0812-4478-9740-2CBAFCE42752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8" name="Line 4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1635480" y="1703880"/>
              <a:ext cx="4431240" cy="3381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1900080" y="1833840"/>
              <a:ext cx="3703680" cy="325116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6002640" y="4856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5564520" y="173376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7058880" y="54403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25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6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A959A8-345D-4F14-8CBF-86B7DCFBDB3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24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25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6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27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28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29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574316-223A-4587-AA35-635FE897BB4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29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25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26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27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28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9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Text Box 1037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1038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039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5:13Z</dcterms:created>
  <dc:creator/>
  <dc:description/>
  <cp:keywords/>
  <dc:language>en-US</dc:language>
  <cp:lastModifiedBy>Francisco Martinez</cp:lastModifiedBy>
  <dcterms:modified xsi:type="dcterms:W3CDTF">2010-08-27T14:09:53Z</dcterms:modified>
  <cp:revision>126</cp:revision>
  <dc:subject/>
  <dc:title>General</dc:title>
</cp:coreProperties>
</file>