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AA6-21CF-42FF-A02B-722F3DBA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9CD-2269-4EB3-8059-BE73E1E3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5DF-53DE-4B55-BF4F-E8682B55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22F-FB59-4F50-A43F-8AA473F4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4CA-ED42-4F72-A690-3D3A2573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CBAD-A6F1-4A8D-9832-26B08437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AEB-DCAE-4CE3-9F9C-B7E508F0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7A8-B59C-43C6-9923-956328BE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490-612D-45D7-A47D-02A5564D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DD50-5E92-4A90-A824-F30A456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58F-D19D-4756-87ED-A3F44D1C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629-9490-4EAC-B054-B2A5D735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20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D6C5-C520-45FC-B8D6-9BB7725D130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Group 38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Rectangle 7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10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Group 37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9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0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1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2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3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4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5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6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7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8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19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0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1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2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3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4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5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6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7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8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29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0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1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Rectangle 32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Rectangle 33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Rectangle 34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Rectangle 35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Rectangle 36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Schilling%20simulaci&#243;n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5B16A06-62FB-4A80-A026-3E376E9B475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63E/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fmartine@ing.uchile.c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: Alvaro Muñoz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C1221B-5106-4791-A80D-417AE99AC8D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1031"/>
          <p:cNvSpPr/>
          <p:nvPr/>
        </p:nvSpPr>
        <p:spPr>
          <a:xfrm>
            <a:off x="776160" y="1066680"/>
            <a:ext cx="41007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Qué se le puede pedir a estos modelitos urbanos?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0" dur="1" fill="hold"/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95E2F5D-8478-463C-A4F9-EC20C840F9B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1. AGENTES: muy variados y complet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3000" y="205740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USU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HOGARES Y FI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INDIVIDUOS - ACTIVIDADES - VIA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OPERADO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RCADO INMOBILI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ES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NORMATIVA, REGULACIONES E INCENTIVOS 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B470AB9-9387-470C-A693-7B74A8C4F65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6633"/>
                </a:solidFill>
                <a:latin typeface="Times New Roman"/>
              </a:rPr>
              <a:t>1.2. ENFOQUE</a:t>
            </a: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 : microeconómic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tienen preferencias individuales definidas por su ambient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ero, se pueden agrupar en categorías socioeconomicas homogeneas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h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as preferencias se definen sobre los atributos de los bienes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z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gentes son racionales: máx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A498C75-5654-440C-99AB-C96B8CA0142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3. ATRIBUTOS: múltiples y variad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Los atributos son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múlti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scrib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propiedad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v):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terreno, vivienda, vista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..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la localización (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) : 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barrio, accesibilidad</a:t>
            </a:r>
            <a:r>
              <a:rPr b="0" i="1" lang="es-C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s-CL" sz="2800" spc="-1" strike="noStrike">
                <a:solidFill>
                  <a:srgbClr val="00ff66"/>
                </a:solidFill>
                <a:latin typeface="Times New Roman"/>
              </a:rPr>
              <a:t>atrac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l sistema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Dependen de la localización: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xternalidade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economías de aglomeración, ambiente construido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96483E-96D1-454F-AB7B-1F7279B5422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4. EL MERCADO: especulativo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Bien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cuasi-únic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localización captura las ventajas de localización o externalidad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bien transado es la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étodo de transacción es el </a:t>
            </a:r>
            <a:r>
              <a:rPr b="0" i="1" lang="es-CL" sz="3200" spc="-1" strike="noStrike">
                <a:solidFill>
                  <a:srgbClr val="00ff66"/>
                </a:solidFill>
                <a:latin typeface="Times New Roman"/>
              </a:rPr>
              <a:t>re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Todos los agentes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compite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por una localización (exepto regulacio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alor de la propiedad o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ren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consistente con el mercado de rem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ceptar 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especulación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AC920E1-774D-4357-9C62-446AEE33733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0800" y="1519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6633"/>
                </a:solidFill>
                <a:latin typeface="Times New Roman"/>
              </a:rPr>
              <a:t>1.5. POLÍTICAS: integrabl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7791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lanos regulado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predio, máx. o mí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nsidad de constr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sos permitidos (resid., indust., comerci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ltura máxi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centivos: subsidios 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ensible a políticas de transpor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Regulación óptima en US&amp;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spectos administrativ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lases sema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Una auxiliar semanal con control de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Nota final 70% controles, 30% lect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AC3A62B-02FE-4A11-9830-13847A2A629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14CC6E-304F-4E0C-9804-A67549AC54C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33"/>
                </a:solidFill>
                <a:latin typeface="Times New Roman"/>
              </a:rPr>
              <a:t>Temas urbanos: li</a:t>
            </a:r>
            <a:r>
              <a:rPr b="0" lang="es-ES" sz="3200" spc="-1" strike="noStrike">
                <a:solidFill>
                  <a:srgbClr val="ff6633"/>
                </a:solidFill>
                <a:latin typeface="Times New Roman"/>
              </a:rPr>
              <a:t>star y ordenar, identificar desafíos para la economía urbana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57040" y="205092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8cf4ea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0A7FFB4-F15B-469F-8224-6975CA4528F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Los temas urbano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suelo urbano: uso y regul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límite urba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alor del sue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calización residencial, servicios, comercio, industria, educació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urbano - oferta inmobili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egregación/atr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Accesibilidad,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TROS: sociales, económicos, ambienta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DA23A0-B9FE-4002-BA1D-C2A939C02187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cf4ea"/>
                </a:solidFill>
                <a:latin typeface="Times New Roman"/>
              </a:rPr>
              <a:t>Complejidad: interaccione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0" name="AutoShape 6">
            <a:hlinkClick r:id="rId1"/>
          </p:cNvPr>
          <p:cNvSpPr/>
          <p:nvPr/>
        </p:nvSpPr>
        <p:spPr>
          <a:xfrm>
            <a:off x="2700360" y="2997360"/>
            <a:ext cx="3024000" cy="1511280"/>
          </a:xfrm>
          <a:custGeom>
            <a:avLst/>
            <a:gdLst>
              <a:gd name="textAreaLeft" fmla="*/ 97920 w 3024000"/>
              <a:gd name="textAreaRight" fmla="*/ 2926080 w 302400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5" h="21600">
                <a:moveTo>
                  <a:pt x="14601" y="3794"/>
                </a:moveTo>
                <a:lnTo>
                  <a:pt x="28614" y="10800"/>
                </a:lnTo>
                <a:lnTo>
                  <a:pt x="14601" y="17806"/>
                </a:lnTo>
                <a:close/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5BD97C7-F7B6-4754-B793-7F3916D3AC2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640" y="2276640"/>
            <a:ext cx="8305920" cy="15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amiento del probl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AB452D8-41F7-4616-AD9D-493ECDD5650F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Object 1024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027"/>
          <p:cNvSpPr/>
          <p:nvPr/>
        </p:nvSpPr>
        <p:spPr>
          <a:xfrm>
            <a:off x="838080" y="609480"/>
            <a:ext cx="41007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Hola...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o me llamo Tomás !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(el preguntón)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Que vamos a ver aquí?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C173194-34FB-4D35-A7DC-F187E3ED002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Introducción: 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8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1C8589-D34E-4685-8449-27A63991935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1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cp:keywords/>
  <dc:language>en-US</dc:language>
  <cp:lastModifiedBy>Francisco Martinez</cp:lastModifiedBy>
  <dcterms:modified xsi:type="dcterms:W3CDTF">2009-07-27T14:10:02Z</dcterms:modified>
  <cp:revision>78</cp:revision>
  <dc:subject/>
  <dc:title>General</dc:title>
</cp:coreProperties>
</file>