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0C4-F1A8-4014-A640-93DFC252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223-F920-4F17-A8A5-12BC1AAC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D5E-E3FF-4993-ACF3-EFA453CE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FCF-BB49-46F9-8BE6-F2887CC0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266-B4F6-45E2-BCE3-850D0CEB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6FB-AFC9-4E85-B39D-983F3EE9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E55-7403-400D-BFDE-A3CFF4B1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550-67BB-4EEB-AD64-7527B22B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A42-E2F7-4711-A9EC-84F92FF5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D86-4144-475C-A607-F5325601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BB2-5055-4429-A576-F9148BE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780-315E-435C-8EA3-FC6B882E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305F-6D6A-4B71-9DE9-2C0C7CC603F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Schilling%20simulaci&#243;n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AEB4E9-B95F-43CE-B063-8CC86A4BD3D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63E/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fmartine@ing.uchile.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: Alvaro Muño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5D9FE2-F390-4C18-AC15-5D712427555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1031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" dur="1" fill="hold"/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88A22B-B0E2-40A8-9766-8E17CF7FF43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305457-8B46-4554-A060-50948310DCE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4758BC-DA8E-4635-BEAA-92D4B80E7D2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75743B-A9F3-4DD8-A4D8-A60EDA96A80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BE745B-CD54-432A-919C-25F4C4632F7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spectos administrativ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lases sema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Una auxiliar semanal con control de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a final 70% controles, 30%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17225A-6362-4691-BFEC-5EED7037C05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471488-5C3B-4554-81A2-857A793BBD4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33"/>
                </a:solidFill>
                <a:latin typeface="Times New Roman"/>
              </a:rPr>
              <a:t>Temas urbanos: li</a:t>
            </a:r>
            <a:r>
              <a:rPr b="0" lang="es-ES" sz="3200" spc="-1" strike="noStrike">
                <a:solidFill>
                  <a:srgbClr val="ff6633"/>
                </a:solidFill>
                <a:latin typeface="Times New Roman"/>
              </a:rPr>
              <a:t>star y ordenar, identificar desafíos para la economía urba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20509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949A3F-D125-4D3E-8E21-11B9F657157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Los temas urban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suelo urbano: uso y 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urb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alor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calización residencial, servicios, comercio, industria, educació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urbano - oferta inmobili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gregación/atr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cesibilidad,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TROS: sociales, económicos, ambient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9F75C9-B120-4CEF-9EDB-5C7D97FB816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Complejidad: interacc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AutoShape 6">
            <a:hlinkClick r:id="rId1"/>
          </p:cNvPr>
          <p:cNvSpPr/>
          <p:nvPr/>
        </p:nvSpPr>
        <p:spPr>
          <a:xfrm>
            <a:off x="2700360" y="2997360"/>
            <a:ext cx="3024000" cy="1511280"/>
          </a:xfrm>
          <a:custGeom>
            <a:avLst/>
            <a:gdLst>
              <a:gd name="textAreaLeft" fmla="*/ 97920 w 3024000"/>
              <a:gd name="textAreaRight" fmla="*/ 2926080 w 302400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5" h="21600">
                <a:moveTo>
                  <a:pt x="14601" y="3794"/>
                </a:moveTo>
                <a:lnTo>
                  <a:pt x="28614" y="10800"/>
                </a:lnTo>
                <a:lnTo>
                  <a:pt x="14601" y="1780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F1C7E8-B47E-4F30-9461-5A78AADEEB1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640" y="2276640"/>
            <a:ext cx="8305920" cy="15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amiento del probl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593B37-E1AB-4B84-BAC2-97AE2459482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027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E04003-8DE5-4F69-98BA-D97CA5EAFD4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8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7D0468-1B9E-4EA8-B632-8D623A0B74A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cp:keywords/>
  <dc:language>en-US</dc:language>
  <cp:lastModifiedBy>Francisco Martinez</cp:lastModifiedBy>
  <dcterms:modified xsi:type="dcterms:W3CDTF">2009-07-27T14:10:02Z</dcterms:modified>
  <cp:revision>78</cp:revision>
  <dc:subject/>
  <dc:title>General</dc:title>
</cp:coreProperties>
</file>