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181-BFE4-4F67-9925-A849DE12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B0D-7460-4118-89F6-0AF852E9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4474-9CF3-4049-BE05-464CE2AE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14C8-7B9A-4F80-B003-44FA819D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396-9B6F-43E3-9031-4D5C914A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5EFE-659F-4616-A476-F38D0476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022-9D0C-4CE9-BB1A-033E8C2A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E7E9-302B-4545-85A4-F9FC39FE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879-F11C-4B02-BD7F-BB6C7866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889-30BF-439A-AFFD-DE72B18C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A21-9495-46F1-843D-283315D4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5DD-4F75-411E-BCF1-5D256648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828C-51D9-4F8A-A5BF-34D9F1466D5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Group 38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Rectangle 7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10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Group 37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4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5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6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Schilling%20simulaci&#243;n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841F94-B28F-4FCB-9482-0016EFD3D13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63E/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fmartine@ing.uchile.c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: Alvaro Muñoz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00616AD-B814-4F7C-BE5E-FBAE617E525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Object 1024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1031"/>
          <p:cNvSpPr/>
          <p:nvPr/>
        </p:nvSpPr>
        <p:spPr>
          <a:xfrm>
            <a:off x="776160" y="1066680"/>
            <a:ext cx="41007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Qué se le puede pedir a estos modelitos urbanos?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0" dur="1" fill="hold"/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EBC0BB-B555-4151-8CF6-FD7C0941CA9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1. AGENTES: muy variados y complet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33000" y="20574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HOGARES Y FI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INDIVIDUOS - ACTIVIDADES - VIA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OPERADO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RCADO INMOBILI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NORMATIVA, REGULACIONES E INCENTIVOS 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1A217BB-FE52-45BA-9D4E-200AA80AB70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2. ENFOQUE</a:t>
            </a: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 : microeconómic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tienen preferencias individuales definidas por su ambi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ero, se pueden agrupar en categorías socioeconomicas homogeneas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h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s preferencias se definen sobre los atributos de los bienes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gentes son racionales: má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050A697-5FD1-4C6E-9D00-1D975E1A6EE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3. ATRIBUTOS: múltiples y variad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tributos son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múltip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scri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propiedad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v):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terreno, vivienda, vist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.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localización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 : 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barrio, accesibilida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atrac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l sistema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 la localización: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xternalidade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economías de aglomeración, ambiente construido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6D2142-794C-4C67-B093-FC64438C7B5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4. EL MERCADO: especulativ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Bien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cuasi-únic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localización captura las ventajas de localización o externali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bien transado es la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étodo de transacción es el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re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compite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una localización (exepto regulacio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alor de la propiedad o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ren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consistente con el mercado de re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ceptar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speculació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62885F-D321-4F24-9C41-4E1AFFCB0CF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5. POLÍTICAS: integrabl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lanos regula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predio, máx. o mí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nsidad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sos permitidos (resid., indust., comerc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ltura máx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centivos: subsidios e 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ensible a políticas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gulación óptima en US&amp;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spectos administrativo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lases sema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Una auxiliar semanal con control de lec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ta final 70% controles, 30% lec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809FA8D-DAF7-424E-B7D5-D427468A601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804796-0AE6-40D0-B3D7-E938D27161F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33"/>
                </a:solidFill>
                <a:latin typeface="Times New Roman"/>
              </a:rPr>
              <a:t>Temas urbanos: li</a:t>
            </a:r>
            <a:r>
              <a:rPr b="0" lang="es-ES" sz="3200" spc="-1" strike="noStrike">
                <a:solidFill>
                  <a:srgbClr val="ff6633"/>
                </a:solidFill>
                <a:latin typeface="Times New Roman"/>
              </a:rPr>
              <a:t>star y ordenar, identificar desafíos para la economía urba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7040" y="20509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22A272-92AC-456F-AF7A-E8FE2C6A628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cf4ea"/>
                </a:solidFill>
                <a:latin typeface="Times New Roman"/>
              </a:rPr>
              <a:t>Los temas urbano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suelo urbano: uso y regul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límite urb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Valor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calización residencial, servicios, comercio, industria, educació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sarrollo urbano - oferta inmobili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gregación/atr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ccesibilidad,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TROS: sociales, económicos, ambienta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A1FC68A-80F7-4F8A-B0BF-853DA3E69C6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cf4ea"/>
                </a:solidFill>
                <a:latin typeface="Times New Roman"/>
              </a:rPr>
              <a:t>Complejidad: interacc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0" name="AutoShape 6">
            <a:hlinkClick r:id="rId1"/>
          </p:cNvPr>
          <p:cNvSpPr/>
          <p:nvPr/>
        </p:nvSpPr>
        <p:spPr>
          <a:xfrm>
            <a:off x="2700360" y="2997360"/>
            <a:ext cx="3024000" cy="1511280"/>
          </a:xfrm>
          <a:custGeom>
            <a:avLst/>
            <a:gdLst>
              <a:gd name="textAreaLeft" fmla="*/ 97920 w 3024000"/>
              <a:gd name="textAreaRight" fmla="*/ 2926080 w 302400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43215" h="21600">
                <a:moveTo>
                  <a:pt x="0" y="0"/>
                </a:moveTo>
                <a:lnTo>
                  <a:pt x="43215" y="0"/>
                </a:lnTo>
                <a:lnTo>
                  <a:pt x="43215" y="21600"/>
                </a:lnTo>
                <a:lnTo>
                  <a:pt x="0" y="21600"/>
                </a:lnTo>
                <a:close/>
              </a:path>
              <a:path fill="lightenLess" w="43215" h="21600">
                <a:moveTo>
                  <a:pt x="0" y="0"/>
                </a:moveTo>
                <a:lnTo>
                  <a:pt x="43215" y="0"/>
                </a:lnTo>
                <a:lnTo>
                  <a:pt x="41815" y="1400"/>
                </a:lnTo>
                <a:lnTo>
                  <a:pt x="1400" y="1400"/>
                </a:lnTo>
                <a:close/>
              </a:path>
              <a:path fill="darken" w="43215" h="21600">
                <a:moveTo>
                  <a:pt x="43215" y="0"/>
                </a:moveTo>
                <a:lnTo>
                  <a:pt x="43215" y="21600"/>
                </a:lnTo>
                <a:lnTo>
                  <a:pt x="41815" y="20200"/>
                </a:lnTo>
                <a:lnTo>
                  <a:pt x="41815" y="1400"/>
                </a:lnTo>
                <a:close/>
              </a:path>
              <a:path fill="darkenLess" w="43215" h="21600">
                <a:moveTo>
                  <a:pt x="432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5" y="20200"/>
                </a:lnTo>
                <a:close/>
              </a:path>
              <a:path fill="lighten" w="432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5" h="21600">
                <a:moveTo>
                  <a:pt x="14601" y="3794"/>
                </a:moveTo>
                <a:lnTo>
                  <a:pt x="28614" y="10800"/>
                </a:lnTo>
                <a:lnTo>
                  <a:pt x="14601" y="17806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4E818F3-D584-4C02-9EC3-3B7D36CAAA1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9640" y="2276640"/>
            <a:ext cx="8305920" cy="15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amiento del problem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B174F9-BA99-438D-8FD4-305302EE734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Object 1024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027"/>
          <p:cNvSpPr/>
          <p:nvPr/>
        </p:nvSpPr>
        <p:spPr>
          <a:xfrm>
            <a:off x="838080" y="609480"/>
            <a:ext cx="41007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Hola...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o me llamo Tomás !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(el preguntón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Que vamos a ver aquí?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" dur="1" fill="hold"/>
                                  <p:tgtEl>
                                    <p:spTgt spid="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7C8F20-9723-46A8-90A6-809D8DF5647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Introducción: 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8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A5BDE6-FB8B-4C3A-BDF7-97B123938E3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1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cp:keywords/>
  <dc:language>en-US</dc:language>
  <cp:lastModifiedBy>Francisco Martinez</cp:lastModifiedBy>
  <dcterms:modified xsi:type="dcterms:W3CDTF">2009-07-27T14:10:02Z</dcterms:modified>
  <cp:revision>78</cp:revision>
  <dc:subject/>
  <dc:title>General</dc:title>
</cp:coreProperties>
</file>