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A7B3-5E2D-4580-9BB5-D027E341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A920-7C55-467F-87A9-74C6BAA8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88A-AD7D-4DD8-A9FB-9AB44A41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D667-9EF8-434B-A057-312E3AAC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5CDC-B638-4D66-80C2-0C906B41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FEAA-DC2B-4149-8A6A-C044C1D6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F8BD-1E7A-454D-9BAE-F798A5D2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1BEF-96BB-4FD3-885D-1D7412DA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EA6B-1D71-4218-A654-8C4C2DEB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7C7-7D8B-4F55-A199-825D780E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BED-669A-4FD6-8246-95F41CA5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CFA0-6AA4-4EC5-9FC3-595E81DA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AE29-7DFA-42D5-A746-0401B37D406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Group 38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Rectangle 7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10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Group 37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4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5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6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A663C76-8352-44A8-B901-3821D049D6A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990720" y="45720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6AA41BF-38BE-4812-8129-5E96DDC1E82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024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025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026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027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13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734561-594D-46C3-9041-BCDB7500C5F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440" y="2514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048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1B3A990-CF08-4673-BEE1-77A7DEC5917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24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25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026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10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27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8E6474-21B7-4812-A74B-AE878B0F0D2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495288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-k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Consumo máximo de bienes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=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sición a pagar decrece con la distanci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umo de terreno 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p(t) decre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 decrece consumo de bienes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4" name="Straight Arrow Connector 25"/>
          <p:cNvCxnSpPr/>
          <p:nvPr/>
        </p:nvCxnSpPr>
        <p:spPr>
          <a:xfrm flipV="1">
            <a:off x="1141560" y="1296360"/>
            <a:ext cx="3600" cy="289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55" name="Straight Arrow Connector 27"/>
          <p:cNvCxnSpPr/>
          <p:nvPr/>
        </p:nvCxnSpPr>
        <p:spPr>
          <a:xfrm>
            <a:off x="1142640" y="4191120"/>
            <a:ext cx="5182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6" name="Freeform 32"/>
          <p:cNvSpPr/>
          <p:nvPr/>
        </p:nvSpPr>
        <p:spPr>
          <a:xfrm>
            <a:off x="1477800" y="1593720"/>
            <a:ext cx="3551400" cy="22924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traight Connector 34"/>
          <p:cNvSpPr/>
          <p:nvPr/>
        </p:nvSpPr>
        <p:spPr>
          <a:xfrm>
            <a:off x="1142280" y="1981080"/>
            <a:ext cx="1676520" cy="221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Straight Connector 36"/>
          <p:cNvSpPr/>
          <p:nvPr/>
        </p:nvSpPr>
        <p:spPr>
          <a:xfrm>
            <a:off x="1143000" y="2666880"/>
            <a:ext cx="2819520" cy="152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Box 37"/>
          <p:cNvSpPr/>
          <p:nvPr/>
        </p:nvSpPr>
        <p:spPr>
          <a:xfrm>
            <a:off x="633924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Box 38"/>
          <p:cNvSpPr/>
          <p:nvPr/>
        </p:nvSpPr>
        <p:spPr>
          <a:xfrm>
            <a:off x="32760" y="1752480"/>
            <a:ext cx="114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traight Connector 41"/>
          <p:cNvSpPr/>
          <p:nvPr/>
        </p:nvSpPr>
        <p:spPr>
          <a:xfrm flipH="1">
            <a:off x="1750680" y="2820960"/>
            <a:ext cx="3240" cy="1371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Straight Connector 42"/>
          <p:cNvSpPr/>
          <p:nvPr/>
        </p:nvSpPr>
        <p:spPr>
          <a:xfrm flipH="1">
            <a:off x="2360160" y="3354480"/>
            <a:ext cx="3240" cy="8380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Box 45"/>
          <p:cNvSpPr/>
          <p:nvPr/>
        </p:nvSpPr>
        <p:spPr>
          <a:xfrm>
            <a:off x="2217960" y="4095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48"/>
          <p:cNvSpPr/>
          <p:nvPr/>
        </p:nvSpPr>
        <p:spPr>
          <a:xfrm>
            <a:off x="1608480" y="4114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Box 55"/>
          <p:cNvSpPr/>
          <p:nvPr/>
        </p:nvSpPr>
        <p:spPr>
          <a:xfrm>
            <a:off x="3892680" y="1828800"/>
            <a:ext cx="2046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&gt;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x + 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(t) q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Box 57"/>
          <p:cNvSpPr/>
          <p:nvPr/>
        </p:nvSpPr>
        <p:spPr>
          <a:xfrm>
            <a:off x="5219280" y="37339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Box 58"/>
          <p:cNvSpPr/>
          <p:nvPr/>
        </p:nvSpPr>
        <p:spPr>
          <a:xfrm>
            <a:off x="2548800" y="3657600"/>
            <a:ext cx="520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Box 59"/>
          <p:cNvSpPr/>
          <p:nvPr/>
        </p:nvSpPr>
        <p:spPr>
          <a:xfrm>
            <a:off x="3614040" y="3809880"/>
            <a:ext cx="564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Box 60"/>
          <p:cNvSpPr/>
          <p:nvPr/>
        </p:nvSpPr>
        <p:spPr>
          <a:xfrm>
            <a:off x="48600" y="2514600"/>
            <a:ext cx="114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6A543C9-142C-40FB-88E4-1D92DC87D8A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5028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disposición a pagar decrece con la utilidad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&gt;p’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consumo de terreno crece con la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Straight Arrow Connector 25"/>
          <p:cNvCxnSpPr/>
          <p:nvPr/>
        </p:nvCxnSpPr>
        <p:spPr>
          <a:xfrm flipV="1">
            <a:off x="1141560" y="1296360"/>
            <a:ext cx="3600" cy="289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4" name="Straight Arrow Connector 27"/>
          <p:cNvCxnSpPr/>
          <p:nvPr/>
        </p:nvCxnSpPr>
        <p:spPr>
          <a:xfrm>
            <a:off x="1142640" y="4191120"/>
            <a:ext cx="5182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5" name="Freeform 32"/>
          <p:cNvSpPr/>
          <p:nvPr/>
        </p:nvSpPr>
        <p:spPr>
          <a:xfrm>
            <a:off x="1477800" y="1593720"/>
            <a:ext cx="3551400" cy="22924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traight Connector 34"/>
          <p:cNvSpPr/>
          <p:nvPr/>
        </p:nvSpPr>
        <p:spPr>
          <a:xfrm>
            <a:off x="1142280" y="1981080"/>
            <a:ext cx="1676520" cy="221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Box 37"/>
          <p:cNvSpPr/>
          <p:nvPr/>
        </p:nvSpPr>
        <p:spPr>
          <a:xfrm>
            <a:off x="633924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Box 38"/>
          <p:cNvSpPr/>
          <p:nvPr/>
        </p:nvSpPr>
        <p:spPr>
          <a:xfrm>
            <a:off x="546840" y="1752480"/>
            <a:ext cx="60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traight Connector 41"/>
          <p:cNvSpPr/>
          <p:nvPr/>
        </p:nvSpPr>
        <p:spPr>
          <a:xfrm flipH="1">
            <a:off x="1750680" y="2820960"/>
            <a:ext cx="3240" cy="1371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Straight Connector 42"/>
          <p:cNvSpPr/>
          <p:nvPr/>
        </p:nvSpPr>
        <p:spPr>
          <a:xfrm flipH="1">
            <a:off x="2284560" y="2973240"/>
            <a:ext cx="2880" cy="12193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Box 45"/>
          <p:cNvSpPr/>
          <p:nvPr/>
        </p:nvSpPr>
        <p:spPr>
          <a:xfrm>
            <a:off x="2175480" y="40957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q’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Box 48"/>
          <p:cNvSpPr/>
          <p:nvPr/>
        </p:nvSpPr>
        <p:spPr>
          <a:xfrm>
            <a:off x="1608480" y="4114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49"/>
          <p:cNvSpPr/>
          <p:nvPr/>
        </p:nvSpPr>
        <p:spPr>
          <a:xfrm>
            <a:off x="1706400" y="1441440"/>
            <a:ext cx="3551400" cy="2292480"/>
          </a:xfrm>
          <a:prstGeom prst="pie">
            <a:avLst/>
          </a:pr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Straight Connector 51"/>
          <p:cNvSpPr/>
          <p:nvPr/>
        </p:nvSpPr>
        <p:spPr>
          <a:xfrm>
            <a:off x="1193760" y="1936800"/>
            <a:ext cx="2387520" cy="22543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Box 55"/>
          <p:cNvSpPr/>
          <p:nvPr/>
        </p:nvSpPr>
        <p:spPr>
          <a:xfrm>
            <a:off x="3969720" y="1828800"/>
            <a:ext cx="189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x + p(t)q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Box 56"/>
          <p:cNvSpPr/>
          <p:nvPr/>
        </p:nvSpPr>
        <p:spPr>
          <a:xfrm>
            <a:off x="5249520" y="35053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Box 57"/>
          <p:cNvSpPr/>
          <p:nvPr/>
        </p:nvSpPr>
        <p:spPr>
          <a:xfrm>
            <a:off x="5143320" y="37339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Box 21"/>
          <p:cNvSpPr/>
          <p:nvPr/>
        </p:nvSpPr>
        <p:spPr>
          <a:xfrm>
            <a:off x="2563200" y="3657600"/>
            <a:ext cx="49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3240000" y="3730680"/>
            <a:ext cx="551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p’(t</a:t>
            </a:r>
            <a:r>
              <a:rPr b="1" i="1" lang="en-US" sz="1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23B292C-DF43-4E3B-B9C9-BDC93A64273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cep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1064"/>
          <p:cNvGrpSpPr/>
          <p:nvPr/>
        </p:nvGrpSpPr>
        <p:grpSpPr>
          <a:xfrm>
            <a:off x="375480" y="685800"/>
            <a:ext cx="6646680" cy="4114800"/>
            <a:chOff x="375480" y="685800"/>
            <a:chExt cx="6646680" cy="4114800"/>
          </a:xfrm>
        </p:grpSpPr>
        <p:sp>
          <p:nvSpPr>
            <p:cNvPr id="194" name="Rectangle 1032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5" name="Group 1063"/>
            <p:cNvGrpSpPr/>
            <p:nvPr/>
          </p:nvGrpSpPr>
          <p:grpSpPr>
            <a:xfrm>
              <a:off x="735120" y="944280"/>
              <a:ext cx="6287040" cy="3856320"/>
              <a:chOff x="735120" y="944280"/>
              <a:chExt cx="6287040" cy="3856320"/>
            </a:xfrm>
          </p:grpSpPr>
          <p:sp>
            <p:nvSpPr>
              <p:cNvPr id="196" name="Line 1029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Line 1030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Rectangle 1031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Arc 1033"/>
              <p:cNvSpPr/>
              <p:nvPr/>
            </p:nvSpPr>
            <p:spPr>
              <a:xfrm rot="60000">
                <a:off x="828360" y="18021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Rectangle 1043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Rectangle 1046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Rectangle 1053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Arc 1057"/>
              <p:cNvSpPr/>
              <p:nvPr/>
            </p:nvSpPr>
            <p:spPr>
              <a:xfrm rot="60000">
                <a:off x="942840" y="13323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Arc 1058"/>
              <p:cNvSpPr/>
              <p:nvPr/>
            </p:nvSpPr>
            <p:spPr>
              <a:xfrm rot="60000">
                <a:off x="1106640" y="9903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Text Box 1059"/>
              <p:cNvSpPr/>
              <p:nvPr/>
            </p:nvSpPr>
            <p:spPr>
              <a:xfrm>
                <a:off x="644508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Text Box 1060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Text Box 1061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Text Box 1065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066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DDFFE95-AC70-4BB4-946F-713B88CD591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048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Text Box 26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rc 13"/>
          <p:cNvSpPr/>
          <p:nvPr/>
        </p:nvSpPr>
        <p:spPr>
          <a:xfrm rot="60000">
            <a:off x="952200" y="3009600"/>
            <a:ext cx="5329080" cy="240804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21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049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Line 32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34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5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rc 37"/>
          <p:cNvSpPr/>
          <p:nvPr/>
        </p:nvSpPr>
        <p:spPr>
          <a:xfrm rot="60000">
            <a:off x="1104840" y="2742840"/>
            <a:ext cx="532944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Arc 38"/>
          <p:cNvSpPr/>
          <p:nvPr/>
        </p:nvSpPr>
        <p:spPr>
          <a:xfrm rot="60000">
            <a:off x="838080" y="3352320"/>
            <a:ext cx="532944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reeform 36"/>
          <p:cNvSpPr/>
          <p:nvPr/>
        </p:nvSpPr>
        <p:spPr>
          <a:xfrm>
            <a:off x="1447920" y="2895480"/>
            <a:ext cx="4267080" cy="213372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39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40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900F457-1366-45E6-92F8-0CB783E9DC3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0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0" name="Text Box 9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718AEE-7154-432D-A0F5-98317BE4ABC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0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Text Box 10"/>
          <p:cNvSpPr/>
          <p:nvPr/>
        </p:nvSpPr>
        <p:spPr>
          <a:xfrm>
            <a:off x="1107360" y="4129560"/>
            <a:ext cx="725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: Cambio costo operación por cambio en volumen de negoci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EB0C067-5769-421A-9101-96BAB194750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024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025"/>
              <p:cNvSpPr txBox="1"/>
              <p:nvPr/>
            </p:nvSpPr>
            <p:spPr>
              <a:xfrm>
                <a:off x="3011400" y="2646360"/>
                <a:ext cx="38750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" name="Rectangle 6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2227384-CBF5-4928-8AF6-513B2DFEA3A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F588E4-4338-4321-959A-0D94D3A0363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Arc 9"/>
          <p:cNvSpPr/>
          <p:nvPr/>
        </p:nvSpPr>
        <p:spPr>
          <a:xfrm rot="60000">
            <a:off x="828360" y="2641320"/>
            <a:ext cx="5330880" cy="24066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rc 13"/>
          <p:cNvSpPr/>
          <p:nvPr/>
        </p:nvSpPr>
        <p:spPr>
          <a:xfrm rot="60000">
            <a:off x="942480" y="2171520"/>
            <a:ext cx="5330880" cy="240804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Arc 14"/>
          <p:cNvSpPr/>
          <p:nvPr/>
        </p:nvSpPr>
        <p:spPr>
          <a:xfrm rot="60000">
            <a:off x="1106640" y="1828440"/>
            <a:ext cx="533052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278064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27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28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Freeform 33"/>
          <p:cNvSpPr/>
          <p:nvPr/>
        </p:nvSpPr>
        <p:spPr>
          <a:xfrm>
            <a:off x="1727280" y="1816200"/>
            <a:ext cx="4673520" cy="267948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34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8DC2B82-8AD3-4470-AAF5-FAF7679295A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18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40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41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54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55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56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57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4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58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60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61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3D6DF4F-BDDB-4920-8084-AA65A7B1E32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1026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1027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3" name="Rectangle 1029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1030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1031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1032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1033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034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035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1036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1037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1038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Line 1039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1040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1041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042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Line 1043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1044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1045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1046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047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1048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049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50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051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1052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1053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054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1055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056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057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3D444D1-2402-437A-9533-BCCCCEBC37E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3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14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17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19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20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21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23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Line 24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A6E7BB-C403-47C2-A24F-885D978AECF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Arc 7"/>
          <p:cNvSpPr/>
          <p:nvPr/>
        </p:nvSpPr>
        <p:spPr>
          <a:xfrm rot="60000">
            <a:off x="1550880" y="1911240"/>
            <a:ext cx="5845320" cy="273528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Arc 8"/>
          <p:cNvSpPr/>
          <p:nvPr/>
        </p:nvSpPr>
        <p:spPr>
          <a:xfrm rot="300000">
            <a:off x="3017520" y="1706400"/>
            <a:ext cx="2108160" cy="324972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Arc 9"/>
          <p:cNvSpPr/>
          <p:nvPr/>
        </p:nvSpPr>
        <p:spPr>
          <a:xfrm rot="120000">
            <a:off x="1468440" y="3655800"/>
            <a:ext cx="6006960" cy="7380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17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18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0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21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Arc 22"/>
          <p:cNvSpPr/>
          <p:nvPr/>
        </p:nvSpPr>
        <p:spPr>
          <a:xfrm rot="192000">
            <a:off x="2437920" y="1676520"/>
            <a:ext cx="2741760" cy="202860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Arc 23"/>
          <p:cNvSpPr/>
          <p:nvPr/>
        </p:nvSpPr>
        <p:spPr>
          <a:xfrm rot="60000">
            <a:off x="2970000" y="1926720"/>
            <a:ext cx="4422600" cy="252900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rc 24"/>
          <p:cNvSpPr/>
          <p:nvPr/>
        </p:nvSpPr>
        <p:spPr>
          <a:xfrm rot="120000">
            <a:off x="5124600" y="3733920"/>
            <a:ext cx="2328840" cy="81756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25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27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28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Line 29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31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Arc 32"/>
          <p:cNvSpPr/>
          <p:nvPr/>
        </p:nvSpPr>
        <p:spPr>
          <a:xfrm rot="60000">
            <a:off x="1371600" y="2063880"/>
            <a:ext cx="5845320" cy="2735280"/>
          </a:xfrm>
          <a:prstGeom prst="pie">
            <a:avLst/>
          </a:prstGeom>
          <a:noFill/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Arc 33"/>
          <p:cNvSpPr/>
          <p:nvPr/>
        </p:nvSpPr>
        <p:spPr>
          <a:xfrm rot="60000">
            <a:off x="1851120" y="1828800"/>
            <a:ext cx="5844960" cy="2735280"/>
          </a:xfrm>
          <a:prstGeom prst="pie">
            <a:avLst/>
          </a:prstGeom>
          <a:noFill/>
          <a:ln w="324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FBE6DD5-CEB2-4739-AA3C-B396BC00EA5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m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1024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57C168-97E6-4DF8-8D33-9A35075F052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8001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opiedad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ta del suelo y propiedades decrece con dista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yor distancia mayor consumo de terreno por hogar y menor dens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3535-B2F0-47CB-833D-53C3DEE2B3D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83C2F40-3278-4C9A-BCD9-BEB86C8B922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4" name="Object 0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1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2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0" name="Group 628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411" name="Line 5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Line 7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Line 8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Line 9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Line 10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Line 11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Line 12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Line 13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Line 14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Line 15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Line 16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Line 17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Line 18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Line 19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Line 20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Line 21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Line 22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Line 23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Line 24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Line 25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Line 26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27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Line 28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29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Line 30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Line 31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Line 32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33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Line 34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Line 35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Line 36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37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Line 38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Line 39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Line 40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Line 41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Line 42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Line 43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Line 44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Line 45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Line 46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47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Line 48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49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50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Line 51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52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53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54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Line 55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Line 56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Line 57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58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Line 59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Line 60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Line 61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Line 62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Line 63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64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65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Line 66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Line 67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Line 68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Line 69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Line 70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Line 71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Line 72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Line 73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Line 74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75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76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Line 77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Line 78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Line 79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Line 80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Line 81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82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83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Line 84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Line 85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Line 86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Line 87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Line 88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89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90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91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Line 92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Line 93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Line 94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Line 95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Line 96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Line 97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Line 98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Line 99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Line 100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Line 101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Line 102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Line 103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Line 104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Line 105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Line 106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Line 107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Line 108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Line 109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Line 110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Line 111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Line 112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Line 113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Line 114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Line 115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Line 116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Line 117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Line 118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Line 119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Line 120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Line 121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Line 122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Line 123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Line 124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Line 125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Line 126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Line 127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Line 128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Line 129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Line 130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Line 131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Line 132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Line 133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Line 134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Line 135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Line 136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Line 137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Line 138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Line 139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Line 140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Line 141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Line 142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Line 143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Line 144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Line 145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Line 146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Line 147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Line 148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Line 149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Line 150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Line 151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Line 152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Line 153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Line 154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Line 155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Line 156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Line 157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158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Line 159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Line 160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Line 161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Line 162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Line 163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Line 164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Line 165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Line 166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Line 167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Line 168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Line 169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Line 170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Line 171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Line 172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Line 173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Line 174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Line 175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Line 176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Line 177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Line 178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Line 179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Line 180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Line 181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Line 182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Line 183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Line 184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Line 185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Line 186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Line 187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Line 188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Line 189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Line 190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Line 191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Line 192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Line 193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Line 194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Line 195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Line 196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Line 197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Line 198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Line 199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Line 200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Line 201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Line 202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Line 203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Line 204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Line 205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Line 206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Line 207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Line 208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Line 209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Line 210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Line 211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Line 212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Line 213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Line 214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Line 215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Line 216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Line 217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Line 218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Line 219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Line 220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Line 221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Line 222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Line 223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Line 224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Line 225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Line 226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Line 227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Line 228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Line 229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Line 230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Line 231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Line 232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Line 233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Line 234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Line 235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Line 236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Line 237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Line 238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Line 239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Line 240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241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Line 242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Line 243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Line 244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Line 245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Line 246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Line 247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Line 248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Line 249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Line 250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Line 251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Line 252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Line 253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Line 254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Line 255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Line 256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Line 257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258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Line 259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Line 260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Line 261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Line 262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Line 263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Line 264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Line 265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Line 266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Line 267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Line 268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Line 269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Line 270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Line 271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Line 272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Line 273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Line 274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Line 275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Line 276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Line 277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Line 278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Line 279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Line 280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Line 281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Line 282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Line 283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Line 284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Line 285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Line 286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Line 287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Line 288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Line 289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Line 290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Line 291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Line 292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Line 293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Line 294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Line 295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Line 296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Line 297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Line 298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Line 299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Line 300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Line 301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Line 302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Line 303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Line 304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Line 305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Line 306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Line 307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Line 308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Line 309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Line 310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Line 311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Line 312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Line 313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Line 314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Line 315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Line 316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Line 317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Line 318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Line 319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320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Line 321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Line 322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Line 323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Line 324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Line 325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Line 326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Line 327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Line 328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Line 329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Line 330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Line 331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Line 332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Line 333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Line 334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Line 335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Line 336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Line 337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Line 338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Line 339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Line 340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Line 341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Line 342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Line 343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Line 344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Line 345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Line 346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Line 347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Line 348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Line 349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Line 350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Line 351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Line 352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Line 353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Line 354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Line 355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Line 356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Line 357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Line 358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Line 359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Line 360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Line 361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Line 362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Line 363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Line 364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Line 365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Line 366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Line 367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Line 368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Line 369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Line 370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Line 371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Line 372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Line 373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Line 374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Line 375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Line 376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Line 377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Line 378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Line 379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Line 380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Line 381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Line 382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Line 383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Line 384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Line 385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Line 386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Line 387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Line 388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Line 389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Line 390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Line 391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Line 392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Line 393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Line 394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Line 395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Line 396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Line 397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Line 398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Line 399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Line 400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Line 401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Line 402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Line 403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Line 404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Line 405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Line 406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Line 407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Line 408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Line 409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Line 410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Line 411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Line 412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Line 413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Line 414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Line 415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Line 416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Line 417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Line 418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Line 419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Line 420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Line 421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Line 422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Line 423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Line 424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Line 425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Line 426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Line 427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Line 428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Line 429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Line 430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Line 431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Line 432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Line 433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Line 434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Line 435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Line 436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Line 437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Line 438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Line 439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Line 440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Line 441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Line 442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Line 443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Line 444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Line 445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Line 446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Line 447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Line 448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Line 449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Line 450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Line 451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Line 452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Line 453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Line 454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Line 455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Line 456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Line 457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Line 458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Line 459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Line 460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Line 461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Line 462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Line 463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Line 464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Line 465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Line 466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Line 467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468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Line 469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470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Line 471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472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Line 473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474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Line 475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476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Line 477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Line 478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Line 479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480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Line 481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Line 482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Line 483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484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Line 485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486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Line 487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Line 488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Line 489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Line 490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Line 491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492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Line 493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494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Line 495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496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Line 497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498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Line 499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500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Line 501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Line 502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Line 503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504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Line 505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506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Line 507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508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Line 509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510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Line 511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512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Line 513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Line 514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Line 515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16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Line 517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Line 518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Line 519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520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Line 521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522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Line 523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Line 524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Line 525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Line 526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Line 527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Line 528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Line 529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Line 530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Line 531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Line 532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Line 533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Line 534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Line 535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Line 536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Line 537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Line 538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Line 539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Line 540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Line 541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Line 542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Line 543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Line 544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Line 545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Line 546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Line 547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Line 548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Line 549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Line 550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Line 551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Line 552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Line 553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Line 554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Line 555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Line 556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Line 557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Line 558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Line 559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Line 560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Line 561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Line 562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Line 563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Line 564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Line 565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Line 566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Line 567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Line 568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Line 569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Line 570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Line 571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Line 572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Line 573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Line 574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Line 575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Line 576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Line 577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Line 578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Line 579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Line 580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Line 581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Line 582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Line 583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Line 584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Line 585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Line 586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Line 587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Arc 588"/>
            <p:cNvSpPr/>
            <p:nvPr/>
          </p:nvSpPr>
          <p:spPr>
            <a:xfrm>
              <a:off x="6969240" y="1236600"/>
              <a:ext cx="52200" cy="117360"/>
            </a:xfrm>
            <a:prstGeom prst="pie">
              <a:avLst/>
            </a:prstGeom>
            <a:noFill/>
            <a:ln cap="rnd" w="5076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Line 589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Line 590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Line 591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Line 592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Line 593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Line 594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Line 595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Arc 596"/>
            <p:cNvSpPr/>
            <p:nvPr/>
          </p:nvSpPr>
          <p:spPr>
            <a:xfrm>
              <a:off x="7203960" y="1127160"/>
              <a:ext cx="32040" cy="3636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Line 597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Line 598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Line 599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Rectangle 600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Rectangle 601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Rectangle 602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Rectangle 603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Rectangle 604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Rectangle 605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Rectangle 606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Rectangle 607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Rectangle 608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Rectangle 609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Rectangle 610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Rectangle 611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Rectangle 612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Line 613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Rectangle 614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Rectangle 615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Rectangle 616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Rectangle 617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Rectangle 618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Rectangle 619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Rectangle 620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Rectangle 621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Rectangle 622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Line 623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Line 624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Line 625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Line 626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Line 627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4" name="Group 650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1035" name="Group 633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1036" name="Freeform 629"/>
              <p:cNvSpPr/>
              <p:nvPr/>
            </p:nvSpPr>
            <p:spPr>
              <a:xfrm>
                <a:off x="7823160" y="1297080"/>
                <a:ext cx="176400" cy="5857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Freeform 630"/>
              <p:cNvSpPr/>
              <p:nvPr/>
            </p:nvSpPr>
            <p:spPr>
              <a:xfrm>
                <a:off x="7915320" y="920880"/>
                <a:ext cx="181080" cy="25056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Freeform 631"/>
              <p:cNvSpPr/>
              <p:nvPr/>
            </p:nvSpPr>
            <p:spPr>
              <a:xfrm>
                <a:off x="8023320" y="1155600"/>
                <a:ext cx="73080" cy="355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Freeform 632"/>
              <p:cNvSpPr/>
              <p:nvPr/>
            </p:nvSpPr>
            <p:spPr>
              <a:xfrm>
                <a:off x="7812000" y="928800"/>
                <a:ext cx="249480" cy="9572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Group 638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1041" name="Freeform 634"/>
              <p:cNvSpPr/>
              <p:nvPr/>
            </p:nvSpPr>
            <p:spPr>
              <a:xfrm>
                <a:off x="7631280" y="928800"/>
                <a:ext cx="215640" cy="96660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Freeform 635"/>
              <p:cNvSpPr/>
              <p:nvPr/>
            </p:nvSpPr>
            <p:spPr>
              <a:xfrm>
                <a:off x="7608960" y="1282680"/>
                <a:ext cx="79200" cy="1969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Freeform 636"/>
              <p:cNvSpPr/>
              <p:nvPr/>
            </p:nvSpPr>
            <p:spPr>
              <a:xfrm>
                <a:off x="7711920" y="914400"/>
                <a:ext cx="78120" cy="1904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Freeform 637"/>
              <p:cNvSpPr/>
              <p:nvPr/>
            </p:nvSpPr>
            <p:spPr>
              <a:xfrm>
                <a:off x="7601040" y="914400"/>
                <a:ext cx="223920" cy="9716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Group 643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1046" name="Freeform 639"/>
              <p:cNvSpPr/>
              <p:nvPr/>
            </p:nvSpPr>
            <p:spPr>
              <a:xfrm>
                <a:off x="7812000" y="1533600"/>
                <a:ext cx="227160" cy="5173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Freeform 640"/>
              <p:cNvSpPr/>
              <p:nvPr/>
            </p:nvSpPr>
            <p:spPr>
              <a:xfrm>
                <a:off x="8004240" y="1139760"/>
                <a:ext cx="150840" cy="2872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Freeform 641"/>
              <p:cNvSpPr/>
              <p:nvPr/>
            </p:nvSpPr>
            <p:spPr>
              <a:xfrm>
                <a:off x="8050320" y="1427040"/>
                <a:ext cx="104760" cy="328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Freeform 642"/>
              <p:cNvSpPr/>
              <p:nvPr/>
            </p:nvSpPr>
            <p:spPr>
              <a:xfrm>
                <a:off x="7812000" y="1143000"/>
                <a:ext cx="306360" cy="907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Group 649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1051" name="Freeform 644"/>
              <p:cNvSpPr/>
              <p:nvPr/>
            </p:nvSpPr>
            <p:spPr>
              <a:xfrm>
                <a:off x="7551720" y="1544760"/>
                <a:ext cx="52560" cy="19836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Freeform 645"/>
              <p:cNvSpPr/>
              <p:nvPr/>
            </p:nvSpPr>
            <p:spPr>
              <a:xfrm>
                <a:off x="7589880" y="1139760"/>
                <a:ext cx="49320" cy="193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3" name="Group 648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1054" name="Freeform 646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prstGeom prst="pi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Freeform 647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1056" name="Object 3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7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35D9A9-B10B-49E2-AB35-E878694D651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3B5ED8-DE0E-424B-B644-8021F01E3AB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8E4A6D-DB72-4147-96ED-CDC77958A48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os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44A31CC-847E-4706-9C09-9405ED3CDAC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4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Text Box 5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40DFA6-A252-423D-87CC-87104F4BF0D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8" name="Line 4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5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1635480" y="1703880"/>
              <a:ext cx="4431240" cy="33811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1900080" y="1833840"/>
              <a:ext cx="3703680" cy="3251160"/>
            </a:xfrm>
            <a:prstGeom prst="pie">
              <a:avLst/>
            </a:pr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6002640" y="48564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5564520" y="173376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Text Box 10"/>
            <p:cNvSpPr/>
            <p:nvPr/>
          </p:nvSpPr>
          <p:spPr>
            <a:xfrm>
              <a:off x="7058880" y="54403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" name="Object 1024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025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Text Box 16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6840CB-D5A8-4568-B0ED-749F9D5C523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024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025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026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27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28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29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67EE322-CBAF-45F3-AB7C-DB30378D2E9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029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24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25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26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27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28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029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Text Box 1037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038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039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7:05:13Z</dcterms:created>
  <dc:creator/>
  <dc:description/>
  <cp:keywords/>
  <dc:language>en-US</dc:language>
  <cp:lastModifiedBy>Francisco Martinez</cp:lastModifiedBy>
  <dcterms:modified xsi:type="dcterms:W3CDTF">2010-08-27T14:09:53Z</dcterms:modified>
  <cp:revision>126</cp:revision>
  <dc:subject/>
  <dc:title>General</dc:title>
</cp:coreProperties>
</file>