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1F0-47D8-4207-94C9-3B60CF5C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BA0-7616-48A4-9AFF-5E8427F0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CD9-2258-46D7-8E6C-D65E9274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951-0569-4322-9DAC-68874DA5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C5A-DC4B-4DCC-8DBA-0F7B5693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95A-B6ED-42F5-B7DD-D52E73CC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D94-F999-469B-8CBC-35200631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8E6-7813-4500-B477-AF4821A1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1AA-21A9-40AC-BD4E-0AD89EF4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86C-6832-4F7E-A19C-5DBD597B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2AA-0351-44DD-AE23-130FEA83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D83-388D-4CE6-9071-9E751662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66C4-ACC4-4631-A4FC-1471138A730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83A88E-F2C3-4E8F-ACA3-121722DA90A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42009A-B239-4B04-8DEA-32E10A3C04B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26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27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3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556D1A-1375-41CA-841D-7C16A2D46A0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48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2C610B-D031-4D7F-8A1D-41F8A0D964C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4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25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6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0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7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C601B4-084B-421B-B07C-60E726AE649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-k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nsumo máximo de bienes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ción a pagar decrece con la distanci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umo de terreno 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p(t) dec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 decrece consumo de bienes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36"/>
          <p:cNvSpPr/>
          <p:nvPr/>
        </p:nvSpPr>
        <p:spPr>
          <a:xfrm>
            <a:off x="1143000" y="2666880"/>
            <a:ext cx="2819520" cy="152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32760" y="175248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traight Connector 42"/>
          <p:cNvSpPr/>
          <p:nvPr/>
        </p:nvSpPr>
        <p:spPr>
          <a:xfrm flipH="1">
            <a:off x="2360160" y="3354480"/>
            <a:ext cx="3240" cy="838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45"/>
          <p:cNvSpPr/>
          <p:nvPr/>
        </p:nvSpPr>
        <p:spPr>
          <a:xfrm>
            <a:off x="2217960" y="409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3892680" y="1828800"/>
            <a:ext cx="2046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g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(t) 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57"/>
          <p:cNvSpPr/>
          <p:nvPr/>
        </p:nvSpPr>
        <p:spPr>
          <a:xfrm>
            <a:off x="521928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58"/>
          <p:cNvSpPr/>
          <p:nvPr/>
        </p:nvSpPr>
        <p:spPr>
          <a:xfrm>
            <a:off x="2548800" y="3657600"/>
            <a:ext cx="52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9"/>
          <p:cNvSpPr/>
          <p:nvPr/>
        </p:nvSpPr>
        <p:spPr>
          <a:xfrm>
            <a:off x="3614040" y="3809880"/>
            <a:ext cx="56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60"/>
          <p:cNvSpPr/>
          <p:nvPr/>
        </p:nvSpPr>
        <p:spPr>
          <a:xfrm>
            <a:off x="48600" y="251460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BCBBB4-C245-493E-AD14-61EAE1296B4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posición a pagar decrece con la utilidad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&gt;p’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nsumo de terreno crece con la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38"/>
          <p:cNvSpPr/>
          <p:nvPr/>
        </p:nvSpPr>
        <p:spPr>
          <a:xfrm>
            <a:off x="546840" y="175248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42"/>
          <p:cNvSpPr/>
          <p:nvPr/>
        </p:nvSpPr>
        <p:spPr>
          <a:xfrm flipH="1">
            <a:off x="2284560" y="2973240"/>
            <a:ext cx="2880" cy="1219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45"/>
          <p:cNvSpPr/>
          <p:nvPr/>
        </p:nvSpPr>
        <p:spPr>
          <a:xfrm>
            <a:off x="2175480" y="40957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q’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49"/>
          <p:cNvSpPr/>
          <p:nvPr/>
        </p:nvSpPr>
        <p:spPr>
          <a:xfrm>
            <a:off x="1706400" y="1441440"/>
            <a:ext cx="3551400" cy="2292480"/>
          </a:xfrm>
          <a:prstGeom prst="pie">
            <a:avLst/>
          </a:pr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traight Connector 51"/>
          <p:cNvSpPr/>
          <p:nvPr/>
        </p:nvSpPr>
        <p:spPr>
          <a:xfrm>
            <a:off x="1193760" y="1936800"/>
            <a:ext cx="2387520" cy="2254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3969720" y="1828800"/>
            <a:ext cx="189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(t)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56"/>
          <p:cNvSpPr/>
          <p:nvPr/>
        </p:nvSpPr>
        <p:spPr>
          <a:xfrm>
            <a:off x="5249520" y="35053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57"/>
          <p:cNvSpPr/>
          <p:nvPr/>
        </p:nvSpPr>
        <p:spPr>
          <a:xfrm>
            <a:off x="514332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563200" y="365760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3240000" y="3730680"/>
            <a:ext cx="55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’(t</a:t>
            </a:r>
            <a:r>
              <a:rPr b="1" i="1" lang="en-US" sz="1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D8F924-78A8-474E-8C8F-071CE4BB5EE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cep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1064"/>
          <p:cNvGrpSpPr/>
          <p:nvPr/>
        </p:nvGrpSpPr>
        <p:grpSpPr>
          <a:xfrm>
            <a:off x="375480" y="685800"/>
            <a:ext cx="6646680" cy="4114800"/>
            <a:chOff x="375480" y="685800"/>
            <a:chExt cx="6646680" cy="4114800"/>
          </a:xfrm>
        </p:grpSpPr>
        <p:sp>
          <p:nvSpPr>
            <p:cNvPr id="194" name="Rectangle 1032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63"/>
            <p:cNvGrpSpPr/>
            <p:nvPr/>
          </p:nvGrpSpPr>
          <p:grpSpPr>
            <a:xfrm>
              <a:off x="735120" y="944280"/>
              <a:ext cx="6287040" cy="3856320"/>
              <a:chOff x="735120" y="944280"/>
              <a:chExt cx="6287040" cy="3856320"/>
            </a:xfrm>
          </p:grpSpPr>
          <p:sp>
            <p:nvSpPr>
              <p:cNvPr id="196" name="Line 1029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1030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1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1033"/>
              <p:cNvSpPr/>
              <p:nvPr/>
            </p:nvSpPr>
            <p:spPr>
              <a:xfrm rot="60000">
                <a:off x="828360" y="18021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43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46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53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rc 1057"/>
              <p:cNvSpPr/>
              <p:nvPr/>
            </p:nvSpPr>
            <p:spPr>
              <a:xfrm rot="60000">
                <a:off x="942840" y="1332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rc 1058"/>
              <p:cNvSpPr/>
              <p:nvPr/>
            </p:nvSpPr>
            <p:spPr>
              <a:xfrm rot="60000">
                <a:off x="1106640" y="990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1059"/>
              <p:cNvSpPr/>
              <p:nvPr/>
            </p:nvSpPr>
            <p:spPr>
              <a:xfrm>
                <a:off x="644508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Text Box 1060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1061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Text Box 1065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066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D30209-3045-4B4F-9FF1-0E94D713396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048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26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rc 13"/>
          <p:cNvSpPr/>
          <p:nvPr/>
        </p:nvSpPr>
        <p:spPr>
          <a:xfrm rot="60000">
            <a:off x="9522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049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Line 32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4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rc 37"/>
          <p:cNvSpPr/>
          <p:nvPr/>
        </p:nvSpPr>
        <p:spPr>
          <a:xfrm rot="60000">
            <a:off x="11048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rc 38"/>
          <p:cNvSpPr/>
          <p:nvPr/>
        </p:nvSpPr>
        <p:spPr>
          <a:xfrm rot="60000">
            <a:off x="838080" y="335232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36"/>
          <p:cNvSpPr/>
          <p:nvPr/>
        </p:nvSpPr>
        <p:spPr>
          <a:xfrm>
            <a:off x="1447920" y="2895480"/>
            <a:ext cx="4267080" cy="21337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743E96-6ED9-4703-8AEC-B9499F4B6A8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0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9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4C1E18-9C48-4CD0-AEEA-2F348F06BEF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10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770BA3-65DF-4716-BDC1-B51D1603DCF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24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5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0E387A-7158-4A0E-A258-594D800484A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822739-470F-41A5-BE28-0CE28A2F97F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rc 9"/>
          <p:cNvSpPr/>
          <p:nvPr/>
        </p:nvSpPr>
        <p:spPr>
          <a:xfrm rot="60000">
            <a:off x="828360" y="2641320"/>
            <a:ext cx="5330880" cy="24066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rc 13"/>
          <p:cNvSpPr/>
          <p:nvPr/>
        </p:nvSpPr>
        <p:spPr>
          <a:xfrm rot="60000">
            <a:off x="942480" y="2171520"/>
            <a:ext cx="53308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14"/>
          <p:cNvSpPr/>
          <p:nvPr/>
        </p:nvSpPr>
        <p:spPr>
          <a:xfrm rot="60000">
            <a:off x="1106640" y="1828440"/>
            <a:ext cx="533052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727280" y="1816200"/>
            <a:ext cx="4673520" cy="267948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63D171-4E8F-4C16-AA80-E25F8EB1A40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55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56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D08775-218A-42D7-8537-0C057A9689C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026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27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3" name="Rectangle 1029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30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31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32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33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34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035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036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037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38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39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040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041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42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43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44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45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046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047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48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49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0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52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54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055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56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57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342744-99F6-4600-9484-E1C7F252D55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CC2CED-D45B-4D0A-8E19-BDFC77180E4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rc 7"/>
          <p:cNvSpPr/>
          <p:nvPr/>
        </p:nvSpPr>
        <p:spPr>
          <a:xfrm rot="60000">
            <a:off x="1550880" y="1911240"/>
            <a:ext cx="5845320" cy="27352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rc 8"/>
          <p:cNvSpPr/>
          <p:nvPr/>
        </p:nvSpPr>
        <p:spPr>
          <a:xfrm rot="300000">
            <a:off x="3017520" y="1706400"/>
            <a:ext cx="2108160" cy="32497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rc 9"/>
          <p:cNvSpPr/>
          <p:nvPr/>
        </p:nvSpPr>
        <p:spPr>
          <a:xfrm rot="120000">
            <a:off x="1468440" y="3655800"/>
            <a:ext cx="6006960" cy="7380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rc 22"/>
          <p:cNvSpPr/>
          <p:nvPr/>
        </p:nvSpPr>
        <p:spPr>
          <a:xfrm rot="192000">
            <a:off x="2437920" y="1676520"/>
            <a:ext cx="2741760" cy="20286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rc 23"/>
          <p:cNvSpPr/>
          <p:nvPr/>
        </p:nvSpPr>
        <p:spPr>
          <a:xfrm rot="60000">
            <a:off x="2970000" y="1926720"/>
            <a:ext cx="4422600" cy="25290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24"/>
          <p:cNvSpPr/>
          <p:nvPr/>
        </p:nvSpPr>
        <p:spPr>
          <a:xfrm rot="120000">
            <a:off x="5124600" y="3733920"/>
            <a:ext cx="2328840" cy="81756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rc 32"/>
          <p:cNvSpPr/>
          <p:nvPr/>
        </p:nvSpPr>
        <p:spPr>
          <a:xfrm rot="60000">
            <a:off x="1371600" y="2063880"/>
            <a:ext cx="584532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rc 33"/>
          <p:cNvSpPr/>
          <p:nvPr/>
        </p:nvSpPr>
        <p:spPr>
          <a:xfrm rot="60000">
            <a:off x="1851120" y="1828800"/>
            <a:ext cx="584496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C33300-732C-4BDC-B15A-1E2B9624B01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024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322041-7EB2-4CDD-B378-2A1787B63AD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800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a del suelo y propiedades decrece con dista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yor distancia mayor consumo de terreno por hogar y menor den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440A-597B-492F-A5F3-B91BE3240A5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ADF6BB-1BDB-4057-9492-3A58A3D52EF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Object 0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628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11" name="Line 5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8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4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35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37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39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40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41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42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43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44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45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46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47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48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49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0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51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2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4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55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6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57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8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59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61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62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63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64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65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66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67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68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69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70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71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72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73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74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84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85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86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87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88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89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90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91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92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93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94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95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96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97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98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99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103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104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105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106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107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108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109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10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11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3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14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15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16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17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118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120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1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122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124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125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126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Line 127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128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129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130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31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32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33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4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35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36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7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38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Line 139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40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41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42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43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144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145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146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147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148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149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Line 150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151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152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153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154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155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156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157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158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159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160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161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162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63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64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65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66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67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69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70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172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173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Line 175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176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178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179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180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182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183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184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186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187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188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190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191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Line 192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193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94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195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96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97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98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199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200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201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202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203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Line 204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05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06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207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208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09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10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211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212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13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214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215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216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17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18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219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234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235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236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37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38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39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40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41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42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243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244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245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246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247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248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249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250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251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52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53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54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55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56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7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58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59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60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61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262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Line 263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264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265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266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267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268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69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70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71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272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273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274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275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276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277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278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279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280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281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282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283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284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285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286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287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288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289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290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91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292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293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294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295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296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297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Line 298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299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300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01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302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303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304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305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06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07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08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09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10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11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312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313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314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315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316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317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18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9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0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21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22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23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24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5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26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27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28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329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330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331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32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33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34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335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336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37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338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339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340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41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42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43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Line 344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345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346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347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348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349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50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351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Line 352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Line 353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Line 354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355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356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357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358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359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360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361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362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363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Line 364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Line 365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Line 366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367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368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369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370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371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372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373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374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375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376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Line 377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Line 378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Line 379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380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381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382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383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384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385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386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387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388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389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390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391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392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393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394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95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96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97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98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99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400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401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402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403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04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5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06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07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08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09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410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411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412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413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414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415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416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Line 417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418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419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420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421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422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423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424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425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426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427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428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429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30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31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2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33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34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35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36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37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38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439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440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441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442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43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44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45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46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Line 447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448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449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450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Line 451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52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453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454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455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56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57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458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459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460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461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462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463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464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465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66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67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68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69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70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71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72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3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74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75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76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477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8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479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80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Line 481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482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483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484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485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486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487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488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489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490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491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492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493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494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495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496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497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498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499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00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501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502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503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504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05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506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507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508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09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10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511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512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513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514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515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16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517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18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519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20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521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22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523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524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525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526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527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Line 528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Line 529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530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531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532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533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534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535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536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537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538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539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540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541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Line 542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Line 543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Line 544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545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546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547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548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549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550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551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52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53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54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55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56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557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558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559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560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561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562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563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564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565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566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567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568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569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70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571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572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573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574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575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576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577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578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579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580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581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582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583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584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585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586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587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Arc 588"/>
            <p:cNvSpPr/>
            <p:nvPr/>
          </p:nvSpPr>
          <p:spPr>
            <a:xfrm>
              <a:off x="6969240" y="1236600"/>
              <a:ext cx="52200" cy="117360"/>
            </a:xfrm>
            <a:prstGeom prst="pie">
              <a:avLst/>
            </a:prstGeom>
            <a:noFill/>
            <a:ln cap="rnd" w="5076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589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590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591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592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593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594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595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Arc 596"/>
            <p:cNvSpPr/>
            <p:nvPr/>
          </p:nvSpPr>
          <p:spPr>
            <a:xfrm>
              <a:off x="7203960" y="1127160"/>
              <a:ext cx="32040" cy="363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597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598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599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600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601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602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603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604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605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606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607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8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09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10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11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612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613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614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15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616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617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618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619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620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621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622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623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624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625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626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627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650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035" name="Group 633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036" name="Freeform 629"/>
              <p:cNvSpPr/>
              <p:nvPr/>
            </p:nvSpPr>
            <p:spPr>
              <a:xfrm>
                <a:off x="7823160" y="1297080"/>
                <a:ext cx="176400" cy="5857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630"/>
              <p:cNvSpPr/>
              <p:nvPr/>
            </p:nvSpPr>
            <p:spPr>
              <a:xfrm>
                <a:off x="7915320" y="920880"/>
                <a:ext cx="181080" cy="2505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631"/>
              <p:cNvSpPr/>
              <p:nvPr/>
            </p:nvSpPr>
            <p:spPr>
              <a:xfrm>
                <a:off x="8023320" y="1155600"/>
                <a:ext cx="73080" cy="355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632"/>
              <p:cNvSpPr/>
              <p:nvPr/>
            </p:nvSpPr>
            <p:spPr>
              <a:xfrm>
                <a:off x="7812000" y="928800"/>
                <a:ext cx="249480" cy="957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Group 638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041" name="Freeform 634"/>
              <p:cNvSpPr/>
              <p:nvPr/>
            </p:nvSpPr>
            <p:spPr>
              <a:xfrm>
                <a:off x="7631280" y="928800"/>
                <a:ext cx="215640" cy="9666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635"/>
              <p:cNvSpPr/>
              <p:nvPr/>
            </p:nvSpPr>
            <p:spPr>
              <a:xfrm>
                <a:off x="7608960" y="1282680"/>
                <a:ext cx="79200" cy="1969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636"/>
              <p:cNvSpPr/>
              <p:nvPr/>
            </p:nvSpPr>
            <p:spPr>
              <a:xfrm>
                <a:off x="7711920" y="914400"/>
                <a:ext cx="78120" cy="190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637"/>
              <p:cNvSpPr/>
              <p:nvPr/>
            </p:nvSpPr>
            <p:spPr>
              <a:xfrm>
                <a:off x="7601040" y="914400"/>
                <a:ext cx="223920" cy="971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643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046" name="Freeform 639"/>
              <p:cNvSpPr/>
              <p:nvPr/>
            </p:nvSpPr>
            <p:spPr>
              <a:xfrm>
                <a:off x="7812000" y="1533600"/>
                <a:ext cx="227160" cy="5173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640"/>
              <p:cNvSpPr/>
              <p:nvPr/>
            </p:nvSpPr>
            <p:spPr>
              <a:xfrm>
                <a:off x="8004240" y="1139760"/>
                <a:ext cx="150840" cy="287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641"/>
              <p:cNvSpPr/>
              <p:nvPr/>
            </p:nvSpPr>
            <p:spPr>
              <a:xfrm>
                <a:off x="8050320" y="1427040"/>
                <a:ext cx="104760" cy="328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642"/>
              <p:cNvSpPr/>
              <p:nvPr/>
            </p:nvSpPr>
            <p:spPr>
              <a:xfrm>
                <a:off x="7812000" y="1143000"/>
                <a:ext cx="306360" cy="907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649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051" name="Freeform 644"/>
              <p:cNvSpPr/>
              <p:nvPr/>
            </p:nvSpPr>
            <p:spPr>
              <a:xfrm>
                <a:off x="7551720" y="1544760"/>
                <a:ext cx="52560" cy="1983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645"/>
              <p:cNvSpPr/>
              <p:nvPr/>
            </p:nvSpPr>
            <p:spPr>
              <a:xfrm>
                <a:off x="7589880" y="1139760"/>
                <a:ext cx="49320" cy="193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48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054" name="Freeform 646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647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056" name="Object 3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7ADBAA-6D7B-42BD-936B-4D7C0B96A62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527873-F689-4572-B84F-9F5FAE18BAE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313E6A-5028-4E68-B719-7514B4788E3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10FA86-AA78-4434-A107-BFD3C65BF91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5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598AD8-8E72-4759-B98B-82F6D8DF70E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8" name="Line 4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635480" y="1703880"/>
              <a:ext cx="4431240" cy="3381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900080" y="1833840"/>
              <a:ext cx="3703680" cy="32511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002640" y="4856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564520" y="1733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7058880" y="5440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25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6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9EAAE0-EC0A-4FF2-A79D-A2EB5EF4AF4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24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25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6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27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28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29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0C2403-F44F-4D5A-8736-A993BFE1739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25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26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27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28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9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 Box 1037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5:13Z</dcterms:created>
  <dc:creator/>
  <dc:description/>
  <cp:keywords/>
  <dc:language>en-US</dc:language>
  <cp:lastModifiedBy>Francisco Martinez</cp:lastModifiedBy>
  <dcterms:modified xsi:type="dcterms:W3CDTF">2010-08-27T14:09:53Z</dcterms:modified>
  <cp:revision>126</cp:revision>
  <dc:subject/>
  <dc:title>General</dc:title>
</cp:coreProperties>
</file>