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466D-281F-4CBB-A73A-10FAEB69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0C7A-E5D8-4283-9C71-ABCBE6BA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778F-B10E-44DC-8D40-41740E46F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3A6-8529-4131-8B4F-9F17E02A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8D9C-447D-4697-AD81-8CD12190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E3A-5C7C-43C2-9410-989F9141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A770-8F77-4949-90BF-7DFABA0D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19BF-58C0-48C4-920B-AAEFA8BB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D812-D556-4D3B-9973-76514F0C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6ABE-CEDA-4F38-A0A8-554F505B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FAC-9A76-4A1F-8C15-857A925F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6CB-293D-41D5-82A6-921EB8AE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FEF7-560B-4D46-87AA-1B58B3805A5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quipo doc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átedra: </a:t>
            </a:r>
            <a:r>
              <a:rPr b="0" lang="es-ES_tradnl" sz="3200" spc="-1" strike="noStrike">
                <a:solidFill>
                  <a:srgbClr val="6600ff"/>
                </a:solidFill>
                <a:latin typeface="Comic Sans MS"/>
              </a:rPr>
              <a:t>Marcela Muniza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uxiliar: </a:t>
            </a:r>
            <a:r>
              <a:rPr b="0" lang="es-ES_tradnl" sz="3200" spc="-1" strike="noStrike">
                <a:solidFill>
                  <a:srgbClr val="3366ff"/>
                </a:solidFill>
                <a:latin typeface="Comic Sans MS"/>
              </a:rPr>
              <a:t>Flavio Devilla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rganiz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átedra Lunes y Viernes 12:00-1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Talleres: miércoles 14 a 16, requisito para aprobar. 30% de la nota fi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715000" y="19051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ecesida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676520" y="19810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1676520" y="4724280"/>
            <a:ext cx="213336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Op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5715000" y="4648320"/>
            <a:ext cx="213372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9"/>
          <p:cNvSpPr/>
          <p:nvPr/>
        </p:nvSpPr>
        <p:spPr>
          <a:xfrm>
            <a:off x="6781680" y="32767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0"/>
          <p:cNvSpPr/>
          <p:nvPr/>
        </p:nvSpPr>
        <p:spPr>
          <a:xfrm flipH="1">
            <a:off x="3809880" y="53341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1"/>
          <p:cNvSpPr/>
          <p:nvPr/>
        </p:nvSpPr>
        <p:spPr>
          <a:xfrm flipV="1">
            <a:off x="2743200" y="3352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380988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4233240" y="184932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Arial Black"/>
              </a:rPr>
              <a:t>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7078320" y="3505320"/>
            <a:ext cx="13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 Black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1447920" y="3962520"/>
            <a:ext cx="7162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7141320" y="411480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 Black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4114800" y="5486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Arial Black"/>
              </a:rPr>
              <a:t>requ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990720" y="41148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8080"/>
                </a:solidFill>
                <a:latin typeface="Arial Black"/>
              </a:rPr>
              <a:t>mod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Comic Sans MS"/>
              </a:rPr>
              <a:t>Esquema del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ructura espacial = localización de activid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ctores agrícolas, centros urbanos, centros produc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o, industria, servicios, edu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dades de transporte: viaj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: aéreo, acuático, terrestre: camión, tren, bus,auto, a 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peraciones: frecuencia, tarifas, recorridos, detenciones, tasas de carga y descarga, sistemas de información,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5"/>
          <p:cNvSpPr/>
          <p:nvPr/>
        </p:nvSpPr>
        <p:spPr>
          <a:xfrm>
            <a:off x="990720" y="28954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6"/>
          <p:cNvSpPr/>
          <p:nvPr/>
        </p:nvSpPr>
        <p:spPr>
          <a:xfrm>
            <a:off x="9907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7"/>
          <p:cNvSpPr/>
          <p:nvPr/>
        </p:nvSpPr>
        <p:spPr>
          <a:xfrm>
            <a:off x="6477120" y="4267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3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5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7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2057400" y="2209680"/>
            <a:ext cx="1803240" cy="723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2057400" y="2895480"/>
            <a:ext cx="175248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11"/>
          <p:cNvSpPr/>
          <p:nvPr/>
        </p:nvSpPr>
        <p:spPr>
          <a:xfrm>
            <a:off x="2133720" y="1905120"/>
            <a:ext cx="1904760" cy="533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2"/>
          <p:cNvSpPr/>
          <p:nvPr/>
        </p:nvSpPr>
        <p:spPr>
          <a:xfrm>
            <a:off x="2057400" y="3048120"/>
            <a:ext cx="2057400" cy="723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2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3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5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6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7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8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9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0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1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32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33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34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35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36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CI4301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urso del Minor en Ingeniería deTransporte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(Certificación Complementaria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(Obligatorio en el plan nuevo del Magís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3" descr="Transporte pu¦üblico_1"/>
          <p:cNvPicPr/>
          <p:nvPr/>
        </p:nvPicPr>
        <p:blipFill>
          <a:blip r:embed="rId1"/>
          <a:stretch/>
        </p:blipFill>
        <p:spPr>
          <a:xfrm>
            <a:off x="611280" y="-27000"/>
            <a:ext cx="2754360" cy="411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Transporte pu¦üblico_7"/>
          <p:cNvPicPr/>
          <p:nvPr/>
        </p:nvPicPr>
        <p:blipFill>
          <a:blip r:embed="rId2"/>
          <a:stretch/>
        </p:blipFill>
        <p:spPr>
          <a:xfrm>
            <a:off x="3059280" y="-27000"/>
            <a:ext cx="2746080" cy="41054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5"/>
          <p:cNvSpPr/>
          <p:nvPr/>
        </p:nvSpPr>
        <p:spPr>
          <a:xfrm>
            <a:off x="3276720" y="4508640"/>
            <a:ext cx="586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2b2b2"/>
                </a:solidFill>
                <a:latin typeface="Tahoma"/>
              </a:rPr>
              <a:t>Espacio necesario para transportar a las personas, en auto, bus y bicicle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2b2b2"/>
                </a:solidFill>
                <a:latin typeface="Tahoma"/>
              </a:rPr>
              <a:t>80 Personas ≈ 50 autos ≈ 1 b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2b2b2"/>
                </a:solidFill>
                <a:latin typeface="Tahoma"/>
              </a:rPr>
              <a:t>≈ </a:t>
            </a:r>
            <a:r>
              <a:rPr b="0" lang="es-ES" sz="2800" spc="-1" strike="noStrike">
                <a:solidFill>
                  <a:srgbClr val="b2b2b2"/>
                </a:solidFill>
                <a:latin typeface="Tahoma"/>
              </a:rPr>
              <a:t>80 bicicl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7" descr="Transporte pu¦üblico_9"/>
          <p:cNvPicPr/>
          <p:nvPr/>
        </p:nvPicPr>
        <p:blipFill>
          <a:blip r:embed="rId3"/>
          <a:stretch/>
        </p:blipFill>
        <p:spPr>
          <a:xfrm>
            <a:off x="5580000" y="-27000"/>
            <a:ext cx="2746440" cy="4103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539640" y="4148280"/>
            <a:ext cx="7920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oto tomada en Santiago (Teatinos con Alameda) el 31 de agosto de 200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9">
            <a:hlinkClick r:id="" action="ppaction://hlinkshowjump?jump=previousslide"/>
          </p:cNvPr>
          <p:cNvSpPr/>
          <p:nvPr/>
        </p:nvSpPr>
        <p:spPr>
          <a:xfrm>
            <a:off x="8388360" y="6453360"/>
            <a:ext cx="431640" cy="215640"/>
          </a:xfrm>
          <a:custGeom>
            <a:avLst/>
            <a:gdLst>
              <a:gd name="textAreaLeft" fmla="*/ 13680 w 431640"/>
              <a:gd name="textAreaRight" fmla="*/ 417960 w 431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Identificar te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¿Qué está pasando en Santiago?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2: 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3: 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dad 4: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nidad 1: Identificación del á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s-ES_tradnl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arcela munizaga muñoz</cp:lastModifiedBy>
  <dcterms:modified xsi:type="dcterms:W3CDTF">2010-08-16T14:40:59Z</dcterms:modified>
  <cp:revision>40</cp:revision>
  <dc:subject/>
  <dc:title>Definiciones y conceptos básicos</dc:title>
</cp:coreProperties>
</file>