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2ED2-91AB-4DC9-9474-913BCCAD9F1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8362-4618-45F5-BE1F-D3DD95D7EBE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D308-4547-4FFC-9866-843660C251B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CE7-2EF6-45CF-8738-1EA6CE6C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C34-83F0-4C1C-A60F-092879F7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199-0B6D-417F-8065-C5D03A5E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F31-4D60-4454-B06A-49DFC9CE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5FD5-5EC3-4D7B-AA8F-B247BC95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E4BA-608C-4F77-BC83-70A81DC5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47EF-3A92-4340-9359-9C3A39B7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2278-7AF5-4CE0-BCD4-97D9CD01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8BD5-8F03-4E6D-A48B-D0DF35E2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4B45-D67D-4FD2-9FDC-523DA2F5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F7AF-990E-4272-B767-045386B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185-A976-400C-9640-AF7F0216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2E78-94FD-4075-8A53-86539519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EC13-8579-4B37-BBA3-11189804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85A1-0573-4BC5-9937-A5DCC4A7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BE5C-A424-45AE-B047-FFBBBB92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B9C1-9771-4110-9071-70BEE972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5464-0B9A-4FDC-A72F-750EADB8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EA9E-F84D-471C-AC4D-CE749CAF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27C8-EBB7-4A85-9E7C-89AD87E9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2EE1-828A-4FB3-BBA3-BFCC72F6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23B8-BF85-42B8-B5F9-96C9D4AF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D67-85E0-49EB-A2C5-0F160F3E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290A-A7FE-4ECB-BD44-C1F3C5B0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FC7C-60BD-4703-BB2F-DFB70236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3D06D-F17E-4D03-9946-68083B1E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45BE-CC26-4793-9639-3696680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05E7-91B7-40EB-8914-C804A1FF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7859F-8388-4EAD-8419-9A6C67C4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F869D-007C-4641-830A-1B0B0064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BD75-0355-48B2-A31F-B4B3EBDD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C5EF-E070-49C0-B93C-271D9D9E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FB1B-79F8-43E1-B50E-998EE1E0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22E-5AC3-4567-BDAC-76DE2DBD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C6A1-E691-411D-8C78-A1FD2242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12B0D-CB11-4890-98F2-DF63F919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5B72C-F238-4C34-911F-366DF94E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51E7-2998-4EA4-B451-F86556A0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7A009-BBEB-4D2F-AC85-7FFC1E02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EED3-2117-4F5F-A497-86560D5D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17B58-D558-49FB-BDAE-0E2FFC8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0A474-EA6D-4C3E-B0BE-AAD330CD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B244D-2F94-40B7-8611-D91D91C6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9E6BB-67C2-4D2E-B1B0-4D306B9E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A03-018A-4D1F-8813-44BAEA2E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2F9D6-D229-48BF-A216-2F4AA227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021CF-3F05-4AB1-AC95-A6C84CCB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03F73-44E9-4499-8EF2-B001E940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997E7-0B78-4C86-A954-EE129C39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76F01-C188-4782-AD89-A3DF024D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414FC-7949-4F6E-A867-44D73876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F5353-8EF1-4FC3-B85C-3E32FE73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DBD27-7C9E-43EA-AF84-A425E3B6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F55B4-CF2E-4D09-9FA3-4127AA57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E1799-0B9D-4FB5-9D9A-AF818EEC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217-B22E-4FBB-99C5-C31754CA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04895-358E-4BA7-9D23-5BFFC308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E0F97-476A-4D1D-8F73-92215088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5FD86-E4F7-4D1A-932F-563896FF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A7E12-206D-4B1C-81F9-2896A941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E1A7-1C7E-4D25-9A0B-35843324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4514-2C6C-4681-984A-3D114177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88C02-B0B5-4DC8-9BD0-14F76C32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C6CB6-20D9-4712-8BF4-B07F8A12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A0816-6BEC-4927-87E5-D6472D5A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007BB-B0ED-4303-90E8-517504BA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7AC-02EF-4C99-9BD0-CB4F1605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4B3D-8C4A-4A2A-BC06-F72A8ADE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F3C15-F2EC-4A26-B143-062F0867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31305-7AC1-447C-8757-5605C04A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EDE46-BB2C-40C9-95C7-22E259D9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CF3A-8285-4C70-97C5-EA66126E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1E4AF-6CA1-42D7-9129-C1C22781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EA221-A022-439C-949E-F05E9998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EC942-E3D7-4768-BCF8-42DEDD49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9E053-86FE-43EF-AF43-8555969F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205B0-26B7-4E51-B7FC-C30629EF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EF3-A97C-4DBC-8CB9-1C504BE3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87F8A-A8AE-4792-BA95-0BFA3054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F91C3-C43D-49B7-B6F9-B2286BC1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4C564-A63C-4F17-A271-E20A24DD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EB15C-2172-4AC4-863E-A4B40BF1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B098C-7A6C-4447-9E58-B17006F3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07B-74CE-49B7-AA23-BC624646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2571-F1AA-457D-9661-074AF3B18DF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1C2C-2DAC-4052-B83D-A48E87FBF29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0FE1-340D-40BB-B364-192BA372644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C4B3-957D-4FA1-BA8B-F974921EFAA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B5E1-DE52-4D7E-8CBA-7C48B2F9D78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EDF5-7A1E-426F-A4C3-62DCD1A0441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4913-5B0A-451F-81BF-0A4B33643AA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7 CI4301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99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Sistema Cíclico Simp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s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ar flota necesaria para operar un sistema cíclico simp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nalizar sensibilidad de la solución ante variables de oper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sidere una flota de buses que necesita llevar pasajeros desde la periferia al centro de Santiag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a tasa de llegada de los pasajeros al paradero de abordaje es de 5000 [pax/hora], y el tiempo de viaje de los buses en minutos puede ser modelado a través de la fun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onde 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es número de pasajer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4357800" y="4071960"/>
                <a:ext cx="19288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tilice los datos de la tarea dada en clases como tasas de carga/descarga (tasas de subida/bajada de pasajer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capacidad K de los buses es de 80 [pax/bus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nsidere un factor de flota operat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928880" y="4857840"/>
          <a:ext cx="141768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4857840"/>
                    <a:ext cx="14176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ill Sans MT"/>
              </a:rPr>
              <a:t>Calcule la flota necesaria de buses para una operación en que l</a:t>
            </a: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os vehículos transportan a los pasajeros desde la periferia al centro y vuelven vacíos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ill Sans MT"/>
              </a:rPr>
              <a:t>Grafique y explique en base a los resultados obtenido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91360" indent="-53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La flota de buses vs la tasa de llegada de los pasajeros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91360" indent="-53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La flota de buses vs el tiempo que se demoran los pasajeros en subir al vehículo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91360" indent="-53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La flota de buses vs la capacidad de los buses (ver siguiente diapositiva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91360" indent="-53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El tiempo de espera promedio de los pasajeros vs la capacidad de los buses; para esto suponga que las llegadas de los pasajeros al paradero de abordaje son uniformes y que los buses pasan con frecuencia regular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91360" indent="-53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El tiempo de ciclo vs la carga de los bus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Información Adic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Tamaños y capacidades de buses disponib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 A1 (minibus 8m): 42 p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 A2 (9m): 65 p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 B (12m): 80 p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 C (articulado 18.5m): 160 p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01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Felipe Murcia</cp:lastModifiedBy>
  <dcterms:modified xsi:type="dcterms:W3CDTF">2010-10-12T21:21:42Z</dcterms:modified>
  <cp:revision>45</cp:revision>
  <dc:subject/>
  <dc:title>Taller I CI43A</dc:title>
</cp:coreProperties>
</file>