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A0F-4ECB-4B10-8847-D979DC2488E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E5C6-4796-477C-A4FE-FF813AD4AA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57CE-2AA3-4F2F-9731-DE72DDD05DE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9D4-B28A-4FA0-B09B-2EB85D15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48F-931F-4FC1-BA98-21AF8B1A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D0D-DC32-4616-A784-F2FB0BBD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B19-1E94-45D8-8D49-1B3F7394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EF8A-DFC7-4EDC-9C3D-8CF53E70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099-7DE5-42FF-A764-2ABC876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465-C61F-457E-BBB3-287F360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C451-FA20-4930-9B40-B17D2C1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C6F-1F52-40E9-8A93-EC470F7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2BD3-6B98-4675-B34E-EA7B150F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E622-DB28-4FC8-A8A2-77997C8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7B6-A739-4BE4-A4D3-9C031B5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5A3-5183-454B-BEEE-B722688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A93-159A-4730-B25F-4A2CEF3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C50-0228-4BC0-A112-4F855D7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566A-A5FF-4F63-B429-D77348B9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042F-97BE-4604-9D91-87B1FAE8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527D-A5EA-4E77-9C6D-59FB46DC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7AEF-0F82-4D5B-865A-389ABD1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C7C7-4F12-4779-802E-D506BA77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17CE-86C3-46AB-8DD2-333B1B46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3867-176B-4DC9-AB7E-FB161D5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A5B-FFCB-4090-8A79-97A498A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6AB2-6C54-4766-BE42-BEC9C70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177F-EDB1-4C3F-AD95-5238AB2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0163-CC1C-42EB-9AB1-08F08195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52CA-A8CB-449D-BCC4-59316BD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FC39-372F-46A7-BCBB-CC77146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CA60-3201-41CD-8F47-CD4A3E20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9B40-D547-41A2-94FC-D4D632C5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9C3C-5867-4271-955D-2609B22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CEDA-028F-4FBD-A49F-70D699B5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8B3F-C418-4C4F-AEAE-4B3201C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572-F9F6-44E3-89F5-17C92ED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64D8-3EC3-4BE0-B095-6B55704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AE7D-8352-4B6D-B280-F48EE6E9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07C0-E9A8-43EC-BA62-88B29CC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5567-C879-4069-A5BE-084479E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0C07-9E40-4F3D-9EAC-F088B15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C429-BD81-4F58-9C12-ED9DCF2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D445A-0559-4011-9F73-236CC9B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201F-6C93-4A25-9F89-35FFF13C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5B51-1BDC-4CFC-9A81-05B1A854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15A54-969C-443F-A6CB-8CE2F3E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F7A-D6F7-4D54-A992-A25244B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5534-97DF-4B1B-8EB7-A3EC047A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E92D-509B-4B81-9631-4950F8F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3023E-A83D-4CF4-871F-18B5A39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2DD8-CFFA-444E-92CA-70F0AF0C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3C9A-2477-46B7-B8F0-A38736A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6AA6-E153-408C-8506-25B4A6F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1A81-3B19-4567-809E-4556CAF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6425-D8AB-4FFD-B460-77424AAF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3736-D84E-4B27-BAAC-2E531383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CEDC-5799-415B-A9E2-FF621208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D0E-8F1C-4C6B-B269-7A75B1C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E145-023D-4E5F-8271-27841EDF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E3A0-9B1A-4750-BA28-AAD6D621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373C-CDE3-4F77-A87F-54FBE98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2166-E60D-434B-863C-18BF7068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9440-3BFE-4386-B1C6-6540CAF7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3D72-BE5E-4657-82ED-341593FF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7A38-2D6A-495B-904D-DA3BE9FD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0BDA-D2E4-4BF6-8F40-43E49D6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FF36-A5F0-4008-A877-A17CCFD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A15B-7F0E-4982-AEFB-160703C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394-7F0B-4EF9-A5EA-52C88FD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08D0-373A-44AB-B105-DD49CB0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6CB8-3626-4D70-A0FE-0FF5E487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4E99-3DB7-4630-A349-46EFBD73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B9B5-74DC-42CA-8A17-82D2D163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974A-A587-49F4-BE6F-8AA2C8F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F6BB-5F16-4FC6-8B32-146A976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79EF-8523-49E8-8003-63DD37B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7220-4494-4CF0-968E-AAA4E888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D98D-5BB9-42DA-A449-5C783123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E33E-44E9-45CF-8D45-2D6E9F9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30C-0657-493F-89A6-8760A2A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E58C-D9E5-4446-A9F9-9C933F4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8759C-3334-4ECD-A6A3-9A2DFBC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C1F0-D460-444F-BE00-F3AA79F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48F1-A22E-4CF4-9CA2-C5AE9A18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C965-31BE-41AC-B7D6-445F3E16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24B-A66D-4399-BDF8-C37C1F8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402-B9F1-4237-9481-4089D0B1485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C0BA-8764-4E9D-BC48-1C616F95A16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288C-A4F4-48B0-AF64-DB78B5F1C5F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6A2-D872-4FB6-BB2E-6386A74C199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C6A8-F2DC-45FF-BBEF-90E469F9B86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46B-35A1-436C-8620-A7AA4B6FA72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776-8371-4B08-8621-C2880F953F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01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istema Cíclico Sim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ar flota necesaria para operar un sistema cíclico simp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zar sensibilidad de la solución ante variables de oper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sidere una flota de buses que necesita llevar pasajeros desde la periferia al centro de Santiag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a tasa de llegada de los pasajeros al paradero de abordaje es de 5000 [pax/hora], y el tiempo de viaje de los buses en minutos puede ser modelado a través de la f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on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es número de pasajer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4357800" y="4071960"/>
                <a:ext cx="1928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tilice los datos de la tarea dada en clases como tasas de carga/descarga (tasas de subida/bajada de pasaje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capacidad K de los buses es de 80 [pax/bus]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sidere un factor de flota oper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928880" y="4857840"/>
          <a:ext cx="14176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857840"/>
                    <a:ext cx="14176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Calcule la flota necesaria de buses para una operación en que l</a:t>
            </a: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os vehículos transportan a los pasajeros desde la periferia al centro y vuelven vacíos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ill Sans MT"/>
              </a:rPr>
              <a:t>Grafique y explique en base a los resultados obtenido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la tasa de llegada de los pasajeros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el tiempo que se demoran los pasajeros en subir al vehículo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La flota de buses vs la capacidad de los buses (ver siguiente diapositiva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El tiempo de espera promedio de los pasajeros vs la capacidad de los buses; para esto suponga que las llegadas de los pasajeros al paradero de abordaje son uniformes y que los buses pasan con frecuencia regular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91360" indent="-53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El tiempo de ciclo vs la carga de los bus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formación Adi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Tamaños y capacidades de buses disponib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A1 (minibus 8m): 42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A2 (9m): 65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B (12m): 80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lase C (articulado 18.5m): 160 p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un breve informe con el desarrollo del taller y un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10-12T21:21:42Z</dcterms:modified>
  <cp:revision>45</cp:revision>
  <dc:subject/>
  <dc:title>Taller I CI43A</dc:title>
</cp:coreProperties>
</file>