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FC2C2-AD51-431B-9814-4AC1D7609EBF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FD83C-15F8-4178-9731-A4FB0DE3E0A0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C312B-74AC-4E30-8FE3-559DCBF4D035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810F2-B98D-49DA-95BB-A730A7958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88DD0-6212-4273-928D-2B99127B4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E798C-AD6F-42E3-AF49-4B9DEF6F3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C6B82-8610-4934-9BE8-FEAFE5BC4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033E6-294C-42E3-B0CB-E316075DC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4BEE3-2A0E-49C6-8F17-165896605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5A793-5D6B-42DC-AD9D-FCEDC3931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1CC14-E852-493D-9BFC-0946BE4FF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2D371-917C-4C80-B6B8-8CFDF7730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C5568-C740-47D3-8A4C-65D463669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018AE-C9B9-49FB-8C99-7945B39EB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FB3D1-DF28-4D3D-8D01-5F2600F87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7AC61-5395-4868-8346-63BEBB757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511B9-C365-4BC4-9ECD-7462756F9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AE810-8191-4455-8E96-9099D1D09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62D07-D852-4563-AEC3-0257DB6FF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38638-E838-4243-8E68-6E4E920AD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C0529F-B533-4E16-9FBD-E9002F43A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19C14D-602F-43A3-B164-DFCD31CD8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5502B2-3B8A-49F9-AF4B-DCC17DBFD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506142-7F9A-40F6-BD68-F6401FCF1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BF12ED-97C1-437C-B61D-4F3317EEC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7B573-CD73-4517-AC8F-06932605F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3AF6E6-70AC-4760-8C39-92573433D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17D3CF-2E34-4411-8E1B-81CADA4AC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57776D-1F4E-4B1F-AF29-4918084B3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E28F15-A209-44BC-B224-426D1EDC9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C966EC-8D88-4E40-9438-7F6DFD5E5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1910EF-17FC-4506-8B65-45FFD1EC8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46C866-6CFD-4152-91C4-6379ACFD6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65495B-B071-486E-A666-F4EADF462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6417D1-8A0D-4F8F-A3D1-9AFC1C2B7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71EB66-1CEC-468A-A19A-E7BFA34A0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2FEA5-8605-4808-A39D-8A35318EC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B58ED3-A528-4FEC-9CC7-DC90465A1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03A1B6-3D5B-4275-B939-85C7B9964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CD3EC4-FF85-4B26-B83E-27DFFF0D1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6570EC-765C-4F59-930F-C58B2482C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BE7E4E-084D-4ABA-95DF-A3EBAAA2B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72C909-1D54-4B7E-8083-DAAA73170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7A98AA-A51E-4CF6-9C51-96AED68C9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D2FB55-AFAE-4B42-ABF6-EDDEA7AC1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27882A-0B91-47CE-B24B-19986B0C0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5096C1-3954-4DDD-82DE-1D4915C38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6D04F-5018-4BEB-8FDC-AD0215B62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4D9AFA-2142-43AB-A376-5197D5763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9D6B43-AD9F-40BB-890C-C5FA75333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361EC5-F686-49EB-AB2B-21CE14430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62C461-B684-477E-898F-A4C853E26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F3DE9D-1A50-4F4B-B284-10A24B3D6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BC59CE-EF3D-4567-945C-CCA9CA70B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DC0EFC-F18D-4063-8FF3-B0C2F7636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02A564-3D38-4B19-B5CD-27CD628AB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03EAC7-6169-4159-BEC8-0F4CD8FAB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976588-6F09-4A63-8D99-589F9EE62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0E69E-0E12-46A9-B4E1-844C0430C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501F87-2C94-4847-837B-BB9D6CCAB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A0F623-C22E-4A2C-9263-F07C16DC7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5FAE76-2248-4491-9644-A69907E4D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C03F72-FDB0-4D26-98E3-5BE05A307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44B7D1-D70D-4299-8155-7E9EDC232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105B87-F20F-41C2-B269-0D3C5BF1B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44E1E1-94C3-4059-B668-F0EA4E7C0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F0E3A6-31B2-4A72-9341-109A48323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1BC319-DBE3-406A-A048-086BEBF1A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7D13E5-6692-4937-9661-C8411252A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1370E-B000-4085-BE53-5A74A7D2A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6C73E4-5AFC-4789-97C9-3B0D57D49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E0DED7-2662-4D25-B566-8DAF8DE66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87ECAF-0DA8-42FC-A81F-A4104DEFD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6EAF64-F278-480A-AFB7-65F3C7C33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571F2E-A15E-40C9-8174-6B2AC9546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6AEA1F-0476-4EFA-951B-F3C8157A7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A5DC09-36BB-4703-9DAF-8859139F8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2EFAB6-B05E-47FA-AAEC-F647E1D8F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97A6A5-5644-4068-9434-4A71DB07E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BC0A28-812A-4C4B-A9E4-CCBC72CE0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D3EDF-CC70-41AC-8A3D-F6C5BEE6C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6D0BA0-8880-4DDD-8A8B-514883E4F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979D06-9EFE-460B-B9A4-DE8A7D5BE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5AF0CE-FACA-46D6-A1BA-B251F0616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59F130-F2B2-43E7-A216-4103D5713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05217C-B21E-4904-A09A-C0BEE6EB3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E259E-6BAA-4A74-8ADC-93A4372F5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Circular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7 Elipse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10 Anillo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10 Anillo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11 Rectángulo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6808B-A341-4373-BAEC-202B7388C039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14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6 Circular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7 Elipse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10 Anillo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10 Anillo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11 Rectángulo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14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12 Elipse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12 Elipse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13 Elipse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6AC95-C206-47C2-A92E-70699FAB71B5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12 Rectángulo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13 Rectángulo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15 Elipse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15 Elipse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16 Elipse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B751D-01C8-44F3-BCA1-F5867299AC7B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1F372-E11E-4819-BD8F-C0FDC1AABBF6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12 Rectángulo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13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D4789-5A9D-499C-A1B0-8E7F36FCFF43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D91C2-F350-4C5D-B03A-5D489066A5AF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12 Rectángulo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12 Rectángulo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13 Proceso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15 Proceso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71D7A-1EDF-4EAD-92FF-E098A424A321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288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572314"/>
                </a:solidFill>
                <a:latin typeface="Calibri"/>
                <a:ea typeface="Arial"/>
              </a:rPr>
              <a:t>Taller 6 CI4301- Partición Modal</a:t>
            </a: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1357200" y="142848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spcAft>
                <a:spcPts val="601"/>
              </a:spcAft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spcAft>
                <a:spcPts val="601"/>
              </a:spcAft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Partición Modal: Modelo Logit Multinomia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spcAft>
                <a:spcPts val="601"/>
              </a:spcAft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spcAft>
                <a:spcPts val="601"/>
              </a:spcAft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spcAft>
                <a:spcPts val="601"/>
              </a:spcAft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Objetivo:  Explorar propiedades del modelo.</a:t>
            </a: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300" spc="-1" strike="noStrike">
                <a:solidFill>
                  <a:srgbClr val="572314"/>
                </a:solidFill>
                <a:latin typeface="Gill Sans MT"/>
              </a:rPr>
              <a:t>Problem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1142640" y="1285920"/>
            <a:ext cx="8001000" cy="264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1000"/>
          </a:bodyPr>
          <a:p>
            <a:pPr marL="222480" indent="-172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Considere que existen tres modos de transporte: auto, bus y metro.  Además se tienen las siguiente funciones de utilidad para cada modo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22480" indent="-172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22480" indent="-172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Comic Sans MS"/>
              </a:rPr>
              <a:t>auto</a:t>
            </a: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=1,579 - 0,0113 *TV - 0,0016 * Costo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2480" indent="-172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2480" indent="-172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Comic Sans MS"/>
              </a:rPr>
              <a:t>bus</a:t>
            </a: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=-0,0482 * TCAM – 0,0274 * TESP - 0,0113 * TV - 0,0016 * Costo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2480" indent="-172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2480" indent="-172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Comic Sans MS"/>
              </a:rPr>
              <a:t>metro</a:t>
            </a: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=0,2542 -0,0482 * TCAM – 0,0274 * TESP - 0,0113 * TV –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2480" indent="-172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0,0016 * Costo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2480" indent="-172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22480" indent="-172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22480" indent="-172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22480" indent="-172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22480" indent="-172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9" name="2 Marcador de contenido"/>
          <p:cNvSpPr/>
          <p:nvPr/>
        </p:nvSpPr>
        <p:spPr>
          <a:xfrm>
            <a:off x="1214280" y="5072040"/>
            <a:ext cx="792972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Utilice como valores de las variables las que observa diariamente en un viaje a la universidad en un mismo período de tiempo para cada uno de los integrantes del grup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300" spc="-1" strike="noStrike">
                <a:solidFill>
                  <a:srgbClr val="572314"/>
                </a:solidFill>
                <a:latin typeface="Gill Sans MT"/>
              </a:rPr>
              <a:t>Problem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1213920" y="1285560"/>
            <a:ext cx="792972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66400" indent="-2062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Calcule las probabilidades para cada individuo de elegir cada una de las alternativas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66400" indent="-2062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Modificando las observaciones responda las siguientes preguntas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466920" indent="-17244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¿Qué pasa si todas las alternativas tienen la misma utilidad?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466920" indent="-172440">
              <a:lnSpc>
                <a:spcPct val="100000"/>
              </a:lnSpc>
              <a:spcBef>
                <a:spcPts val="12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¿Cuándo se alcanzan los valores límite de la probabilidad    (0 y 1) ?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466920" indent="-172440">
              <a:lnSpc>
                <a:spcPct val="100000"/>
              </a:lnSpc>
              <a:spcBef>
                <a:spcPts val="12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¿Cuál es el efecto de la componente aleatoria representada por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? Evalúe en casos para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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muy grande, muy pequeño e intermedios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466920" indent="-172440">
              <a:lnSpc>
                <a:spcPct val="100000"/>
              </a:lnSpc>
              <a:spcBef>
                <a:spcPts val="12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66400" indent="-206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66400" indent="-206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66400" indent="-206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66400" indent="-206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66400" indent="-206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66400" indent="-206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2" name="2 Marcador de contenido"/>
          <p:cNvSpPr/>
          <p:nvPr/>
        </p:nvSpPr>
        <p:spPr>
          <a:xfrm>
            <a:off x="1285920" y="4786200"/>
            <a:ext cx="735804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36520">
              <a:lnSpc>
                <a:spcPct val="100000"/>
              </a:lnSpc>
              <a:spcBef>
                <a:spcPts val="12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300" spc="-1" strike="noStrike">
                <a:solidFill>
                  <a:srgbClr val="572314"/>
                </a:solidFill>
                <a:latin typeface="Gill Sans MT"/>
              </a:rPr>
              <a:t>Problem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¿De qué depende la razón entre las probabilidades de dos alternativas diferentes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/P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ill Sans MT"/>
              </a:rPr>
              <a:t>Comente acerca de los valores de los parámetros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es-ES_tradnl" sz="2400" spc="-1" strike="noStrike">
                <a:solidFill>
                  <a:srgbClr val="000000"/>
                </a:solidFill>
                <a:latin typeface="Gill Sans MT"/>
              </a:rPr>
              <a:t>. ¿Qué significa que uno de ellos sea mayor o menor en la función de utilidad?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ill Sans MT"/>
              </a:rPr>
              <a:t>Calcule las proporciones entre los valores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es-ES_tradnl" sz="2400" spc="-1" strike="noStrike">
                <a:solidFill>
                  <a:srgbClr val="000000"/>
                </a:solidFill>
                <a:latin typeface="Gill Sans MT"/>
              </a:rPr>
              <a:t> de los tiempos. Interprete los resultados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300" spc="-1" strike="noStrike">
                <a:solidFill>
                  <a:srgbClr val="572314"/>
                </a:solidFill>
                <a:latin typeface="Gill Sans MT"/>
              </a:rPr>
              <a:t>Consideracion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1116000" y="162828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Se deben entregar los archivos con el siguiente formato: apellido1_apellido2.doc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Enviar al mail del curso: tallerci4301@gmail.com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Asunto: Taller n°6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Incluir un </a:t>
            </a:r>
            <a:r>
              <a:rPr b="1" lang="es-CL" sz="2400" spc="-1" strike="noStrike">
                <a:solidFill>
                  <a:srgbClr val="000000"/>
                </a:solidFill>
                <a:latin typeface="Gill Sans MT"/>
              </a:rPr>
              <a:t>breve informe </a:t>
            </a: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con el desarrollo del taller y un </a:t>
            </a:r>
            <a:r>
              <a:rPr b="1" lang="es-CL" sz="2400" spc="-1" strike="noStrike">
                <a:solidFill>
                  <a:srgbClr val="000000"/>
                </a:solidFill>
                <a:latin typeface="Gill Sans MT"/>
              </a:rPr>
              <a:t>archivo .xls </a:t>
            </a: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con los cálculos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En la nota del taller se considera puntaje por la presentación y orden de los archivos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5T21:02:17Z</dcterms:created>
  <dc:creator>hsilva</dc:creator>
  <dc:description/>
  <dc:language>en-US</dc:language>
  <cp:lastModifiedBy>Felipe Murcia</cp:lastModifiedBy>
  <dcterms:modified xsi:type="dcterms:W3CDTF">2010-10-06T17:58:04Z</dcterms:modified>
  <cp:revision>63</cp:revision>
  <dc:subject/>
  <dc:title>Taller I CI43A</dc:title>
</cp:coreProperties>
</file>