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F46B-A495-4126-8B33-038A3346DA0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EE1-99EC-441F-AB73-4B8C026C481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BF1-3FD4-402A-B6F9-9C1CBA44821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F5C-372B-4E04-9E16-47F59E36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4B8-B2DE-4FA2-B381-522F989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06F-88BC-4BFB-8106-5E742705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7FC-C637-4021-8C03-9BAD2D55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49FA-655A-4CF8-AE13-DBD2FE54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4A6-0F4C-4ED1-8BAC-67DC148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7980-4D1A-495D-A55E-F26342AC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11B3-B224-4549-892E-D4A0F38C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3E46-D2F3-4213-8953-994A71E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3CE-5070-4285-B099-3393A2A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FF5A-EDD5-4ABB-8514-D272241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6B1-8A00-420F-A8F9-A896F2A4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8B8B-A61B-4389-A650-31B22CF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5372-A18B-43C5-A69B-720229A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9516-5B5C-4661-B31C-FF9E7717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6EC6-9CC3-4D66-8B4E-5288D901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94A7-4059-4648-8ECD-5F67DD0D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6F86-FD90-4B56-8CEC-0A7E7F01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808D-5E70-43FB-90D6-8C05CE61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F264-F691-4679-ABCB-F4F83B6C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BA45-A476-44A1-AB44-355CB616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9B2C-361A-4062-90CD-4EB34DD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60C-61BD-4FEA-9BA4-F6CEC0CC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1DB0-2243-4867-9484-06985920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2924-7243-4D01-AA64-3894954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184E-E20A-4E40-92C7-7BAC2FD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50D10-6A65-4687-8B26-D158F56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E9920-02A4-4983-B627-01C5B46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A2DD-B7B7-4044-BFD5-04E80E6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211F-B124-468F-B134-9960FDD2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79E7-391E-481C-B117-E1344C8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580F-2FE9-4BD1-8D5B-8BCCC19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192F-1902-4DC6-8A05-4E97046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69F-CD23-4DCE-83D0-5BCC8F08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5A38-6704-47EF-BBE7-B3BFFA2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661F-F694-4AED-A855-1D96D063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4E90-D99B-4E1D-92A8-1FD8FF6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81BCD-361E-4763-9815-293EFF5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8CDE-1573-47CF-8DF3-1A5BA3B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3980-AD02-4931-BBBC-71D8457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6917-6479-42B7-A7BF-DA8D086D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789D-09BB-496A-AF5E-C77389D6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EA68-77D7-437D-9F31-E275A01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85D1-952E-494C-8B94-89B4F075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910-83FD-409D-BC19-B13D584F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2B134-88FE-4822-906B-D84AD23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81C2-F205-449C-8B5A-E1B810C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976E-C38C-4CBD-8FCB-F694E20B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D692-90D4-49FC-AE5F-42C20C2A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D034-3D0A-483A-9033-B7CBD404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22D8-729A-4C14-A3BD-3E1F566D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347E-B302-42E0-925F-584A8C1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7C90-38D8-4B29-AB56-10A5672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2294A-DCD1-4462-9A3E-49CEE2EB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5C3C-7B79-4B11-8E2F-6457FE7F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85C0-07C8-4FEC-A140-67A4EE4E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0143-8194-4410-824F-993A8D5F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C90D-8476-43FA-B934-C4ED607B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8166A-503C-457C-9EF4-96A3F27F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4D98-AFF2-4B17-BA5C-4CC58DEE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9042-3B0E-486C-9A1A-8AC7181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5BBA-58C8-455B-B149-F6C9016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AD02-E224-4A8C-BDC8-F4E678C9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6B0C-ABC4-4561-B936-210F163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E71E-6CE5-4FA3-BB1D-7E3084A7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3B28B-FE8D-4BC3-B998-1C51853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7B4-CC0F-4F03-9385-9619B3C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E6012-CB82-4E3A-87A9-4BF618B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1A68C-1139-4B69-A950-00FE854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1C16-5A2F-4A0E-9E76-607CB3B7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EBC9-CE67-4EDD-A3EF-1EA2B25B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475DF-FD19-4A70-B33F-8B99969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0194D-A9BB-4E95-B0D5-0DDD4BE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A2AF8-E575-4C6B-9696-AFAE496B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5FC5F-BDB5-4612-9D8A-95E761FA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D919D-440C-492D-9112-8BCFA8F2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B4BF6-D08A-44EB-A531-69D037FE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FC8-372E-47A2-8540-9B64109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B377E-5323-4B70-8C90-4649558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D54E8-3438-413E-8A90-02D42EF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EC68-0C63-49C3-8689-3E8738E3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100D6-1796-41FB-BA26-159390C6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3671C-6558-473E-935F-E0D1B932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32D-F851-43BA-AD08-CD67F6A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A1D-4FB9-490E-83BF-63A6F0F0F63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A300-6FF4-41C6-85D7-D48BE8893D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073E-69C7-4251-B056-A112BFAED6D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6027-4945-4F4A-86B0-91DC3FE5869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A02-A26E-4E11-8423-C122A4369BA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2D82-130B-4EBF-918A-C685239D76B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00D-8270-42C5-B9BE-99EC8C044F4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01- Partición Modal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os parámetr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. ¿Qué significa que uno de ellos sea mayor o menor en la función de utilida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01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Felipe Murcia</cp:lastModifiedBy>
  <dcterms:modified xsi:type="dcterms:W3CDTF">2010-10-06T17:58:04Z</dcterms:modified>
  <cp:revision>63</cp:revision>
  <dc:subject/>
  <dc:title>Taller I CI43A</dc:title>
</cp:coreProperties>
</file>