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A8A-4C6A-4A46-AC4F-1B83694B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AAE-79EB-4BDF-A563-4B898EA1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D2D-6348-4110-A5DC-F4D0660F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306-D457-46F3-8679-D9565289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2D5-57DA-4218-925D-71E1F7EC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E98-BA54-4E23-A775-9ED3FC01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B9D-4F1C-4A70-A16F-496676A2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9E0F-D256-44DF-8E2A-501E0A42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93D-E140-4E91-8BC2-97E1CCF8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D46-8223-48BD-95AF-C37C375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2BE-B4FE-4540-BE89-386FF5E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6DC-38F8-44A3-8DCC-278D4620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1723-4B64-41ED-AD63-28004BEE980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0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4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1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4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0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12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Line 5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3505320" y="2514600"/>
            <a:ext cx="4343400" cy="322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4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5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Text Box 9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7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Text Box 10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Impacto de la partición modal en el desarrollo de la ciu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2276640"/>
            <a:ext cx="8425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qué tipo de ciudad que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para qué queremos la ciu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hacia qué tipo de ciudad nos estamos movie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se puede hacer algo disti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29560" cy="234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4751280" cy="249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627280" y="2852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Informe Ejecutivo EOD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305193596_5e0105ba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1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AutoShape 12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Text Box 12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13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AutoShape 11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 Marcela Munizaga</cp:lastModifiedBy>
  <dcterms:modified xsi:type="dcterms:W3CDTF">2009-09-11T15:12:03Z</dcterms:modified>
  <cp:revision>74</cp:revision>
  <dc:subject/>
  <dc:title>Sin título de diapositiva</dc:title>
</cp:coreProperties>
</file>