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F9C1-5342-4F87-900D-0520B2D1E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A217-59D3-4B06-933C-149446148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29C7-DAE9-4EA2-B3C2-D2F51C1BA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B0D2-DED7-4BFB-854E-DE86B3F8D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973F-14F3-4F87-A138-187C08636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812C-819F-4B3A-82E0-9C5D9629B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1EF9-9F07-437B-A2F5-41CAB892C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0338-CA14-4681-A447-69BA5FB24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FC11-3F3B-49DC-B662-A8B848366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3281-B684-492F-86A6-6AE40FF10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7B4A-91B2-464F-8EE8-C81F75FD0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8CD6-83B5-44FD-8A1D-9161BEC70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08073-ABCE-493A-91B9-8FBC4522C071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Modelación de la Partición Mod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21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2"/>
          <p:cNvSpPr/>
          <p:nvPr/>
        </p:nvSpPr>
        <p:spPr>
          <a:xfrm>
            <a:off x="99072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3"/>
          <p:cNvSpPr/>
          <p:nvPr/>
        </p:nvSpPr>
        <p:spPr>
          <a:xfrm>
            <a:off x="99072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24"/>
          <p:cNvSpPr/>
          <p:nvPr/>
        </p:nvSpPr>
        <p:spPr>
          <a:xfrm>
            <a:off x="990720" y="4343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25"/>
          <p:cNvSpPr/>
          <p:nvPr/>
        </p:nvSpPr>
        <p:spPr>
          <a:xfrm>
            <a:off x="10666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26"/>
          <p:cNvSpPr/>
          <p:nvPr/>
        </p:nvSpPr>
        <p:spPr>
          <a:xfrm>
            <a:off x="838080" y="2133720"/>
            <a:ext cx="8384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27"/>
          <p:cNvSpPr/>
          <p:nvPr/>
        </p:nvSpPr>
        <p:spPr>
          <a:xfrm>
            <a:off x="838080" y="31240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28"/>
          <p:cNvSpPr/>
          <p:nvPr/>
        </p:nvSpPr>
        <p:spPr>
          <a:xfrm>
            <a:off x="762120" y="4267080"/>
            <a:ext cx="990360" cy="6098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29"/>
          <p:cNvSpPr/>
          <p:nvPr/>
        </p:nvSpPr>
        <p:spPr>
          <a:xfrm>
            <a:off x="838080" y="5410080"/>
            <a:ext cx="99072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30"/>
          <p:cNvSpPr/>
          <p:nvPr/>
        </p:nvSpPr>
        <p:spPr>
          <a:xfrm>
            <a:off x="121932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31"/>
          <p:cNvSpPr/>
          <p:nvPr/>
        </p:nvSpPr>
        <p:spPr>
          <a:xfrm>
            <a:off x="1219320" y="3733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32"/>
          <p:cNvSpPr/>
          <p:nvPr/>
        </p:nvSpPr>
        <p:spPr>
          <a:xfrm>
            <a:off x="121932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33"/>
          <p:cNvSpPr/>
          <p:nvPr/>
        </p:nvSpPr>
        <p:spPr>
          <a:xfrm>
            <a:off x="1828800" y="5715000"/>
            <a:ext cx="685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34"/>
          <p:cNvSpPr/>
          <p:nvPr/>
        </p:nvSpPr>
        <p:spPr>
          <a:xfrm flipV="1">
            <a:off x="2514600" y="464796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35"/>
          <p:cNvSpPr/>
          <p:nvPr/>
        </p:nvSpPr>
        <p:spPr>
          <a:xfrm flipH="1">
            <a:off x="1752120" y="4648320"/>
            <a:ext cx="762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36"/>
          <p:cNvSpPr/>
          <p:nvPr/>
        </p:nvSpPr>
        <p:spPr>
          <a:xfrm flipV="1">
            <a:off x="2514600" y="342864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37"/>
          <p:cNvSpPr/>
          <p:nvPr/>
        </p:nvSpPr>
        <p:spPr>
          <a:xfrm flipV="1">
            <a:off x="2514600" y="24382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51"/>
          <p:cNvSpPr/>
          <p:nvPr/>
        </p:nvSpPr>
        <p:spPr>
          <a:xfrm flipH="1">
            <a:off x="1676520" y="33526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54"/>
          <p:cNvSpPr/>
          <p:nvPr/>
        </p:nvSpPr>
        <p:spPr>
          <a:xfrm flipH="1">
            <a:off x="1676520" y="24382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55"/>
          <p:cNvSpPr/>
          <p:nvPr/>
        </p:nvSpPr>
        <p:spPr>
          <a:xfrm>
            <a:off x="4191120" y="1828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56"/>
          <p:cNvSpPr/>
          <p:nvPr/>
        </p:nvSpPr>
        <p:spPr>
          <a:xfrm>
            <a:off x="4038480" y="17524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57"/>
          <p:cNvSpPr/>
          <p:nvPr/>
        </p:nvSpPr>
        <p:spPr>
          <a:xfrm>
            <a:off x="4419720" y="2362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58"/>
          <p:cNvSpPr/>
          <p:nvPr/>
        </p:nvSpPr>
        <p:spPr>
          <a:xfrm>
            <a:off x="3962520" y="2971800"/>
            <a:ext cx="41907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(para un cierto periodo -propósito-tipo de perso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59"/>
          <p:cNvSpPr/>
          <p:nvPr/>
        </p:nvSpPr>
        <p:spPr>
          <a:xfrm>
            <a:off x="434340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60"/>
          <p:cNvSpPr/>
          <p:nvPr/>
        </p:nvSpPr>
        <p:spPr>
          <a:xfrm>
            <a:off x="4114800" y="4191120"/>
            <a:ext cx="990720" cy="6094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61"/>
          <p:cNvSpPr/>
          <p:nvPr/>
        </p:nvSpPr>
        <p:spPr>
          <a:xfrm>
            <a:off x="4572000" y="4800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62"/>
          <p:cNvSpPr/>
          <p:nvPr/>
        </p:nvSpPr>
        <p:spPr>
          <a:xfrm>
            <a:off x="4114800" y="541008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porción de usuarios que utiliza cada mo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914400" y="1143000"/>
            <a:ext cx="8001000" cy="56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ómo estim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observamos los atributos (X) y las elecciones (i) de muchos individu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buscamos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' tal que las predicciones sean buenas, al menos para la muestra de calib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ómo sabemos si son buen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Max P(Felipe elija bus, Juan elija metro, Camila elija bu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      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=P(Bus/(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F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,X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F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)· P(Metro/(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,X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)· P(Bus/(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,X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)·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Maximizar la probabilidad de que lo predicho sea igual a lo observ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--&gt; MÁXIMA VEROSIMILIT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914400" y="1143000"/>
            <a:ext cx="8001000" cy="53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piedades del modelo MNL (Logit Multinom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Qué pasa si todas las alternativas tienen la misma utilida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uando se alcanzan los valores límite 0 y 1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fecto de la componente aleatoria representada por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y gra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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y pequ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dependencia de alternativas irrelev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914400" y="1143000"/>
            <a:ext cx="8001000" cy="41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piedades del modelo MNL (Logit Multinom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nstantes modales (específic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1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1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2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2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3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2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4"/>
          <p:cNvSpPr/>
          <p:nvPr/>
        </p:nvSpPr>
        <p:spPr>
          <a:xfrm flipH="1">
            <a:off x="1905120" y="4191120"/>
            <a:ext cx="380880" cy="4572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914400" y="51814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terpretación de los parámetros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914400" y="1143000"/>
            <a:ext cx="800100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pecificación de 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te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D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S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CAM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icroeconomía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4"/>
              <p:cNvSpPr txBox="1"/>
              <p:nvPr/>
            </p:nvSpPr>
            <p:spPr>
              <a:xfrm>
                <a:off x="1447920" y="2971800"/>
                <a:ext cx="154944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ST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iemp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o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7" name="Text Box 5"/>
          <p:cNvSpPr/>
          <p:nvPr/>
        </p:nvSpPr>
        <p:spPr>
          <a:xfrm>
            <a:off x="3657600" y="2971800"/>
            <a:ext cx="5029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uánto estoy dispuesto a pagar por ahorrarme un minu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scuti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914400" y="44197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ariabl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3124080" y="44197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i, Q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914400" y="4952880"/>
            <a:ext cx="7391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Variables socioeconómica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otras variables que describen al individuo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greso, género, edad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152280" y="15228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914400" y="1143000"/>
            <a:ext cx="8001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asticidades      ¿sign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990720" y="281952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asticidad cruza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990720" y="44956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nálisis de sen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6"/>
              <p:cNvSpPr txBox="1"/>
              <p:nvPr/>
            </p:nvSpPr>
            <p:spPr>
              <a:xfrm>
                <a:off x="990720" y="1676520"/>
                <a:ext cx="266688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Object 7"/>
              <p:cNvSpPr txBox="1"/>
              <p:nvPr/>
            </p:nvSpPr>
            <p:spPr>
              <a:xfrm>
                <a:off x="5867280" y="1143000"/>
                <a:ext cx="2590920" cy="19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q</m:t>
                                    </m:r>
                                  </m:sub>
                                </m:sSub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jq</m:t>
                                        </m:r>
                                      </m:sub>
                                    </m:sSub>
                                  </m:e>
                                </m:nary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8"/>
              <p:cNvSpPr txBox="1"/>
              <p:nvPr/>
            </p:nvSpPr>
            <p:spPr>
              <a:xfrm>
                <a:off x="1143000" y="3276720"/>
                <a:ext cx="2895480" cy="11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q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q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ct 9"/>
              <p:cNvSpPr txBox="1"/>
              <p:nvPr/>
            </p:nvSpPr>
            <p:spPr>
              <a:xfrm>
                <a:off x="1066680" y="5105520"/>
                <a:ext cx="182880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P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ct 10"/>
              <p:cNvSpPr txBox="1"/>
              <p:nvPr/>
            </p:nvSpPr>
            <p:spPr>
              <a:xfrm>
                <a:off x="2971800" y="5105520"/>
                <a:ext cx="1371600" cy="84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Object 11"/>
              <p:cNvSpPr txBox="1"/>
              <p:nvPr/>
            </p:nvSpPr>
            <p:spPr>
              <a:xfrm>
                <a:off x="4343400" y="5029200"/>
                <a:ext cx="289548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ΔP</m:t>
                    </m:r>
                    <m:r>
                      <m:t xml:space="preserve">≈</m:t>
                    </m:r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P</m:t>
                        </m:r>
                      </m:sup>
                    </m:sSubSup>
                    <m:r>
                      <m:t xml:space="preserve">⋅</m:t>
                    </m:r>
                    <m:r>
                      <m:t xml:space="preserve">ΔX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2" name="Text Box 12"/>
          <p:cNvSpPr/>
          <p:nvPr/>
        </p:nvSpPr>
        <p:spPr>
          <a:xfrm>
            <a:off x="1143000" y="617220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Buena aproximación s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3"/>
          <p:cNvSpPr/>
          <p:nvPr/>
        </p:nvSpPr>
        <p:spPr>
          <a:xfrm>
            <a:off x="5029200" y="6019920"/>
            <a:ext cx="388620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 es pequ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i es lin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914400" y="11430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probabilidad de elección  es individual ¿cómo agregar para realizar predicciones para una pobl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4"/>
              <p:cNvSpPr txBox="1"/>
              <p:nvPr/>
            </p:nvSpPr>
            <p:spPr>
              <a:xfrm>
                <a:off x="685800" y="2057400"/>
                <a:ext cx="1752480" cy="13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q</m:t>
                                    </m:r>
                                  </m:sub>
                                </m:sSub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jq</m:t>
                                        </m:r>
                                      </m:sub>
                                    </m:sSub>
                                  </m:e>
                                </m:nary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7" name="Line 5"/>
          <p:cNvSpPr/>
          <p:nvPr/>
        </p:nvSpPr>
        <p:spPr>
          <a:xfrm flipH="1" flipV="1">
            <a:off x="3886200" y="2209320"/>
            <a:ext cx="1440" cy="358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6"/>
          <p:cNvSpPr/>
          <p:nvPr/>
        </p:nvSpPr>
        <p:spPr>
          <a:xfrm>
            <a:off x="3886200" y="57913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Freeform 7"/>
          <p:cNvSpPr/>
          <p:nvPr/>
        </p:nvSpPr>
        <p:spPr>
          <a:xfrm>
            <a:off x="3505320" y="2514600"/>
            <a:ext cx="4343400" cy="322596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3352680" y="21337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8229600" y="5943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10"/>
          <p:cNvSpPr/>
          <p:nvPr/>
        </p:nvSpPr>
        <p:spPr>
          <a:xfrm>
            <a:off x="4495680" y="5715000"/>
            <a:ext cx="0" cy="763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11"/>
          <p:cNvSpPr/>
          <p:nvPr/>
        </p:nvSpPr>
        <p:spPr>
          <a:xfrm>
            <a:off x="4343400" y="57150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12"/>
          <p:cNvSpPr/>
          <p:nvPr/>
        </p:nvSpPr>
        <p:spPr>
          <a:xfrm>
            <a:off x="5791320" y="4267080"/>
            <a:ext cx="0" cy="15242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3"/>
          <p:cNvSpPr/>
          <p:nvPr/>
        </p:nvSpPr>
        <p:spPr>
          <a:xfrm>
            <a:off x="5562720" y="57150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14"/>
          <p:cNvSpPr/>
          <p:nvPr/>
        </p:nvSpPr>
        <p:spPr>
          <a:xfrm flipH="1">
            <a:off x="3885840" y="5715000"/>
            <a:ext cx="609480" cy="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2895480" y="5410080"/>
            <a:ext cx="1067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(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16"/>
          <p:cNvSpPr/>
          <p:nvPr/>
        </p:nvSpPr>
        <p:spPr>
          <a:xfrm flipH="1">
            <a:off x="3886200" y="4267080"/>
            <a:ext cx="1905120" cy="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7"/>
          <p:cNvSpPr/>
          <p:nvPr/>
        </p:nvSpPr>
        <p:spPr>
          <a:xfrm>
            <a:off x="2971800" y="403848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(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18"/>
          <p:cNvSpPr/>
          <p:nvPr/>
        </p:nvSpPr>
        <p:spPr>
          <a:xfrm flipV="1">
            <a:off x="5181480" y="5791320"/>
            <a:ext cx="0" cy="4572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9"/>
          <p:cNvSpPr/>
          <p:nvPr/>
        </p:nvSpPr>
        <p:spPr>
          <a:xfrm>
            <a:off x="4572000" y="6248520"/>
            <a:ext cx="1752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+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20"/>
          <p:cNvSpPr/>
          <p:nvPr/>
        </p:nvSpPr>
        <p:spPr>
          <a:xfrm flipV="1">
            <a:off x="5181480" y="5409720"/>
            <a:ext cx="0" cy="3812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21"/>
          <p:cNvSpPr/>
          <p:nvPr/>
        </p:nvSpPr>
        <p:spPr>
          <a:xfrm flipH="1">
            <a:off x="3886200" y="5410080"/>
            <a:ext cx="12952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22"/>
          <p:cNvSpPr/>
          <p:nvPr/>
        </p:nvSpPr>
        <p:spPr>
          <a:xfrm>
            <a:off x="2209680" y="5410080"/>
            <a:ext cx="167652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23"/>
          <p:cNvSpPr/>
          <p:nvPr/>
        </p:nvSpPr>
        <p:spPr>
          <a:xfrm>
            <a:off x="152280" y="5257800"/>
            <a:ext cx="2057400" cy="5101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{(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+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/2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24"/>
          <p:cNvSpPr/>
          <p:nvPr/>
        </p:nvSpPr>
        <p:spPr>
          <a:xfrm flipH="1">
            <a:off x="2209320" y="4952880"/>
            <a:ext cx="167652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25"/>
          <p:cNvSpPr/>
          <p:nvPr/>
        </p:nvSpPr>
        <p:spPr>
          <a:xfrm>
            <a:off x="762120" y="4648320"/>
            <a:ext cx="1447560" cy="5101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+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26"/>
          <p:cNvSpPr/>
          <p:nvPr/>
        </p:nvSpPr>
        <p:spPr>
          <a:xfrm>
            <a:off x="2590920" y="3733920"/>
            <a:ext cx="0" cy="121896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27"/>
          <p:cNvSpPr/>
          <p:nvPr/>
        </p:nvSpPr>
        <p:spPr>
          <a:xfrm flipV="1">
            <a:off x="2590920" y="5410080"/>
            <a:ext cx="0" cy="4572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28"/>
          <p:cNvSpPr/>
          <p:nvPr/>
        </p:nvSpPr>
        <p:spPr>
          <a:xfrm>
            <a:off x="152280" y="358128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esgo de agreg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838080" y="37339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foque inoc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0"/>
              <p:cNvSpPr txBox="1"/>
              <p:nvPr/>
            </p:nvSpPr>
            <p:spPr>
              <a:xfrm>
                <a:off x="4495680" y="3733920"/>
                <a:ext cx="198144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4" name="Text Box 5"/>
          <p:cNvSpPr/>
          <p:nvPr/>
        </p:nvSpPr>
        <p:spPr>
          <a:xfrm>
            <a:off x="914400" y="47242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umeración mues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1"/>
              <p:cNvSpPr txBox="1"/>
              <p:nvPr/>
            </p:nvSpPr>
            <p:spPr>
              <a:xfrm>
                <a:off x="4572000" y="4495680"/>
                <a:ext cx="213372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6" name="Text Box 7"/>
          <p:cNvSpPr/>
          <p:nvPr/>
        </p:nvSpPr>
        <p:spPr>
          <a:xfrm>
            <a:off x="914400" y="56386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las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2"/>
              <p:cNvSpPr txBox="1"/>
              <p:nvPr/>
            </p:nvSpPr>
            <p:spPr>
              <a:xfrm>
                <a:off x="4038480" y="5562720"/>
                <a:ext cx="243864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c</m:t>
                        </m:r>
                        <m:r>
                          <m:t xml:space="preserve">∈</m:t>
                        </m:r>
                        <m:r>
                          <m:t xml:space="preserve">Q</m:t>
                        </m:r>
                      </m:sub>
                      <m:sup/>
                      <m:e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8" name="Text Box 9"/>
          <p:cNvSpPr/>
          <p:nvPr/>
        </p:nvSpPr>
        <p:spPr>
          <a:xfrm>
            <a:off x="457200" y="11430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tición de mercado agreg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609480" y="2743200"/>
            <a:ext cx="7696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blema: necesitamos calcular 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q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para toda la pob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0" name="Object 3"/>
          <p:cNvGraphicFramePr/>
          <p:nvPr/>
        </p:nvGraphicFramePr>
        <p:xfrm>
          <a:off x="609480" y="1523880"/>
          <a:ext cx="13106520" cy="1067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523880"/>
                    <a:ext cx="1310652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762120" y="12952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orma Incremental del modelo Lo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Object 4"/>
              <p:cNvSpPr txBox="1"/>
              <p:nvPr/>
            </p:nvSpPr>
            <p:spPr>
              <a:xfrm>
                <a:off x="990720" y="2133720"/>
                <a:ext cx="1676160" cy="13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5"/>
              <p:cNvSpPr txBox="1"/>
              <p:nvPr/>
            </p:nvSpPr>
            <p:spPr>
              <a:xfrm>
                <a:off x="3124080" y="2057400"/>
                <a:ext cx="182880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f</m:t>
                                </m:r>
                              </m:sup>
                            </m:sSubSup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f</m:t>
                                    </m:r>
                                  </m:sup>
                                </m:sSubSup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6"/>
              <p:cNvSpPr txBox="1"/>
              <p:nvPr/>
            </p:nvSpPr>
            <p:spPr>
              <a:xfrm>
                <a:off x="5410080" y="2057400"/>
                <a:ext cx="2286000" cy="14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Δ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Δ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7" name="Text Box 7"/>
          <p:cNvSpPr/>
          <p:nvPr/>
        </p:nvSpPr>
        <p:spPr>
          <a:xfrm>
            <a:off x="800100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8"/>
              <p:cNvSpPr txBox="1"/>
              <p:nvPr/>
            </p:nvSpPr>
            <p:spPr>
              <a:xfrm>
                <a:off x="1066680" y="3809880"/>
                <a:ext cx="2286000" cy="13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Δ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Δ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9" name="Text Box 9"/>
          <p:cNvSpPr/>
          <p:nvPr/>
        </p:nvSpPr>
        <p:spPr>
          <a:xfrm>
            <a:off x="4419720" y="3962520"/>
            <a:ext cx="41148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ólo necesitamos 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cambios propuestos y sensibilidad a esos cambios para pivotear en torno a la situación actu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914400" y="1143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timación del modelo Logi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838080" y="37339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 puede demostrar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990720" y="175248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990720" y="28195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&lt;==&gt;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7"/>
              <p:cNvSpPr txBox="1"/>
              <p:nvPr/>
            </p:nvSpPr>
            <p:spPr>
              <a:xfrm>
                <a:off x="2286000" y="1676520"/>
                <a:ext cx="449568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q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t xml:space="preserve">δ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 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</m:t>
                              </m:r>
                              <m:r>
                                <m:t xml:space="preserve"> </m:t>
                              </m:r>
                              <m:r>
                                <m:t xml:space="preserve">q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elige</m:t>
                              </m:r>
                              <m:r>
                                <m:t xml:space="preserve"> </m:t>
                              </m:r>
                              <m:r>
                                <m:t xml:space="preserve">j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no</m:t>
                              </m:r>
                              <m:r>
                                <m:t xml:space="preserve"> 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8"/>
              <p:cNvSpPr txBox="1"/>
              <p:nvPr/>
            </p:nvSpPr>
            <p:spPr>
              <a:xfrm>
                <a:off x="2743200" y="2679840"/>
                <a:ext cx="251460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q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q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9"/>
              <p:cNvSpPr txBox="1"/>
              <p:nvPr/>
            </p:nvSpPr>
            <p:spPr>
              <a:xfrm>
                <a:off x="1712880" y="4286160"/>
                <a:ext cx="5259600" cy="119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q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8" name="Text Box 10"/>
          <p:cNvSpPr/>
          <p:nvPr/>
        </p:nvSpPr>
        <p:spPr>
          <a:xfrm>
            <a:off x="1143000" y="563868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l modelo reproduce las particiones de mercado observ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304920" y="114300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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og (pro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838080" y="4343400"/>
            <a:ext cx="739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(0): log verosimilitud del modelo equiprob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*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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log verosimilitud del modelo estim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2438280" y="1143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áximo teórico = 0 , nunca se alc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380880" y="22096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tadígraf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838080" y="541008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(C): log verosimilitud del modelo sólo constantes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(reproduce las particiones de mercado observad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7"/>
              <p:cNvSpPr txBox="1"/>
              <p:nvPr/>
            </p:nvSpPr>
            <p:spPr>
              <a:xfrm>
                <a:off x="2743200" y="1981080"/>
                <a:ext cx="12193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k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8"/>
              <p:cNvSpPr txBox="1"/>
              <p:nvPr/>
            </p:nvSpPr>
            <p:spPr>
              <a:xfrm>
                <a:off x="914400" y="3352680"/>
                <a:ext cx="205740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ρ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9"/>
              <p:cNvSpPr txBox="1"/>
              <p:nvPr/>
            </p:nvSpPr>
            <p:spPr>
              <a:xfrm>
                <a:off x="4191120" y="3352680"/>
                <a:ext cx="205740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10"/>
              <p:cNvSpPr txBox="1"/>
              <p:nvPr/>
            </p:nvSpPr>
            <p:spPr>
              <a:xfrm>
                <a:off x="6172200" y="990720"/>
                <a:ext cx="2590920" cy="19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q</m:t>
                                    </m:r>
                                  </m:sub>
                                </m:sSub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jq</m:t>
                                        </m:r>
                                      </m:sub>
                                    </m:sSub>
                                  </m:e>
                                </m:nary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8" name="Text Box 11"/>
          <p:cNvSpPr/>
          <p:nvPr/>
        </p:nvSpPr>
        <p:spPr>
          <a:xfrm>
            <a:off x="15228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3300"/>
                </a:solidFill>
                <a:latin typeface="Comic Sans MS"/>
              </a:rPr>
              <a:t>Modelación de la Partición Modal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3300"/>
                </a:solidFill>
                <a:latin typeface="Comic Sans MS"/>
              </a:rPr>
              <a:t>Impacto de la partición modal en el desarrollo de la ciu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539640" y="2276640"/>
            <a:ext cx="842508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¿qué tipo de ciudad queremo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¿para qué queremos la ciuda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¿hacia qué tipo de ciudad nos estamos movien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¿se puede hacer algo distint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7729560" cy="2340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2"/>
          <a:stretch/>
        </p:blipFill>
        <p:spPr>
          <a:xfrm>
            <a:off x="3276720" y="3141720"/>
            <a:ext cx="4751280" cy="24969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4"/>
          <p:cNvSpPr/>
          <p:nvPr/>
        </p:nvSpPr>
        <p:spPr>
          <a:xfrm>
            <a:off x="2627280" y="2852640"/>
            <a:ext cx="532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uente: Informe Ejecutivo EOD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305193596_5e0105ba07"/>
          <p:cNvPicPr/>
          <p:nvPr/>
        </p:nvPicPr>
        <p:blipFill>
          <a:blip r:embed="rId1"/>
          <a:stretch/>
        </p:blipFill>
        <p:spPr>
          <a:xfrm>
            <a:off x="539640" y="404640"/>
            <a:ext cx="8064720" cy="583272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7">
            <a:hlinkClick r:id="rId2" action="ppaction://hlinksldjump"/>
          </p:cNvPr>
          <p:cNvSpPr/>
          <p:nvPr/>
        </p:nvSpPr>
        <p:spPr>
          <a:xfrm>
            <a:off x="8317080" y="638172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Modelación de la Partición 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914400" y="11430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18"/>
          <p:cNvSpPr/>
          <p:nvPr/>
        </p:nvSpPr>
        <p:spPr>
          <a:xfrm>
            <a:off x="406800" y="1211400"/>
            <a:ext cx="7809840" cy="25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ación desagregada =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tender al individ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oría del Consum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 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de qué depende 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Teoría de elecciones discretas: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Object 21"/>
              <p:cNvSpPr txBox="1"/>
              <p:nvPr/>
            </p:nvSpPr>
            <p:spPr>
              <a:xfrm>
                <a:off x="685800" y="3886200"/>
                <a:ext cx="8458200" cy="25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e>
                        <m:e>
                          <m:r>
                            <m:t xml:space="preserve">U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)</m:t>
                          </m:r>
                        </m:e>
                      </m:mr>
                      <m:mr>
                        <m:e>
                          <m:r>
                            <m:t xml:space="preserve">X</m:t>
                          </m:r>
                          <m:r>
                            <m:t xml:space="preserve">,</m:t>
                          </m:r>
                          <m:r>
                            <m:t xml:space="preserve">i</m:t>
                          </m:r>
                        </m:e>
                        <m:e/>
                      </m:mr>
                      <m:mr>
                        <m:e/>
                        <m:e>
                          <m:r>
                            <m:t xml:space="preserve">s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a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j</m:t>
                              </m:r>
                            </m:sub>
                            <m:sup/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≤</m:t>
                              </m:r>
                              <m:r>
                                <m:t xml:space="preserve">I</m:t>
                              </m:r>
                            </m:e>
                          </m:nary>
                        </m:e>
                      </m:mr>
                      <m:mr>
                        <m:e/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  <m:r>
                            <m:t xml:space="preserve">≥</m:t>
                          </m:r>
                          <m:r>
                            <m:t xml:space="preserve">0</m:t>
                          </m:r>
                        </m:e>
                      </m:mr>
                      <m:mr>
                        <m:e/>
                        <m:e>
                          <m:r>
                            <m:t xml:space="preserve">i</m:t>
                          </m:r>
                          <m:r>
                            <m:t xml:space="preserve">∈</m:t>
                          </m:r>
                          <m:r>
                            <m:t xml:space="preserve">A</m:t>
                          </m:r>
                        </m:e>
                      </m:mr>
                    </m:m>
                    <m:m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>
                          <m:r>
                            <m:t xml:space="preserve">A</m:t>
                          </m:r>
                          <m:r>
                            <m:t xml:space="preserve">:</m:t>
                          </m:r>
                          <m:r>
                            <m:rPr>
                              <m:lit/>
                              <m:nor/>
                            </m:rPr>
                            <m:t xml:space="preserve">conjunto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e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lternativas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isponibles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Teoría de elecciones discr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914400" y="1143000"/>
            <a:ext cx="7696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imización en dos etapas: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5410080" y="3809880"/>
            <a:ext cx="35053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Función de utilidad indirecta condic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V(I-C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,P,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9"/>
              <p:cNvSpPr txBox="1"/>
              <p:nvPr/>
            </p:nvSpPr>
            <p:spPr>
              <a:xfrm>
                <a:off x="609480" y="1828800"/>
                <a:ext cx="3810240" cy="23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e>
                      </m:mr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>
                          <m:r>
                            <m:t xml:space="preserve"> </m:t>
                          </m:r>
                          <m:m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e>
                              <m:e>
                                <m:r>
                                  <m:t xml:space="preserve">U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X</m:t>
                                </m:r>
                              </m:e>
                              <m:e/>
                            </m:mr>
                            <m:mr>
                              <m:e/>
                              <m:e>
                                <m:r>
                                  <m:t xml:space="preserve">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a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 </m:t>
                                </m:r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r>
                                      <m:t xml:space="preserve">≤</m:t>
                                    </m:r>
                                    <m:r>
                                      <m:t xml:space="preserve">I</m:t>
                                    </m:r>
                                  </m:e>
                                </m:nary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mr>
                            <m:mr>
                              <m:e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≥</m:t>
                                </m:r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/>
                              <m:e/>
                            </m:mr>
                          </m:m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10"/>
              <p:cNvSpPr txBox="1"/>
              <p:nvPr/>
            </p:nvSpPr>
            <p:spPr>
              <a:xfrm>
                <a:off x="5257800" y="2362320"/>
                <a:ext cx="266688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X</m:t>
                    </m:r>
                    <m:r>
                      <m:t xml:space="preserve">∗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Object 11"/>
              <p:cNvSpPr txBox="1"/>
              <p:nvPr/>
            </p:nvSpPr>
            <p:spPr>
              <a:xfrm>
                <a:off x="5715000" y="3048120"/>
                <a:ext cx="19810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*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6" name="AutoShape 12"/>
          <p:cNvSpPr/>
          <p:nvPr/>
        </p:nvSpPr>
        <p:spPr>
          <a:xfrm>
            <a:off x="4495680" y="1905120"/>
            <a:ext cx="304920" cy="1828800"/>
          </a:xfrm>
          <a:custGeom>
            <a:avLst/>
            <a:gdLst>
              <a:gd name="textAreaLeft" fmla="*/ 0 w 304920"/>
              <a:gd name="textAreaRight" fmla="*/ 110160 w 3049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13"/>
              <p:cNvSpPr txBox="1"/>
              <p:nvPr/>
            </p:nvSpPr>
            <p:spPr>
              <a:xfrm>
                <a:off x="774720" y="5181480"/>
                <a:ext cx="386064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</m:e>
                      </m:mr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>
                          <m:r>
                            <m:t xml:space="preserve"> </m:t>
                          </m:r>
                          <m:m>
                            <m:mr>
                              <m:e>
                                <m:limLow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ax</m:t>
                                    </m:r>
                                  </m:e>
                                  <m:lim>
                                    <m:r>
                                      <m:t xml:space="preserve">i</m:t>
                                    </m:r>
                                  </m:lim>
                                </m:limLow>
                              </m:e>
                              <m:e>
                                <m:r>
                                  <m:t xml:space="preserve">V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I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r>
                                      <m:t xml:space="preserve">P</m:t>
                                    </m:r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mr>
                            <m:mr>
                              <m:e/>
                              <m:e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V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I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r>
                                      <m:t xml:space="preserve">P</m:t>
                                    </m:r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mr>
                            <m:mr>
                              <m:e/>
                              <m:e/>
                            </m:mr>
                            <m:mr>
                              <m:e/>
                              <m:e/>
                            </m:mr>
                            <m:mr>
                              <m:e/>
                              <m:e/>
                            </m:mr>
                          </m:m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Teoría de elecciones discr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914400" y="1143000"/>
            <a:ext cx="3733920" cy="20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ómo modelamos U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U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=V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s-ES_tradnl" sz="40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4724280" y="1828800"/>
            <a:ext cx="3505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q: individ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i: altern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1066680" y="299736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Por 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11"/>
              <p:cNvSpPr txBox="1"/>
              <p:nvPr/>
            </p:nvSpPr>
            <p:spPr>
              <a:xfrm>
                <a:off x="3657600" y="2997360"/>
                <a:ext cx="192420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3" name="Text Box 12"/>
          <p:cNvSpPr/>
          <p:nvPr/>
        </p:nvSpPr>
        <p:spPr>
          <a:xfrm>
            <a:off x="1219320" y="3645000"/>
            <a:ext cx="7391160" cy="27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¿cuáles serán los X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P(i/A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 = Pr(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&gt;=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, para todo j en A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 Pr(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- 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&lt;= 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- 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depende de la distribución de 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Teoría de elecciones discr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914400" y="1143000"/>
            <a:ext cx="3124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~ N(0,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 --&gt;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609480" y="40384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e puede demostrar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8"/>
              <p:cNvSpPr txBox="1"/>
              <p:nvPr/>
            </p:nvSpPr>
            <p:spPr>
              <a:xfrm>
                <a:off x="4038480" y="1295280"/>
                <a:ext cx="457200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i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q</m:t>
                            </m:r>
                          </m:sub>
                        </m:sSub>
                      </m:sup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q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q</m:t>
                                </m:r>
                              </m:sub>
                            </m:sSub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q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dε</m:t>
                                </m:r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8" name="Text Box 9"/>
          <p:cNvSpPr/>
          <p:nvPr/>
        </p:nvSpPr>
        <p:spPr>
          <a:xfrm>
            <a:off x="990720" y="2286000"/>
            <a:ext cx="7848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~ Gumbel(Weibull, Valor Extremo)  --&gt;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10"/>
              <p:cNvSpPr txBox="1"/>
              <p:nvPr/>
            </p:nvSpPr>
            <p:spPr>
              <a:xfrm>
                <a:off x="1828800" y="3124080"/>
                <a:ext cx="5835600" cy="9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μ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acc>
                          <m:accPr>
                            <m:chr m:val="⃛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)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⃛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sup>
                        </m:sSup>
                      </m:sup>
                    </m:sSup>
                    <m:r>
                      <m:t xml:space="preserve"> </m:t>
                    </m:r>
                    <m:r>
                      <m:t xml:space="preserve">μ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11"/>
              <p:cNvSpPr txBox="1"/>
              <p:nvPr/>
            </p:nvSpPr>
            <p:spPr>
              <a:xfrm>
                <a:off x="1905120" y="4724280"/>
                <a:ext cx="243828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i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μ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q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μ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12"/>
              <p:cNvSpPr txBox="1"/>
              <p:nvPr/>
            </p:nvSpPr>
            <p:spPr>
              <a:xfrm>
                <a:off x="4343400" y="4800600"/>
                <a:ext cx="18288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μ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q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2" name="Text Box 13"/>
          <p:cNvSpPr/>
          <p:nvPr/>
        </p:nvSpPr>
        <p:spPr>
          <a:xfrm>
            <a:off x="1371600" y="6095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modelo Logit Multinom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3886200" y="1447920"/>
            <a:ext cx="4800600" cy="18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pende de los atributos de i y del re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ólo importan las diferencias entre alternativas.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3200400" y="487692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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2514600" y="365760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actor de escala que no se puede estimar (parámetro no identific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6"/>
              <p:cNvSpPr txBox="1"/>
              <p:nvPr/>
            </p:nvSpPr>
            <p:spPr>
              <a:xfrm>
                <a:off x="1143000" y="3657600"/>
                <a:ext cx="121932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7"/>
              <p:cNvSpPr txBox="1"/>
              <p:nvPr/>
            </p:nvSpPr>
            <p:spPr>
              <a:xfrm>
                <a:off x="914400" y="1066680"/>
                <a:ext cx="243828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i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μ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q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μ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Object 8"/>
              <p:cNvSpPr txBox="1"/>
              <p:nvPr/>
            </p:nvSpPr>
            <p:spPr>
              <a:xfrm>
                <a:off x="1752480" y="2286000"/>
                <a:ext cx="18288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μ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q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0" name="Text Box 9"/>
          <p:cNvSpPr/>
          <p:nvPr/>
        </p:nvSpPr>
        <p:spPr>
          <a:xfrm>
            <a:off x="990720" y="579132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¿cómo estim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10"/>
              <p:cNvSpPr txBox="1"/>
              <p:nvPr/>
            </p:nvSpPr>
            <p:spPr>
              <a:xfrm>
                <a:off x="1066680" y="4876920"/>
                <a:ext cx="192420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2" name="AutoShape 11"/>
          <p:cNvSpPr/>
          <p:nvPr/>
        </p:nvSpPr>
        <p:spPr>
          <a:xfrm rot="16090200">
            <a:off x="3924360" y="5218920"/>
            <a:ext cx="75960" cy="304920"/>
          </a:xfrm>
          <a:custGeom>
            <a:avLst/>
            <a:gdLst>
              <a:gd name="textAreaLeft" fmla="*/ 48600 w 75960"/>
              <a:gd name="textAreaRight" fmla="*/ 76320 w 75960"/>
              <a:gd name="textAreaTop" fmla="*/ 7920 h 304920"/>
              <a:gd name="textAreaBottom" fmla="*/ 29700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3733920" y="533412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3"/>
          <p:cNvSpPr/>
          <p:nvPr/>
        </p:nvSpPr>
        <p:spPr>
          <a:xfrm>
            <a:off x="5029200" y="4876920"/>
            <a:ext cx="251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152280" y="15228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3333cc"/>
                </a:solidFill>
                <a:latin typeface="Comic Sans MS"/>
              </a:rPr>
              <a:t>CI43A Análisis de Sistemas de Transpor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1:13:12Z</dcterms:created>
  <dc:creator>Marcela Munizaga</dc:creator>
  <dc:description/>
  <dc:language>en-US</dc:language>
  <cp:lastModifiedBy> Marcela Munizaga</cp:lastModifiedBy>
  <dcterms:modified xsi:type="dcterms:W3CDTF">2009-09-11T15:12:03Z</dcterms:modified>
  <cp:revision>74</cp:revision>
  <dc:subject/>
  <dc:title>Sin título de diapositiva</dc:title>
</cp:coreProperties>
</file>