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F378-BDE6-4116-BF45-4268A010408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8A8-A04A-4E8F-BEA4-7516541DF90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81-63F4-441F-A051-D7F768C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8E6-D403-4A0E-8F29-4C128EA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D5C-6012-4AB0-8111-0EAEAE46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5DD-5659-4091-B613-5020AB65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E636-0C37-42A7-88E6-7F5E7378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D172-3758-41B2-AA24-50D4165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3EAC-5058-48F1-888F-69D1225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F432-0F72-474F-B148-638DC582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83EE-304B-4E4C-9A8E-7F876EAE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F98A-C8DF-4788-AE17-E06A382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7E69-CAEF-42A2-BC21-719F176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AE3-9371-40C3-ABF3-B6564CF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0B5-2832-4E02-8223-F6DF232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C28-295D-4A20-9FBB-016BEE0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79D5-4380-4ECE-8D9F-030FC89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8FC3-B17C-4081-BE61-EA16C303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45A-A221-4F01-ADEC-786FB1AB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18FB-2545-409D-9E66-667FB36E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ABCF-FEE1-48BF-9B33-28004FD0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A211-38F6-4787-BA84-B51F33F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FCB3-AAE9-456D-8F4F-7EF290C4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CB9A-65E2-4D25-80D7-9063623F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5F9-5AC7-4312-91FB-3B0945A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8A06-187B-441A-BC83-B184D15F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8114-5698-418E-92BD-FE2C141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7A4E-2690-4133-899A-EBAB281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A82B-2D5C-4657-82C9-8FF1389A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4F97-EC68-4FD0-BC7D-AAFCFDF3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7127-F0EF-48C9-B322-C5ED77CA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6864-57E0-46B7-BA5E-BCD02E7C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04CB-4EB1-49B5-8F8D-9004D037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3D6C-EDCB-460C-B33D-DB4589AF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E98B-6513-4698-B690-EBADAFD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074-C7E7-4EC8-A0A0-CFF1DC28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D8C5-75C6-48D4-A2FD-17C6B4F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A602-DE22-4E99-AA4F-C1628DA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23D5-E015-4A38-B960-A45C99A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0EDD-0C4C-4E6B-974C-EDB44F2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FED2-804E-4A63-94A7-CA84E2A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526D-E821-43C6-AD09-73D4E6B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150C-AAE5-4B4A-B00E-DFEB0B8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F135-3F35-49E8-A697-760B4005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8669-686E-41AD-BB40-CFC011F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2CE1-D3E8-43B9-8DF3-9EB35E4A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258-5186-4588-9B22-5E58E31E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3001-1377-469B-A163-F96F5E61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C084-34BB-474F-815D-538D26E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2302-9C9A-4A01-9C84-10D75437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B10C-4A6F-43FC-836E-3D33C26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4681-8F25-4D70-9E71-B65079AE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94E2-4635-43C4-9BFE-DC5504A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CE69-7B7E-4B55-87BE-D3519B2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609FB-9941-4E91-BFAF-1EA90C4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7C7D-4021-4812-A2DE-6DF9749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89B3-3034-456F-8E9F-2559A6CE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768-80A5-4300-9D04-F8625FCF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FA69-91A2-4F5D-831A-222942E0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D9443-174C-4D29-8BFC-B4269787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D0B4-F190-4493-A018-1997F60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7D58E-B62F-4B64-9526-24E5581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48A4-F396-444E-AC8F-234AB23C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0555-376C-4462-830E-2CBD395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DA52C-7390-4245-9201-D89EAF64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7182-689D-43D9-B7BC-29C958F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DE3C-5595-42BD-92DD-9E3F899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33CD2-CF22-4534-8D27-E632B15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765-56BF-4609-96AD-2DEF8CA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9E1C2-477A-4F28-B97C-96C6D08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D5AB-61C3-41A8-89A7-96B5A3E8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7AF22-D627-4389-8393-05A01003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F227-552A-4E3B-81E0-35C670C5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31FE-68A6-4AC2-B7F1-73D26880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6F154-265D-45BA-9D06-CB8EE32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D3A5-6D36-44BF-A765-85FEC6CC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0D3DF-FD8D-4494-BB67-96C90B3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CA2E-C2D8-4048-855C-D2609E05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98B84-CB2E-4B97-8456-F273E53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2B6-7DA7-4C4E-BAC1-160887A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1186A-DDB4-4F6B-8260-C71B44A2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02F20-F52B-4EBA-A8AF-761D64F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20269-B661-4425-8B4F-44A577E2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CEFA-7B07-4410-BF52-69136439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07381-FC05-43F8-9D2E-DE58AE3B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94E-C3FF-4AB2-B66E-E23E871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889-20A6-4189-8752-32A363A795F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9568-541D-43C4-91DB-7793DCDFC7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F558-A17C-4F9A-99AC-DBDD5B91645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45A0-B95A-4B6D-BEDD-51848E1FD65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ED8-D05E-4F3A-8933-EFEC43B41E0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54A-C886-468C-8FED-34A123A5A95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4A9-BEF8-401B-A1E6-43F3035C96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allerci4301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-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285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la modelación, en términos tanto matemáticos como interpretativos d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3040"/>
            <a:ext cx="7499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4.- Explique cómo afecta en la modelación el propósito del vi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5.- Defina una zona que incluya la manzana de la Facultad de Ciencias Físicas y Matemáticas de la Universidad de Chile.  Sea claro en describir el perímetr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6.- Aplique el modelo a dicha zona. Para las variables explicativas (x) realice estimaciones basadas en su conocimiento de la zon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7.- Analice los resultados obtenid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Otros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Estudio-2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</a:t>
            </a:r>
            <a:r>
              <a:rPr b="0" lang="es-CL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allerci4301@gmail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30T19:10:18Z</dcterms:modified>
  <cp:revision>49</cp:revision>
  <dc:subject/>
  <dc:title>Taller I CI43A</dc:title>
</cp:coreProperties>
</file>