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BC0C-5D9E-411B-BE3F-02EA71A11CC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5FB-DE9A-4D06-84E5-807A0C7DBDF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0EE-CF86-4821-83AB-F170F0AD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7AC-259E-4F61-8D3E-7FCBC86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AD5-AC0E-4A59-8275-7E381467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B6B-413F-43AE-8BF3-B9280398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BBBB-2588-4B6E-A0DD-08CB9196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75C-449C-41A1-959B-B963C924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961-FC52-47F2-80B9-B4F6F6F0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F3C2-FD5C-463F-BF28-A16D917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CF66-7D12-490B-9DCB-AED8D5A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C566-5B14-481C-8B41-4EAE8D0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00D-D590-46A4-8776-B2DA6A3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F07-98E4-4D87-AF89-BC2B54A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D9C6-AB34-4920-BF06-074B283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E0A1-DB8D-4275-88BD-F66434D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51C-97F9-4357-9619-5BBF4AA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CCF-996F-440F-BF23-E6BCD78B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8CE8-20D4-4798-B1FB-B570EF11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6AAA-1451-41E1-B9A8-0530E60E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B93D-4633-4354-93F0-A21CCB1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7DD9-7F2D-4507-910C-F2BBDE7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30E6-B351-4CC1-85BD-F69EF97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A7D9-3B69-4DBE-BA34-4AC19DB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79E-F5EF-4CFF-BDF6-409AD55C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CEEE-8CA1-48B7-9F44-E85AE9B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5CE0-930B-48F3-A98C-964B532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8CA8-0A6F-4F04-88FD-5AEBBD9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3AAE-4D2C-40D0-A4C3-8883E40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BC95-2BE1-4F20-8632-05E94D53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A8975-3F5E-404F-8771-2559267F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0783-95B5-41D7-BD5B-94FA13B4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3619-8AC5-4261-B1D8-AA15C3C5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62F6-D0E5-4A61-A6B8-5636D75C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A371-F7DC-4C50-BED0-FB6EACA4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D4D-E543-4C20-9514-DB84A2DF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5B0E-BEAE-4972-A980-CAA5362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A057-6274-482B-8418-1AB4B88F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FD80-7E50-485F-B892-65E5522B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3879-4BBE-4003-8086-A2FAFC8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F8B18-AAE2-4496-9CBA-478A536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D7CD-A5DE-4109-96DD-E997D2F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4D19-7C29-478B-95E2-34640FB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9AB0-2588-42F4-84EA-7826010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15F7-13F7-410C-8371-7F482EE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931B-1611-4DDE-B4B8-A49EF442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E8E-45C0-442F-8297-82DC395A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CCEC-BF67-47B2-A059-D6C93BFA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CE2F-A150-4B48-ABE6-C196F56C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14EB-2752-4282-84C4-46CA9FA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59DE-4044-4E8B-8C74-262C3918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3189-07D9-4CD6-BEA4-57D9E34B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156F-A9E5-4F51-B47D-AF4FF3F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FC8FC-23F5-43A4-9F08-ACE37D3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0A21-E885-4BF5-B121-B729F14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C554-6AFF-4DE3-8398-36C42B5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124B-CCA0-4FE4-8127-802FAE61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67B-DD5B-4F42-8A26-DB9F49C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20E2-E726-4C9D-B576-C417EEFE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8B56-3DF9-4E5F-A2D9-2F276EAA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7CA1-7716-40A1-89D0-3E2C0B4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C4C8-F49F-44D4-8D3D-8330D0C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FCA77-5812-49C8-ABDE-DF64F12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4F51-84A0-4EAD-9803-96AAFA1C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A8AE-AD16-44C4-A133-D255EAC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3424-2CB6-432F-9191-5A27B92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ED0E-1D03-4A82-97B3-2218810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BBAF-52B4-4556-8507-7C68C6E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8A9-7E6C-4BB7-9710-4E0C703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564F-A7E3-4AF1-9A2E-7E62E0AB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0890C-1295-401D-BBC8-426163AB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E741-6EC2-4184-A81D-183A2F12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DED3-23F7-497C-A52C-6519F9D9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87203-B152-4AFA-98DA-E9C56F2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38AC-53AE-4BE5-93B1-FDB47885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C640-4B35-43E3-B096-9F347485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582AB-1040-46D6-BF2F-78A72ADC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444C9-9CA5-41CE-BE2C-AD60A4D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B5D3-CB43-44E3-B8EE-9B7C701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D3B-0146-4B32-9C63-9BEBD7B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80C5A-31ED-4F84-90F7-7B8440DE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E292C-AA67-46B2-A72D-268E093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958B4-C7F2-46DA-A813-CF1A0858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5D86-F41B-4001-A7FD-49F4856A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4133-8E0F-4C4B-BE78-C96B7465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BD6-6AFB-4BDC-A390-70EC71D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D45B-4E9D-4559-BA9F-B57972D2507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6D8-C780-41D2-A1AB-C69C3F84940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F29-711E-4054-8E76-4146ADDC88D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AD3-2844-4F7D-84F5-8559E1CA2DC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B22D-AE1E-4985-A2C3-356D68084FA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D5F4-6246-4453-BA65-061D0F23E8F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B3A8-12F6-4EFD-A348-F819AA19AFC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allerci4301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- CI4301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285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la modelación, en términos tanto matemáticos como interpretativos d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643040"/>
            <a:ext cx="74991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4.- Explique cómo afecta en la modelación el propósito del vi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5.- Defina una zona que incluya la manzana de la Facultad de Ciencias Físicas y Matemáticas de la Universidad de Chile.  Sea claro en describir el perímetr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6.- Aplique el modelo a dicha zona. Para las variables explicativas (x) realice estimaciones basadas en su conocimiento de la zon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7.- Analice los resultados obtenid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Otros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Estudio-2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_apellido3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</a:t>
            </a:r>
            <a:r>
              <a:rPr b="0" lang="es-CL" sz="2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allerci4301@gmail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08-30T19:10:18Z</dcterms:modified>
  <cp:revision>49</cp:revision>
  <dc:subject/>
  <dc:title>Taller I CI43A</dc:title>
</cp:coreProperties>
</file>