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DBE1-6DAD-4C32-BC3D-7FF6B35A1EE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0CC0-4C2F-4921-8D2D-1A8F2F734C8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6D2-25C5-43E4-9642-1633C3D2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583-EA29-4243-B9D9-B4B7B960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55A-D5EA-46D5-8EB5-EB439CC7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4F6-58B4-4A43-B2F9-EBCE6FC2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A631-3675-4696-AE09-0B6B34DF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F532-EDDD-4724-BDED-741A2ADE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B27D-D0FE-4AB0-8466-9BACC43C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D4E6-5E54-46B5-876F-DF228C1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B385-C11E-4972-ADD5-610CBBD9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FDD3-42EF-4C8B-B047-D2C7BE02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7A7B-4872-4F30-BF30-A025FD03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A29-ABC8-44AC-9604-75F109D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8214-A187-44EA-92F0-2729ED1D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DCF5-7679-4C7C-B1B1-88336C6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C4F0-8C24-4BFB-8401-B9C69BBC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DA59-F99F-4BE5-B3C2-8E837282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2139-08FA-4F2C-84E6-964BE48A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C755-F16C-4580-A319-FAAE8AB2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B75C-8362-4862-817C-FCA0BA65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B829-B82E-45BA-ACF7-049FA328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686D-1D5A-4B97-88CE-05F7757F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F3DBB-97AA-4631-8FC5-7C2605C7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097-51CD-44E8-BC2D-CD8893D6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B1E40-FAB7-46F0-A9D5-12265899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0FD2-8656-4DAC-860F-16B7DCD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973B-AC3E-45D0-8E58-C0E72DBD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422C-3BE8-410F-A5EC-89B8DBD2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1B27-D2E4-41A1-87E9-19D8811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C49E-5A86-43EA-A928-DE8FE66E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1C8F-109C-475A-8D36-044E82DB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B6EA9-490D-4932-AA8A-3DE933E1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D61B-3876-4728-A494-631AF52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34BF4-B469-4691-818C-B5306E15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2D7-B86C-4362-B9A2-7997FBB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7F4C8-9B4A-483A-A4A8-92CFA7FD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3514-C527-4056-814A-5A9F52E7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12654-2C21-4201-ABFE-70335E5C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BA64-E2ED-4387-86FA-BE6368F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6A54-F093-4E91-B89E-6324AD2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D8FE-84EE-4E83-B74A-535C0C72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5743-5259-432C-B478-BF2EC974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31C1-FF27-4757-A6A5-70F999BC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9B375-C63B-4E3F-B0D3-45D4ECEE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BB8A2-E367-484E-A6EC-EF56DF52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3A1-80F3-4BB8-AB58-A2CAA0B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9B32F-D94B-43A6-ABEF-E32E2093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2CC6F-1D94-4CBA-A86A-305E727F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E448-DFA6-4F41-B587-DC57FCB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A0699-472C-486F-BC7F-EA9414AD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0603-196B-4EA0-B5C5-676548EC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28500-B9F2-48CF-8E9B-22941FB2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50D1-1EC9-4C6C-9EB7-7842F9B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DFFC0-336A-46D9-9D0B-779BAD9E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9E77-E5E2-47A5-937A-E681C1EB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849A6-F010-48CB-A287-975B1424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331-7E6C-474F-8D4F-9D4BA012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17FA9-7C16-41F8-BC1F-30CDC3AD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45E87-6ACC-4009-998A-D546F7AA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1963E-6EAA-42FA-B11F-B3D9E1B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8D820-F8AF-4207-8A69-08C0A292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531C4-922A-409E-9558-C98772F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A18B6-1B27-4463-9A28-7DD53128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8B304-9D9E-42A8-B40F-AF6289C7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468E-8617-4EFB-8A46-EA5AC547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C77B7-2EDB-4B65-9670-C2CD7939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250C2-9846-4D24-A120-0B9F85AA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0E0-A617-40A3-8031-1BB345E9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F011-C926-471F-8754-DF8438AF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0998-EE7F-4582-823E-4F5567DB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2D6D3-B758-44EE-80C9-6750E5C7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E3D03-038A-4E67-A901-66349A9B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F90A8-8ACA-4399-ADCF-F411D678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9E57B-8907-4D5D-8289-A8623ADB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A79C-F49C-42AB-ACD9-2138FBB8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361C5-6A3B-4310-8CC7-862E2A53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977E-9751-4884-ACCE-62FBF436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C394C-0DB4-41EF-8D75-3854B0B3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128-3739-4E69-B83F-2E048970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60C49-7700-4470-BD24-7EBE2C5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38461-8591-45A8-95A9-C7B200D8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4688-AF78-4D6C-AA09-1C3CB598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0FA27-03A5-4186-B2C4-17E3B5A1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DA0DB-5EEF-44BE-BD5A-63C39804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921-4E84-4085-94A3-13DABDD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4679-CC7A-49F7-85E0-8234CE43CB9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EFEE-2942-4435-B9CB-DF5C609C22B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4017-486A-45A5-A648-77FB63CE7B0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3740-AB6C-4C18-AC81-4A6E99EFA5E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61A0-11E6-4B8B-9B71-BC43E9D6840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5C54-773E-44F6-9C57-C27C8A26925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0C68-4556-4B11-8203-69C37A88306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tallerci4301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- CI4301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285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la modelación, en términos tanto matemáticos como interpretativos d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643040"/>
            <a:ext cx="74991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4.- Explique cómo afecta en la modelación el propósito del vi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5.- Defina una zona que incluya la manzana de la Facultad de Ciencias Físicas y Matemáticas de la Universidad de Chile.  Sea claro en describir el perímetr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6.- Aplique el modelo a dicha zona. Para las variables explicativas (x) realice estimaciones basadas en su conocimiento de la zon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7.- Analice los resultados obtenid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80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ill Sans MT"/>
              </a:rPr>
              <a:t>Propósito: Otros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ill Sans MT"/>
              </a:rPr>
              <a:t>Propósito: Estudio-2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2848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_apellido3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</a:t>
            </a:r>
            <a:r>
              <a:rPr b="0" lang="es-CL" sz="2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tallerci4301@gmail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08-30T19:10:18Z</dcterms:modified>
  <cp:revision>49</cp:revision>
  <dc:subject/>
  <dc:title>Taller I CI43A</dc:title>
</cp:coreProperties>
</file>