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F87-C053-4B0A-BC01-08E5B42EEE8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2CF-FE6A-41AE-9E1B-4FE84750050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5C0-B80E-4B55-AA67-534D16B2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812-B995-4EF5-AB26-2A7FEA2D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AE1-8DEC-4C5B-B4AB-8C99015F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2F6-39AA-4873-B48D-B1C08447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9B27-28EF-4DE6-810D-08B6843C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8627-FDE2-4D26-9494-33234C57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41FF-A817-4B7E-9605-CDA06E6C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0DE1-E209-42FC-90CE-C8CB1EC2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655-0A5F-49AC-AD73-5BCE9FC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F58-988D-485D-8221-4E28B1D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CBD-8D68-4799-95C7-7CE8D25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5B2-445C-4531-A43B-71B7C41D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623-9F7A-4410-8120-951F785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960D-0CAC-4CD7-B275-FFFC5132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9F4E-B630-4FD3-971E-49DB85EE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81A2-F8E3-420F-9E28-8DA06706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873-4854-4D84-9C9F-FD2CD756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CF14-3065-4ADA-8936-1319045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CCA4-4D48-4914-8A1A-C735EF7D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5ABD-F9E0-4765-966B-FAE6B3F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4733-6826-49E8-8F3B-1D325482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C633-F039-48FF-8D39-E1309FD9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CAD-84FD-4894-8466-A6D7DC13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6159-0804-4A74-97BC-4D057D12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3B58-75BE-4EB0-ACEF-8CA7E65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2DFD-E2CF-4820-BD87-7C057032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9FDA-D332-42CE-87F3-196CDF0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E564-A2A7-4D08-A800-9701E73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BDE3-6128-441C-80D1-46B98357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2CC6-6224-47E4-9560-5F62AD93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90AD-99EA-44B9-9EF7-1CA0D20C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5BA0-72F4-43D2-A5AD-8AAD7E9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49FD-27C8-4266-BF03-86CD40E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DB7-57E7-4BFC-A22D-6AB4D958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E5AD-2CD9-42E2-B991-353644A8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5E5CE-2CF5-4213-9531-A2C50205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91966-E40A-41D5-B89B-9890391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74FC-E714-40E8-9F46-4CDC322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C42B1-58FB-4840-8FB1-53DCC2C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BADD-1DA8-4A02-8D4C-4F8317E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F2D5-D39B-4ED8-BEFF-97AB421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DBDE-50B3-4F59-A30E-31E7CCCB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855C-F064-42B3-B296-85F6FC09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4E83-F088-46CB-A286-B729E36C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48A-E1DD-4D2D-957E-53BD0604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A5BE-F289-483B-84B7-B90A0CE6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292D-FD8E-4B8E-A834-0E572F4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E054-361E-497D-BE9D-AA7FF4C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F4CD2-51E8-40A7-994E-E8738EA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5AAE0-85BE-4878-A9D8-4AA0BC0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45103-CA94-4044-A87C-9109FED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AE017-9D14-486F-A100-391AA51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58BF-C171-4872-8501-B323A63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0AD38-ACE4-4CD0-80B6-1ED28A79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2B8E-21C8-4BF6-A99D-8B3E8A9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D62-C602-43F9-8C34-9607752B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5F28A-8CEC-4647-8AA6-A39A98B4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D8EC-EC8E-4B35-AA7B-1BC9E0DF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0344-FF1D-43BB-BA11-16D0E043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794D-0600-4BBC-8EB2-C1ABD278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83F50-2803-44BA-A06F-5ADF953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BA64-84BF-444A-AEEF-821673A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2F57-AF82-45D0-AB33-41B11BE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6AA1-A71D-4AFC-B39F-14FEFDD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5CD2-EA74-4AC9-8B90-F991851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934A-1758-4621-980D-B420FBE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9E7-9A30-447B-B9EF-F386836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DAC1-A192-4826-BB4A-B80F1D24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81A4-A956-4B0C-9518-FB18781B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E0E0-7A61-4FB8-9A5B-A7E2AC5E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4FE3B-A73E-4187-84E8-822FFDE0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CB72-C574-45C7-BD0E-9C0A2626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37C9B-7C9F-47F2-965E-97B2C4BB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5FB31-7DF8-407B-98CA-BFA0857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E88B-B29A-46C4-BD40-E3DB959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680E-32AA-4E4D-A246-D281BF7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0D84-DC8A-425C-8A10-A8F2A45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00B-FB0A-4F90-8E16-2AD6D3D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D26F-E605-4030-8215-EE7C0D3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72FC-3E7E-473D-B66E-6D36B2E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95D7B-FFB3-488C-AEF1-AE057E5C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BE68-95FE-432C-8B5B-52F4EAE7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21AA-39D4-4A8E-B5FB-BC1F7E94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94F-07E7-4104-94D7-352F904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135E-1A80-4C6E-BC16-1C98C674A22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B128-0064-4D84-BBF1-1CC862BFDA0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8CB0-4A0B-4686-95CF-CC9510650C3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A22-F1B3-471A-825A-6E85DE11449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E9E1-5477-4765-A2AB-9AD17596E41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0A3-0AAA-4264-9C53-1784E642758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04CE-5589-4196-8F8A-185EB32EB78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allerci4301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- CI4301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285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la modelación, en términos tanto matemáticos como interpretativos d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643040"/>
            <a:ext cx="74991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4.- Explique cómo afecta en la modelación el propósito del vi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5.- Defina una zona que incluya la manzana de la Facultad de Ciencias Físicas y Matemáticas de la Universidad de Chile.  Sea claro en describir el perímetr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6.- Aplique el modelo a dicha zona. Para las variables explicativas (x) realice estimaciones basadas en su conocimiento de la zon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7.- Analice los resultados obtenid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Otros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Estudio-2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_apellido3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</a:t>
            </a:r>
            <a:r>
              <a:rPr b="0" lang="es-CL" sz="2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allerci4301@gmail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08-30T19:10:18Z</dcterms:modified>
  <cp:revision>49</cp:revision>
  <dc:subject/>
  <dc:title>Taller I CI43A</dc:title>
</cp:coreProperties>
</file>